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7.jpeg" ContentType="image/jpeg"/>
  <Override PartName="/ppt/media/image12.jpeg" ContentType="image/jpeg"/>
  <Override PartName="/ppt/media/Bing%20Crosby%20-%20%20I'm%20Dreaming%20Of%20A%20White%20Christmas.wav" ContentType="audio/x-wav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453-1326-4E76-800A-44B283962B51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B509-6D44-40CE-A0D4-B18235378658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67AC-996B-4BC9-AE59-40EF4A3EA752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CE42-4B46-4E1D-93A8-118163312B10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AA9-1E29-4B1E-8C7A-E453BCEBA5C2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C45-CFB8-4604-8B55-6F787C5BFEB9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2C5E-1C70-4369-9BD3-FA1D014272AD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53C5-FF86-4862-8DD1-A1C74F37CDC2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75C-4F21-4294-9A79-74F4BB7BD6B1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8A95-AA69-4A6E-9D60-51E526FFD96D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36EA-F9B9-460E-A702-82EC579741D7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913F-088E-4C49-9904-28F451A76C40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F473-8F96-42A5-A095-213AC94E4F8F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EA4D-64FD-4FD1-8E20-4DD0F6E243CA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DFBB-7DCF-4954-8D8A-0EAECD3E7ADF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FE67-E5C5-47E9-B322-2BE14B941F1F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6B86-475E-4C17-A96A-DD9196D74D94}" type="slidenum">
              <a:rPr b="0" i="1" lang="nl-NL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541-E23D-4B83-88AA-323FAEAD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1E4-99B6-4D82-AEAE-CD80D89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21C-6B7B-43C8-AA51-269EABE0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CAD-4193-455C-824E-87EDDA02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DB5-9F85-4E09-9105-92921298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54C-BD84-4F61-85BA-48E154E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81C1-5314-4D7D-A961-319CE4AD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DE5-C90D-45D3-8C25-850A399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4C0-CC97-404F-96F8-79EAFEC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209-CAFF-4696-AEE0-F82B720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AF1-DF24-405D-A29A-9FC2034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2F0-2DFB-448D-A898-416AC6E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BAD7-8C57-471A-B4CB-342E159EF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Bing%20Crosby%20-%20%20I&apos;m%20Dreaming%20Of%20A%20White%20Christma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0"/>
          <p:cNvSpPr/>
          <p:nvPr/>
        </p:nvSpPr>
        <p:spPr>
          <a:xfrm>
            <a:off x="3886200" y="1219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ff"/>
                </a:solidFill>
                <a:latin typeface="Monotype Corsiva"/>
              </a:rPr>
              <a:t>                                   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Rectangle 21"/>
          <p:cNvSpPr/>
          <p:nvPr/>
        </p:nvSpPr>
        <p:spPr>
          <a:xfrm flipH="1">
            <a:off x="4190400" y="1817640"/>
            <a:ext cx="4724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7 Zegt u vaarwel 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8 Lacht u toe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0" name="Picture 23" descr="Di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4"/>
          <p:cNvSpPr/>
          <p:nvPr/>
        </p:nvSpPr>
        <p:spPr>
          <a:xfrm flipH="1">
            <a:off x="-720" y="5197320"/>
            <a:ext cx="4724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09 Zegt u vaarwel 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ffffff"/>
                </a:solidFill>
                <a:latin typeface="Monotype Corsiva"/>
              </a:rPr>
              <a:t>2010 Lacht u toe</a:t>
            </a:r>
            <a:endParaRPr b="0" i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2" name="Picture 25" descr="kerstklokken3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752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  <p:sndAc>
      <p:stSnd>
        <p:snd r:embed="rId3" name="Bing%20Crosby%20-%20%20I'm%20Dreaming%20Of%20A%20White%20Christm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Di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419640" y="5084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Mag ik wensen dat dit alles jou volgend jaar wordt bespaard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xm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476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Moge het nieuwe jaar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066680" y="53352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ff"/>
                </a:solidFill>
                <a:latin typeface="Monotype Corsiva"/>
              </a:rPr>
              <a:t>Kracht geven als het moeilijk gaa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6" name="Picture 5" descr="Afbeelding2"/>
          <p:cNvPicPr/>
          <p:nvPr/>
        </p:nvPicPr>
        <p:blipFill>
          <a:blip r:embed="rId1"/>
          <a:stretch/>
        </p:blipFill>
        <p:spPr>
          <a:xfrm>
            <a:off x="-36360" y="-54000"/>
            <a:ext cx="9180360" cy="6912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5603760" y="555156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Kracht geven als het moeilijk gaa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6" descr="winte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7"/>
          <p:cNvSpPr/>
          <p:nvPr/>
        </p:nvSpPr>
        <p:spPr>
          <a:xfrm>
            <a:off x="7467480" y="0"/>
            <a:ext cx="167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Vrede scheppen waar wanhoop heerst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wintersweetheart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2590920" y="288756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Liefde brengen in     eenzame dagen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dailyjigsaw1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762120" y="8380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Ik wens je vreugdevolle en gezellige kerstdagen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foulon0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99880" y="5634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Monotype Corsiva"/>
              </a:rPr>
              <a:t>En een voorspoedig, gezond en gelukkig 2010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7" descr="elfje16"/>
          <p:cNvPicPr/>
          <p:nvPr/>
        </p:nvPicPr>
        <p:blipFill>
          <a:blip r:embed="rId2"/>
          <a:stretch/>
        </p:blipFill>
        <p:spPr>
          <a:xfrm>
            <a:off x="7993080" y="5334120"/>
            <a:ext cx="115092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kerstbomen8"/>
          <p:cNvPicPr/>
          <p:nvPr/>
        </p:nvPicPr>
        <p:blipFill>
          <a:blip r:embed="rId3"/>
          <a:stretch/>
        </p:blipFill>
        <p:spPr>
          <a:xfrm>
            <a:off x="244440" y="3860640"/>
            <a:ext cx="2095560" cy="2857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Di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395280" y="677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Wie had er in 2009 nooit eens een kwade bui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Di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749160" y="12384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n uurt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Di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6629400" y="4568760"/>
            <a:ext cx="2514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3300"/>
                </a:solidFill>
                <a:latin typeface="Monotype Corsiva"/>
              </a:rPr>
              <a:t>Wie blies er in 2009 nooit eens van de hoge toren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Dia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6858000" y="533412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n berg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Dia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468360" y="58118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Wie zat er in 2009 nooit eens een keertje krap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Di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924360" y="5667480"/>
            <a:ext cx="19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ffff00"/>
                </a:solidFill>
                <a:latin typeface="Times New Roman"/>
              </a:rPr>
              <a:t>éé</a:t>
            </a:r>
            <a:r>
              <a:rPr b="0" i="1" lang="nl-BE" sz="3600" spc="-1" strike="noStrike">
                <a:solidFill>
                  <a:srgbClr val="ffff00"/>
                </a:solidFill>
                <a:latin typeface="Monotype Corsiva"/>
              </a:rPr>
              <a:t>n keert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Resize%20of%20Skien_Sauerland_Verbaenen_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62120" y="5334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000000"/>
                </a:solidFill>
                <a:latin typeface="Monotype Corsiva"/>
              </a:rPr>
              <a:t>Wie verloor in 2007 nooit eens zijn evenwicht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7" name="Picture 6" descr="winter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 flipV="1" rot="10341000">
            <a:off x="714240" y="5305680"/>
            <a:ext cx="79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0000"/>
                </a:solidFill>
                <a:latin typeface="Monotype Corsiva"/>
              </a:rPr>
              <a:t>Wie verloor in 2009 nooit eens zijn evenwicht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Afbeeldin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4067280" y="105264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3333ff"/>
                </a:solidFill>
                <a:latin typeface="Times New Roman"/>
              </a:rPr>
              <a:t>éé</a:t>
            </a:r>
            <a:r>
              <a:rPr b="1" i="1" lang="nl-BE" sz="3600" spc="-1" strike="noStrike">
                <a:solidFill>
                  <a:srgbClr val="3333ff"/>
                </a:solidFill>
                <a:latin typeface="Monotype Corsiva"/>
              </a:rPr>
              <a:t>n TAKJE maar?</a:t>
            </a:r>
            <a:endParaRPr b="0" i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06:17:38Z</dcterms:created>
  <dc:creator>Lien van de Kamp</dc:creator>
  <dc:description/>
  <dc:language>en-US</dc:language>
  <cp:lastModifiedBy>Arent</cp:lastModifiedBy>
  <dcterms:modified xsi:type="dcterms:W3CDTF">2009-12-11T14:26:48Z</dcterms:modified>
  <cp:revision>25</cp:revision>
  <dc:subject/>
  <dc:title>prettig 2005</dc:title>
</cp:coreProperties>
</file>