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7.jpeg" ContentType="image/jpeg"/>
  <Override PartName="/ppt/media/image12.jpeg" ContentType="image/jpeg"/>
  <Override PartName="/ppt/media/Bing%20Crosby%20-%20%20I'm%20Dreaming%20Of%20A%20White%20Christmas.wav" ContentType="audio/x-wav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F7E2-0003-43A6-AE8D-161520BA94A8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4076-F816-42F5-BDE7-EA694D26EE75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0137-7298-4486-AC6D-D91B026F781D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C20D-85FB-48BF-8C48-33D517866C98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12CA-AE70-4295-9A7A-A38D56401C59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AC91-BD89-48CF-922E-26C41730F1AC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0F06-9214-4551-8B45-5D4C6C118DAC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9B66-6EF7-4273-8D91-A1D5983BC50F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7092-9FAA-4837-B407-49CAC773E70D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54FF-71AD-4C6B-AB18-76A9344471F7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CE7D-94E1-408B-97C3-621F0A9B6D29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0A5A-C8BD-4A20-AC03-4C13AD7E9615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56A8-724A-402B-B892-11AE043CE95C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A0BD-3F38-45AF-A4C1-23C7673B94AC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4AB7-6020-4E8F-95CA-51D342C75547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FA92-F698-4EE5-AB28-755A0276F0EE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7510-F5F7-4A0E-897B-266CDC5B41A9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F4E-DAAB-440E-995C-3E709247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D36-4D88-462F-90DC-8E9CFAE3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E36-E10A-4EF4-B906-1A3A9080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07B-619F-40CC-953D-83740A5C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CA1-7BA2-4296-8C7D-759B4324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33E-D008-40FB-A904-6D705299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C24-11C7-44BC-9727-BF26F586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D75-EA2F-47D3-96D7-A1A71BFE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6DD-C139-49C4-9B81-543FE539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489-4616-44D8-AF43-7FC05E3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8D1-E4FC-4EF9-ACA8-C9DE256A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5F5-9E55-4CC4-8889-A1E1CB5C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EB58-4197-4979-B45B-9FB1D5937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Bing%20Crosby%20-%20%20I&apos;m%20Dreaming%20Of%20A%20White%20Christma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"/>
          <p:cNvSpPr/>
          <p:nvPr/>
        </p:nvSpPr>
        <p:spPr>
          <a:xfrm>
            <a:off x="3886200" y="1219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Rectangle 21"/>
          <p:cNvSpPr/>
          <p:nvPr/>
        </p:nvSpPr>
        <p:spPr>
          <a:xfrm flipH="1">
            <a:off x="4190400" y="1817640"/>
            <a:ext cx="4724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ffffff"/>
                </a:solidFill>
                <a:latin typeface="Monotype Corsiva"/>
              </a:rPr>
              <a:t>2007 Zegt u vaarwel </a:t>
            </a:r>
            <a:endParaRPr b="0" i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ffffff"/>
                </a:solidFill>
                <a:latin typeface="Monotype Corsiva"/>
              </a:rPr>
              <a:t>2008 Lacht u toe</a:t>
            </a:r>
            <a:endParaRPr b="0" i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0" name="Picture 23" descr="Di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4"/>
          <p:cNvSpPr/>
          <p:nvPr/>
        </p:nvSpPr>
        <p:spPr>
          <a:xfrm flipH="1">
            <a:off x="-720" y="5197320"/>
            <a:ext cx="4724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ffffff"/>
                </a:solidFill>
                <a:latin typeface="Monotype Corsiva"/>
              </a:rPr>
              <a:t>2009 Zegt u vaarwel </a:t>
            </a:r>
            <a:endParaRPr b="0" i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ffffff"/>
                </a:solidFill>
                <a:latin typeface="Monotype Corsiva"/>
              </a:rPr>
              <a:t>2010 Lacht u toe</a:t>
            </a:r>
            <a:endParaRPr b="0" i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Picture 25" descr="kerstklokken3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752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  <p:sndAc>
      <p:stSnd>
        <p:snd r:embed="rId3" name="Bing%20Crosby%20-%20%20I'm%20Dreaming%20Of%20A%20White%20Christma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Di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419640" y="5084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Monotype Corsiva"/>
              </a:rPr>
              <a:t>Mag ik wensen dat dit alles jou volgend jaar wordt bespaard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xm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476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Monotype Corsiva"/>
              </a:rPr>
              <a:t>Moge het nieuwe jaar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66680" y="53352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ff"/>
                </a:solidFill>
                <a:latin typeface="Monotype Corsiva"/>
              </a:rPr>
              <a:t>Kracht geven als het moeilijk gaat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5" descr="Afbeelding2"/>
          <p:cNvPicPr/>
          <p:nvPr/>
        </p:nvPicPr>
        <p:blipFill>
          <a:blip r:embed="rId1"/>
          <a:stretch/>
        </p:blipFill>
        <p:spPr>
          <a:xfrm>
            <a:off x="-36360" y="-54000"/>
            <a:ext cx="9180360" cy="691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5603760" y="555156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0000"/>
                </a:solidFill>
                <a:latin typeface="Monotype Corsiva"/>
              </a:rPr>
              <a:t>Kracht geven als het moeilijk gaat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6" descr="winte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7"/>
          <p:cNvSpPr/>
          <p:nvPr/>
        </p:nvSpPr>
        <p:spPr>
          <a:xfrm>
            <a:off x="7467480" y="0"/>
            <a:ext cx="167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3333ff"/>
                </a:solidFill>
                <a:latin typeface="Monotype Corsiva"/>
              </a:rPr>
              <a:t>Vrede scheppen waar wanhoop heerst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wintersweetheart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2590920" y="288756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0000"/>
                </a:solidFill>
                <a:latin typeface="Monotype Corsiva"/>
              </a:rPr>
              <a:t>Liefde brengen in     eenzame dagen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ailyjigsaw1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762120" y="8380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3333ff"/>
                </a:solidFill>
                <a:latin typeface="Monotype Corsiva"/>
              </a:rPr>
              <a:t>Ik wens je vreugdevolle en gezellige kerstdagen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foulon0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99880" y="56340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Monotype Corsiva"/>
              </a:rPr>
              <a:t>En een voorspoedig, gezond en gelukkig 2010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7" descr="elfje16"/>
          <p:cNvPicPr/>
          <p:nvPr/>
        </p:nvPicPr>
        <p:blipFill>
          <a:blip r:embed="rId2"/>
          <a:stretch/>
        </p:blipFill>
        <p:spPr>
          <a:xfrm>
            <a:off x="7993080" y="5334120"/>
            <a:ext cx="115092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kerstbomen8"/>
          <p:cNvPicPr/>
          <p:nvPr/>
        </p:nvPicPr>
        <p:blipFill>
          <a:blip r:embed="rId3"/>
          <a:stretch/>
        </p:blipFill>
        <p:spPr>
          <a:xfrm>
            <a:off x="244440" y="386064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Di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395280" y="677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000000"/>
                </a:solidFill>
                <a:latin typeface="Monotype Corsiva"/>
              </a:rPr>
              <a:t>Wie had er in 2009 nooit eens een kwade bui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Di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749160" y="12384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000000"/>
                </a:solidFill>
                <a:latin typeface="Times New Roman"/>
              </a:rPr>
              <a:t>éé</a:t>
            </a:r>
            <a:r>
              <a:rPr b="0" i="1" lang="nl-BE" sz="3600" spc="-1" strike="noStrike">
                <a:solidFill>
                  <a:srgbClr val="000000"/>
                </a:solidFill>
                <a:latin typeface="Monotype Corsiva"/>
              </a:rPr>
              <a:t>n uurtje maar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Di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6629400" y="456876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cc3300"/>
                </a:solidFill>
                <a:latin typeface="Monotype Corsiva"/>
              </a:rPr>
              <a:t>Wie blies er in 2009 nooit eens van de hoge toren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Di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6858000" y="533412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00"/>
                </a:solidFill>
                <a:latin typeface="Times New Roman"/>
              </a:rPr>
              <a:t>éé</a:t>
            </a:r>
            <a:r>
              <a:rPr b="0" i="1" lang="nl-BE" sz="3600" spc="-1" strike="noStrike">
                <a:solidFill>
                  <a:srgbClr val="ffff00"/>
                </a:solidFill>
                <a:latin typeface="Monotype Corsiva"/>
              </a:rPr>
              <a:t>n bergje maar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ia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68360" y="58118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00"/>
                </a:solidFill>
                <a:latin typeface="Monotype Corsiva"/>
              </a:rPr>
              <a:t>Wie zat er in 2009 nooit eens een keertje krap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Di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924360" y="566748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00"/>
                </a:solidFill>
                <a:latin typeface="Times New Roman"/>
              </a:rPr>
              <a:t>éé</a:t>
            </a:r>
            <a:r>
              <a:rPr b="0" i="1" lang="nl-BE" sz="3600" spc="-1" strike="noStrike">
                <a:solidFill>
                  <a:srgbClr val="ffff00"/>
                </a:solidFill>
                <a:latin typeface="Monotype Corsiva"/>
              </a:rPr>
              <a:t>n keertje maar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Resize%20of%20Skien_Sauerland_Verbaenen_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62120" y="5334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000000"/>
                </a:solidFill>
                <a:latin typeface="Monotype Corsiva"/>
              </a:rPr>
              <a:t>Wie verloor in 2007 nooit eens zijn evenwicht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7" name="Picture 6" descr="winter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 flipV="1" rot="10341000">
            <a:off x="714240" y="5305680"/>
            <a:ext cx="79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0000"/>
                </a:solidFill>
                <a:latin typeface="Monotype Corsiva"/>
              </a:rPr>
              <a:t>Wie verloor in 2009 nooit eens zijn evenwicht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Afbeeldin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4067280" y="105264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3333ff"/>
                </a:solidFill>
                <a:latin typeface="Times New Roman"/>
              </a:rPr>
              <a:t>éé</a:t>
            </a:r>
            <a:r>
              <a:rPr b="1" i="1" lang="nl-BE" sz="3600" spc="-1" strike="noStrike">
                <a:solidFill>
                  <a:srgbClr val="3333ff"/>
                </a:solidFill>
                <a:latin typeface="Monotype Corsiva"/>
              </a:rPr>
              <a:t>n TAKJE maar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06:17:38Z</dcterms:created>
  <dc:creator>Lien van de Kamp</dc:creator>
  <dc:description/>
  <dc:language>en-US</dc:language>
  <cp:lastModifiedBy>Arent</cp:lastModifiedBy>
  <dcterms:modified xsi:type="dcterms:W3CDTF">2009-12-11T14:26:48Z</dcterms:modified>
  <cp:revision>25</cp:revision>
  <dc:subject/>
  <dc:title>prettig 2005</dc:title>
</cp:coreProperties>
</file>