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B96-4F48-4BE8-BDC1-BB4320C3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89D2-3A39-4D1B-A18F-7FE31679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5F82-D98F-4435-ABB7-7B1165E4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E035-56DF-41D4-AA89-4045DD7B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8A87-D8C2-4380-B2F4-3E220E53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01CB-72D9-4CBC-8ED6-1770CE07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6E9C-5204-441B-848B-9EBC8CDE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FFA5-E993-41D9-88AA-0AC85DC2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ABD1-5709-4A59-865D-574A3D75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D3A4-2F05-436E-B095-00F031B4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4E3F-14FF-4FF9-9F56-6DB4A512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A234-5926-4FA2-BA1C-34B8109C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47F3-D53C-4E06-BB29-A21649377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08320" y="0"/>
            <a:ext cx="4525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319480" y="0"/>
            <a:ext cx="4525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08320" y="189000"/>
            <a:ext cx="452592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7T10:14:32Z</dcterms:created>
  <dc:creator>Annemie Malfait</dc:creator>
  <dc:description/>
  <dc:language>en-US</dc:language>
  <cp:lastModifiedBy>Annemie Malfait</cp:lastModifiedBy>
  <dcterms:modified xsi:type="dcterms:W3CDTF">2011-01-18T20:15:03Z</dcterms:modified>
  <cp:revision>4</cp:revision>
  <dc:subject/>
  <dc:title>Dia 1</dc:title>
</cp:coreProperties>
</file>