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407-57FF-4C1D-AB2F-DACF316FAB36}" type="slidenum"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39FC-439B-4E9F-972D-93CABC7ADF85}" type="slidenum"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86F-F538-4B67-ADF2-AFB0CB90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BC7-6B2F-4753-8295-C27B2B8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266-A256-4F57-92B9-B7B266BE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246-677E-48B9-BD38-3A644121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A38-B7C8-4CD3-A1D2-368ACDE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7AC-4F8F-4CD9-8D0F-84B1135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C4A-9D9F-4BDD-ADBA-063E9AE7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76D-53CD-401C-8F3C-269B742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AC2-4420-44E6-A948-0C31690D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AE8-53D7-42FA-91B1-CEE58ED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9BA-F37E-46A4-80A8-FA124FE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041-39AA-458D-8A90-9646D76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CD89-A082-42CF-A664-0FB31CBF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nn462.wav" descr=""/>
          <p:cNvPicPr/>
          <p:nvPr/>
        </p:nvPicPr>
        <p:blipFill>
          <a:blip r:embed="rId1"/>
          <a:stretch/>
        </p:blipFill>
        <p:spPr>
          <a:xfrm>
            <a:off x="-3049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1066680" y="6095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彩雲  錄製</a:t>
            </a:r>
            <a:endParaRPr b="0" lang="en-US" sz="3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5"/>
          <p:cNvSpPr/>
          <p:nvPr/>
        </p:nvSpPr>
        <p:spPr>
          <a:xfrm>
            <a:off x="1613160" y="615636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Muziek:Tennessee Waltz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2" name="Picture 28" descr="Afbeelding1vogeltjestak"/>
          <p:cNvPicPr/>
          <p:nvPr/>
        </p:nvPicPr>
        <p:blipFill>
          <a:blip r:embed="rId3"/>
          <a:stretch/>
        </p:blipFill>
        <p:spPr>
          <a:xfrm>
            <a:off x="3276720" y="476280"/>
            <a:ext cx="2340000" cy="159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05-nov-colombe2"/>
          <p:cNvPicPr/>
          <p:nvPr/>
        </p:nvPicPr>
        <p:blipFill>
          <a:blip r:embed="rId4"/>
          <a:stretch/>
        </p:blipFill>
        <p:spPr>
          <a:xfrm>
            <a:off x="250920" y="1557360"/>
            <a:ext cx="15476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tome5"/>
          <p:cNvPicPr/>
          <p:nvPr/>
        </p:nvPicPr>
        <p:blipFill>
          <a:blip r:embed="rId5"/>
          <a:stretch/>
        </p:blipFill>
        <p:spPr>
          <a:xfrm>
            <a:off x="6012000" y="2060640"/>
            <a:ext cx="2016000" cy="84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Dove-02-june"/>
          <p:cNvPicPr/>
          <p:nvPr/>
        </p:nvPicPr>
        <p:blipFill>
          <a:blip r:embed="rId6"/>
          <a:stretch/>
        </p:blipFill>
        <p:spPr>
          <a:xfrm>
            <a:off x="1042920" y="3789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Dove-02-june"/>
          <p:cNvPicPr/>
          <p:nvPr/>
        </p:nvPicPr>
        <p:blipFill>
          <a:blip r:embed="rId7"/>
          <a:stretch/>
        </p:blipFill>
        <p:spPr>
          <a:xfrm>
            <a:off x="2556000" y="2924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3" descr="Dove-02-june"/>
          <p:cNvPicPr/>
          <p:nvPr/>
        </p:nvPicPr>
        <p:blipFill>
          <a:blip r:embed="rId8"/>
          <a:stretch/>
        </p:blipFill>
        <p:spPr>
          <a:xfrm>
            <a:off x="1835280" y="335772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nndovepeace"/>
          <p:cNvPicPr/>
          <p:nvPr/>
        </p:nvPicPr>
        <p:blipFill>
          <a:blip r:embed="rId9"/>
          <a:stretch/>
        </p:blipFill>
        <p:spPr>
          <a:xfrm>
            <a:off x="4284720" y="3068640"/>
            <a:ext cx="1058760" cy="11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5" descr="colombe_006"/>
          <p:cNvPicPr/>
          <p:nvPr/>
        </p:nvPicPr>
        <p:blipFill>
          <a:blip r:embed="rId10"/>
          <a:stretch/>
        </p:blipFill>
        <p:spPr>
          <a:xfrm>
            <a:off x="5076720" y="4149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8"/>
          <p:cNvSpPr/>
          <p:nvPr/>
        </p:nvSpPr>
        <p:spPr>
          <a:xfrm>
            <a:off x="902160" y="5207040"/>
            <a:ext cx="73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Laat u wiegen door de muziek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8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6156360"/>
            <a:ext cx="64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Tennessee Waltz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91" name="Picture 7" descr="110238886AluHub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79280" y="93600"/>
            <a:ext cx="51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De prestaties, kennelijk zonder enige moeite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d the Tennessee Walt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9" descr="299689149lrUqe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4894200" y="571032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Groot en…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</a:rPr>
              <a:t>to the Tennessee Walt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100263620qmaYJ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795240" y="333360"/>
            <a:ext cx="32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…</a:t>
            </a: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..klein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90680" y="6156360"/>
            <a:ext cx="86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When an old friend I happened to see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02" name="Picture 6" descr="112293278sirgR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095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 lost my little dar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111818433EzRiT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3641760" y="6165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Liefdevol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7200" y="6156360"/>
            <a:ext cx="50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remember the night 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09" name="Picture 8" descr="271962935moxqwA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ght they were pl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112293411MlGCX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118800" y="5494320"/>
            <a:ext cx="85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Zijn snavel aangepast aan zijn eten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113865714BRzpz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1" descr="113887112JXTWn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122493434VWWVF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 was dancing with my dar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91288630aCvbpF_ph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395280" y="22320"/>
            <a:ext cx="63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Bewonder de diversiteit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" descr="123915145yagiKC_ph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2924265tnmOe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6156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I was dancing with my darling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22" name="Picture 6" descr="131045078ZViAdH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1592280" y="93600"/>
            <a:ext cx="31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Vermakelijk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I know just how much I have lost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26" name="Picture 6" descr="111781661gaPjl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-390240" y="5638680"/>
            <a:ext cx="62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Zij betoveren onze ogen..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89240" y="61563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introduced her to my loved one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30" name="Picture 6" descr="152924279HnkOe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n old friend I happened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101194156RULrc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533520" y="237960"/>
            <a:ext cx="2382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-221760" y="22320"/>
            <a:ext cx="38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…</a:t>
            </a: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En onze oren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5943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to the Tennessee Walt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0" descr="126910234goLVtQ_ph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81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-58320" y="434196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Hun praatjes 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vrolijken ons op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586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riend stole my sweetheart from me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41" name="Picture 6" descr="244808862VDQTM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4574520" y="16524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-612720" y="5927760"/>
            <a:ext cx="103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cript MT Bold"/>
              </a:rPr>
              <a:t>De schoonheid is hen gegeven door hun Schepper</a:t>
            </a:r>
            <a:endParaRPr b="0" lang="en-US" sz="3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45" name="Picture 6" descr="306041136daiswF_ph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90880" y="5699160"/>
            <a:ext cx="59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Yes, I lost my little darling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48" name="Picture 7" descr="l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38360" y="599760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Die wij bedanken…..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4160" y="6156360"/>
            <a:ext cx="71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utiful Tennessee Waltz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7" name="Picture 7" descr="113145356RFzqp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4793760" y="5565600"/>
            <a:ext cx="387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De schoonheid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533520" y="6172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The beautiful Tennessee Waltz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51" name="Picture 7" descr="244809082KkcQZB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187280" y="534996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Dat Hij ons die kleine vriendjes heeft gegeven…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597600" y="5699160"/>
            <a:ext cx="63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ight they were playing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54" name="Picture 7" descr="351452604ORhyB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0" y="93600"/>
            <a:ext cx="784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..die ons altijd veel plezier geven als we ze zien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3000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3"/>
          <p:cNvSpPr/>
          <p:nvPr/>
        </p:nvSpPr>
        <p:spPr>
          <a:xfrm>
            <a:off x="669960" y="569736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57" name="Picture 19" descr="Rheinsbe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468360" y="283068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ffff"/>
                </a:solidFill>
                <a:latin typeface="Script MT Bold"/>
                <a:ea typeface="PMingLiU"/>
              </a:rPr>
              <a:t>Fijne Dag!!</a:t>
            </a:r>
            <a:endParaRPr b="0" lang="en-US" sz="6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10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122493494yNWqI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235520" y="5565600"/>
            <a:ext cx="27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De kleuren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09480" y="6156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while they were dancing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73" name="Picture 7" descr="218002879dNxxC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209240" y="5925960"/>
            <a:ext cx="34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cff"/>
                </a:solidFill>
                <a:latin typeface="Script MT Bold"/>
              </a:rPr>
              <a:t>De zachtheid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introduced her to my loved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480" y="61563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introduced her to my loved one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77" name="Picture 8" descr="111781741ldXInk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4486320" y="22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69960" y="21096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remember the n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110230782OEpPcy_ph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riend stole my sweetheart from me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85" name="Picture 6" descr="110229170lelhbE_ph"/>
          <p:cNvPicPr/>
          <p:nvPr/>
        </p:nvPicPr>
        <p:blipFill>
          <a:blip r:embed="rId1"/>
          <a:stretch/>
        </p:blipFill>
        <p:spPr>
          <a:xfrm>
            <a:off x="0" y="0"/>
            <a:ext cx="9144000" cy="7377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864360" y="237960"/>
            <a:ext cx="33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Script MT Bold"/>
              </a:rPr>
              <a:t>De slankheid!</a:t>
            </a:r>
            <a:endParaRPr b="0" lang="en-US" sz="40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And while they were d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102244446INgYzJ_ph"/>
          <p:cNvPicPr/>
          <p:nvPr/>
        </p:nvPicPr>
        <p:blipFill>
          <a:blip r:embed="rId1"/>
          <a:stretch/>
        </p:blipFill>
        <p:spPr>
          <a:xfrm>
            <a:off x="0" y="0"/>
            <a:ext cx="9144000" cy="7605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18:21Z</dcterms:created>
  <dc:creator>tamy</dc:creator>
  <dc:description/>
  <dc:language>en-US</dc:language>
  <cp:lastModifiedBy>Janneke Vos</cp:lastModifiedBy>
  <dcterms:modified xsi:type="dcterms:W3CDTF">2011-01-11T16:02:08Z</dcterms:modified>
  <cp:revision>7</cp:revision>
  <dc:subject/>
  <dc:title>投影片 1</dc:title>
</cp:coreProperties>
</file>