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6.jpeg" ContentType="image/jpeg"/>
  <Override PartName="/ppt/media/Langour.wav" ContentType="audio/x-wav"/>
  <Override PartName="/ppt/media/image20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F0C8-8A33-46EB-BB17-FDA63D573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6705-5D36-41F6-AAF4-344DB85D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97FB-4093-4101-82F8-FFB3C009A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AA2B-0B43-4F40-873B-596A71C35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99B6-632A-43B1-8249-5FD08D7C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A7E4-E1EA-4CF2-905D-31463EB7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7F9E-C3B2-49E2-8F4B-66F0D263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7A97-4A66-4744-88C9-FD14E962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108C-270E-460A-BD9E-B9A30A00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4426-1942-40BC-9A7E-D959FEC6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FD66-B393-4F95-9E34-A5CA542F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92E1-9DF4-4D9D-B548-23377CE5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4453-FA59-47BB-B722-F4083A994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Langour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417080" cy="5453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62120" y="297000"/>
            <a:ext cx="7986600" cy="5989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561440" cy="5400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632720" cy="5505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559640" cy="53978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490160" cy="5402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488360" cy="5346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490160" cy="56181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417080" cy="5562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417080" cy="5346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417080" cy="5346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324000"/>
            <a:ext cx="7920000" cy="5940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490160" cy="5346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490160" cy="5618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848720" cy="5886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417080" cy="5562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704360" cy="5778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1:41:58Z</dcterms:created>
  <dc:creator/>
  <dc:description/>
  <dc:language>en-US</dc:language>
  <cp:lastModifiedBy>roda</cp:lastModifiedBy>
  <dcterms:modified xsi:type="dcterms:W3CDTF">2011-03-09T20:14:14Z</dcterms:modified>
  <cp:revision>5</cp:revision>
  <dc:subject/>
  <dc:title>Dia 1</dc:title>
</cp:coreProperties>
</file>