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5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3.jpeg" ContentType="image/jpeg"/>
  <Override PartName="/ppt/media/image40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%D7%99%D7%A8%D7%97%20%D7%A2%D7%9C%20%D7%98%D7%99%D7%91%D7%98,%D7%90%D7%95%D7%9C%D7%99%D7%91%D7%A8%20%D7%A9%D7%95%D7%95%D7%90%D7%A8%D7%A5.wav" ContentType="audio/x-wav"/>
  <Override PartName="/ppt/media/image4.gif" ContentType="image/gif"/>
  <Override PartName="/ppt/media/image33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png" ContentType="image/png"/>
  <Override PartName="/ppt/media/image34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10.jpeg" ContentType="image/jpeg"/>
  <Override PartName="/ppt/media/image38.jpeg" ContentType="image/jpeg"/>
  <Override PartName="/ppt/media/image5.gif" ContentType="image/gi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2.jpeg" ContentType="image/jpeg"/>
  <Override PartName="/ppt/media/image7.gif" ContentType="image/gif"/>
  <Override PartName="/ppt/media/image26.jpeg" ContentType="image/jpeg"/>
  <Override PartName="/ppt/media/image11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8A2-C75F-40D4-BAEE-72933EB4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564-F30C-424B-8F44-1E634ECA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487-1D2C-4A81-9658-6D2C5430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F6C-B713-4130-BC84-CA449A89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31E-1C1F-4EBE-BBB2-464748B6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54B-2699-4EEC-9884-9F82FA4A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5E7-D4CD-448B-9CAC-9ACBA8B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48E-2147-40A2-B0B1-8E63B463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7AB-7A28-4D06-B4FE-838046E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FB9-BF15-4694-B0B8-8AC881B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D9D-4B68-4EDF-A8D6-9313136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0B7-57E4-487C-98AE-A816E77B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E57C-D4AD-48A9-B8A7-840E1862C49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audio" Target="../media/&#1497;&#1512;&#1495;%20&#1506;&#1500;%20&#1496;&#1497;&#1489;&#1496;,&#1488;&#1493;&#1500;&#1497;&#1489;&#1512;%20&#1513;&#1493;&#1493;&#1488;&#1512;&#1509;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תמונה 2" descr="1171486146_3.jpg"/>
          <p:cNvPicPr/>
          <p:nvPr/>
        </p:nvPicPr>
        <p:blipFill>
          <a:blip r:embed="rId1"/>
          <a:srcRect l="7795" t="0" r="7795" b="37799"/>
          <a:stretch/>
        </p:blipFill>
        <p:spPr>
          <a:xfrm>
            <a:off x="5435640" y="907920"/>
            <a:ext cx="2700360" cy="298476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42" name="Picture 1035" descr="כושית02"/>
          <p:cNvPicPr/>
          <p:nvPr/>
        </p:nvPicPr>
        <p:blipFill>
          <a:blip r:embed="rId2"/>
          <a:stretch/>
        </p:blipFill>
        <p:spPr>
          <a:xfrm>
            <a:off x="2556000" y="2276640"/>
            <a:ext cx="2676240" cy="38098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3" name="WordArt 1033"/>
          <p:cNvSpPr txBox="1"/>
          <p:nvPr/>
        </p:nvSpPr>
        <p:spPr>
          <a:xfrm>
            <a:off x="468360" y="0"/>
            <a:ext cx="3724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Vreemde stamm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4" name="Picture 1036" descr="קדמון"/>
          <p:cNvPicPr/>
          <p:nvPr/>
        </p:nvPicPr>
        <p:blipFill>
          <a:blip r:embed="rId3"/>
          <a:stretch/>
        </p:blipFill>
        <p:spPr>
          <a:xfrm>
            <a:off x="7308720" y="4941720"/>
            <a:ext cx="962280" cy="135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7" descr="קדמון2"/>
          <p:cNvPicPr/>
          <p:nvPr/>
        </p:nvPicPr>
        <p:blipFill>
          <a:blip r:embed="rId4"/>
          <a:stretch/>
        </p:blipFill>
        <p:spPr>
          <a:xfrm>
            <a:off x="1187280" y="2492280"/>
            <a:ext cx="941400" cy="113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2" descr="כושית04"/>
          <p:cNvPicPr/>
          <p:nvPr/>
        </p:nvPicPr>
        <p:blipFill>
          <a:blip r:embed="rId5"/>
          <a:stretch/>
        </p:blipFill>
        <p:spPr>
          <a:xfrm>
            <a:off x="468360" y="4005360"/>
            <a:ext cx="1881000" cy="25858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47" name="Picture 1039" descr="http://www.animatieplaatjes.nl/plaatjesC/computers12.gif"/>
          <p:cNvPicPr/>
          <p:nvPr/>
        </p:nvPicPr>
        <p:blipFill>
          <a:blip r:embed="rId6"/>
          <a:stretch/>
        </p:blipFill>
        <p:spPr>
          <a:xfrm>
            <a:off x="6111720" y="6021360"/>
            <a:ext cx="1314720" cy="836640"/>
          </a:xfrm>
          <a:prstGeom prst="rect">
            <a:avLst/>
          </a:prstGeom>
          <a:ln w="0">
            <a:noFill/>
          </a:ln>
        </p:spPr>
      </p:pic>
      <p:pic>
        <p:nvPicPr>
          <p:cNvPr id="48" name="Rechthoek 8" descr=""/>
          <p:cNvPicPr/>
          <p:nvPr/>
        </p:nvPicPr>
        <p:blipFill>
          <a:blip r:embed="rId7"/>
          <a:stretch/>
        </p:blipFill>
        <p:spPr>
          <a:xfrm>
            <a:off x="3213000" y="6072120"/>
            <a:ext cx="2065320" cy="62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41" descr="http://www.animatieplaatjes.nl/plaatjesP/pijlen38.gif"/>
          <p:cNvPicPr/>
          <p:nvPr/>
        </p:nvPicPr>
        <p:blipFill>
          <a:blip r:embed="rId8"/>
          <a:stretch/>
        </p:blipFill>
        <p:spPr>
          <a:xfrm>
            <a:off x="5364000" y="6381720"/>
            <a:ext cx="57168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9" name="%D7%99%D7%A8%D7%97%20%D7%A2%D7%9C%20%D7%98%D7%99%D7%91%D7%98,%D7%90%D7%95%D7%9C%D7%99%D7%91%D7%A8%20%D7%A9%D7%95%D7%95%D7%90%D7%A8%D7%A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תמונה 1" descr="1170711182_7.jpg"/>
          <p:cNvPicPr/>
          <p:nvPr/>
        </p:nvPicPr>
        <p:blipFill>
          <a:blip r:embed="rId1"/>
          <a:stretch/>
        </p:blipFill>
        <p:spPr>
          <a:xfrm>
            <a:off x="1698480" y="0"/>
            <a:ext cx="57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תמונה 1" descr="1171486146_2.jpg"/>
          <p:cNvPicPr/>
          <p:nvPr/>
        </p:nvPicPr>
        <p:blipFill>
          <a:blip r:embed="rId1"/>
          <a:stretch/>
        </p:blipFill>
        <p:spPr>
          <a:xfrm>
            <a:off x="0" y="0"/>
            <a:ext cx="52038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תמונה 2" descr="1171486146_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תמונה 2" descr="1171486146_4.jpg"/>
          <p:cNvPicPr/>
          <p:nvPr/>
        </p:nvPicPr>
        <p:blipFill>
          <a:blip r:embed="rId1"/>
          <a:stretch/>
        </p:blipFill>
        <p:spPr>
          <a:xfrm>
            <a:off x="-285840" y="0"/>
            <a:ext cx="52563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תמונה 3" descr="1171486146_5.jpg"/>
          <p:cNvPicPr/>
          <p:nvPr/>
        </p:nvPicPr>
        <p:blipFill>
          <a:blip r:embed="rId2"/>
          <a:stretch/>
        </p:blipFill>
        <p:spPr>
          <a:xfrm>
            <a:off x="4714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תמונה 2" descr="1171486146_6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תמונה 3" descr="1171486146_7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תמונה 1" descr="1171486146_8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תמונה 1" descr="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תמונה 2" descr="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Rechthoek 3" descr=""/>
          <p:cNvPicPr/>
          <p:nvPr/>
        </p:nvPicPr>
        <p:blipFill>
          <a:blip r:embed="rId3"/>
          <a:stretch/>
        </p:blipFill>
        <p:spPr>
          <a:xfrm>
            <a:off x="2114640" y="-36360"/>
            <a:ext cx="415764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תמונה 1" descr="3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תמונה 1" descr="4.jpg"/>
          <p:cNvPicPr/>
          <p:nvPr/>
        </p:nvPicPr>
        <p:blipFill>
          <a:blip r:embed="rId1"/>
          <a:stretch/>
        </p:blipFill>
        <p:spPr>
          <a:xfrm>
            <a:off x="1962000" y="0"/>
            <a:ext cx="5220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ttp://www.animatieplaatjes.nl/plaatjesG/geld7.gif"/>
          <p:cNvPicPr/>
          <p:nvPr/>
        </p:nvPicPr>
        <p:blipFill>
          <a:blip r:embed="rId2"/>
          <a:stretch/>
        </p:blipFill>
        <p:spPr>
          <a:xfrm>
            <a:off x="2987640" y="3357720"/>
            <a:ext cx="598680" cy="750600"/>
          </a:xfrm>
          <a:prstGeom prst="rect">
            <a:avLst/>
          </a:prstGeom>
          <a:ln w="0">
            <a:noFill/>
          </a:ln>
        </p:spPr>
      </p:pic>
      <p:sp>
        <p:nvSpPr>
          <p:cNvPr id="74" name="Staande oorkonde 3"/>
          <p:cNvSpPr/>
          <p:nvPr/>
        </p:nvSpPr>
        <p:spPr>
          <a:xfrm>
            <a:off x="-181080" y="1773360"/>
            <a:ext cx="2303640" cy="316836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Times New Roman"/>
              </a:rPr>
              <a:t>H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Times New Roman"/>
              </a:rPr>
              <a:t>ER M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Times New Roman"/>
              </a:rPr>
              <a:t>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Times New Roman"/>
              </a:rPr>
              <a:t>PAAR EURO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Times New Roman"/>
              </a:rPr>
              <a:t>INGELE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aande oorkonde 4"/>
          <p:cNvSpPr/>
          <p:nvPr/>
        </p:nvSpPr>
        <p:spPr>
          <a:xfrm>
            <a:off x="6732720" y="1916280"/>
            <a:ext cx="2665440" cy="273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NU BEN 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WEL BENIEUW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WAT ZE DAAR M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GAAT DOE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תמונה 1" descr="1171486146_9.jpg"/>
          <p:cNvPicPr/>
          <p:nvPr/>
        </p:nvPicPr>
        <p:blipFill>
          <a:blip r:embed="rId1"/>
          <a:stretch/>
        </p:blipFill>
        <p:spPr>
          <a:xfrm>
            <a:off x="1504800" y="0"/>
            <a:ext cx="61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תמונה 1" descr="1171486146_10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תמונה 1" descr="1170711182_1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תמונה 1" descr="1171486146_11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תמונה 1" descr="1171486146_12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תמונה 1" descr="1171486146_13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תמונה 1" descr="1171486146_1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תמונה 1" descr="1171486146_15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תמונה 1" descr="1171486146_16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תמונה 1" descr="1171486146_17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1" descr="1171486146_18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תמונה 1" descr="1171486146_19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תמונה 1" descr="1171486146_20.jpg"/>
          <p:cNvPicPr/>
          <p:nvPr/>
        </p:nvPicPr>
        <p:blipFill>
          <a:blip r:embed="rId1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תמונה 2" descr="1171486146_22.jpg"/>
          <p:cNvPicPr/>
          <p:nvPr/>
        </p:nvPicPr>
        <p:blipFill>
          <a:blip r:embed="rId2"/>
          <a:stretch/>
        </p:blipFill>
        <p:spPr>
          <a:xfrm>
            <a:off x="4714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תמונה 1" descr="1170711182_2.jpg"/>
          <p:cNvPicPr/>
          <p:nvPr/>
        </p:nvPicPr>
        <p:blipFill>
          <a:blip r:embed="rId1"/>
          <a:stretch/>
        </p:blipFill>
        <p:spPr>
          <a:xfrm>
            <a:off x="0" y="0"/>
            <a:ext cx="43894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תמונה 3" descr="1170711182_4.jpg"/>
          <p:cNvPicPr/>
          <p:nvPr/>
        </p:nvPicPr>
        <p:blipFill>
          <a:blip r:embed="rId2"/>
          <a:stretch/>
        </p:blipFill>
        <p:spPr>
          <a:xfrm>
            <a:off x="4632480" y="0"/>
            <a:ext cx="451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תמונה 1" descr="1171486146_23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תמונה 2" descr="1171486146_25.jpg"/>
          <p:cNvPicPr/>
          <p:nvPr/>
        </p:nvPicPr>
        <p:blipFill>
          <a:blip r:embed="rId2"/>
          <a:stretch/>
        </p:blipFill>
        <p:spPr>
          <a:xfrm>
            <a:off x="0" y="0"/>
            <a:ext cx="49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תמונה 1" descr="1171486146_2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תמונה 2" descr="1171486146_27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תמונה 3" descr="1171486146_28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תמונה 1" descr="1171486146_29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תמונה 2" descr="1171486146_30.jpg"/>
          <p:cNvPicPr/>
          <p:nvPr/>
        </p:nvPicPr>
        <p:blipFill>
          <a:blip r:embed="rId2"/>
          <a:stretch/>
        </p:blipFill>
        <p:spPr>
          <a:xfrm>
            <a:off x="-14292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תמונה 2" descr="1171486146_3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תמונה 1" descr="1171486146_33.jpg"/>
          <p:cNvPicPr/>
          <p:nvPr/>
        </p:nvPicPr>
        <p:blipFill>
          <a:blip r:embed="rId2"/>
          <a:stretch/>
        </p:blipFill>
        <p:spPr>
          <a:xfrm>
            <a:off x="4425840" y="0"/>
            <a:ext cx="47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תמונה 2" descr="1171486146_36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תמונה 4" descr="1174507219_17728_v_afriki_eto_schitaetsja_kruto_5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תמונה 2" descr="1171486146_3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101" name="Lachebekje 2" descr=""/>
          <p:cNvPicPr/>
          <p:nvPr/>
        </p:nvPicPr>
        <p:blipFill>
          <a:blip r:embed="rId2"/>
          <a:stretch/>
        </p:blipFill>
        <p:spPr>
          <a:xfrm>
            <a:off x="1743120" y="5864400"/>
            <a:ext cx="178596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תמונה 1" descr="1170711182_3.jpg"/>
          <p:cNvPicPr/>
          <p:nvPr/>
        </p:nvPicPr>
        <p:blipFill>
          <a:blip r:embed="rId1"/>
          <a:stretch/>
        </p:blipFill>
        <p:spPr>
          <a:xfrm>
            <a:off x="522360" y="0"/>
            <a:ext cx="80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תמונה 2" descr="1170711182_5.jpg"/>
          <p:cNvPicPr/>
          <p:nvPr/>
        </p:nvPicPr>
        <p:blipFill>
          <a:blip r:embed="rId1"/>
          <a:stretch/>
        </p:blipFill>
        <p:spPr>
          <a:xfrm>
            <a:off x="385920" y="0"/>
            <a:ext cx="83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תמונה 1" descr="1170711182_6.jpg"/>
          <p:cNvPicPr/>
          <p:nvPr/>
        </p:nvPicPr>
        <p:blipFill>
          <a:blip r:embed="rId1"/>
          <a:stretch/>
        </p:blipFill>
        <p:spPr>
          <a:xfrm>
            <a:off x="0" y="0"/>
            <a:ext cx="50259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תמונה 2" descr="1170711182_8.jpg"/>
          <p:cNvPicPr/>
          <p:nvPr/>
        </p:nvPicPr>
        <p:blipFill>
          <a:blip r:embed="rId2"/>
          <a:stretch/>
        </p:blipFill>
        <p:spPr>
          <a:xfrm>
            <a:off x="4851360" y="0"/>
            <a:ext cx="42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תמונה 2" descr="1170711182_9.jpg"/>
          <p:cNvPicPr/>
          <p:nvPr/>
        </p:nvPicPr>
        <p:blipFill>
          <a:blip r:embed="rId1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תמונה 1" descr="1170711182_10.jpg"/>
          <p:cNvPicPr/>
          <p:nvPr/>
        </p:nvPicPr>
        <p:blipFill>
          <a:blip r:embed="rId1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תמונה 1" descr="1170711182_11.jpg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3:13:59Z</dcterms:created>
  <dc:creator>LANDRY</dc:creator>
  <dc:description>Download von Funny-Powerpoints.de</dc:description>
  <dc:language>en-US</dc:language>
  <cp:lastModifiedBy>JAN</cp:lastModifiedBy>
  <dcterms:modified xsi:type="dcterms:W3CDTF">2011-01-11T11:11:17Z</dcterms:modified>
  <cp:revision>28</cp:revision>
  <dc:subject/>
  <dc:title>שבטי פרא</dc:title>
</cp:coreProperties>
</file>