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0C1-D711-468B-9F1D-CCE1DB39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170-F5DB-465C-A03B-437C8C8F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6CF-2687-4DEE-8BBA-9AFABEA6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70C-3536-4D19-B4FC-7E25128A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087-7272-4AD3-9B5C-845A1F7B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052-167E-46BB-9F01-F5C0C90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D5C-EA42-4F72-ACAF-F9754B2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C3D-2BB2-4ACE-A235-D5C9E1C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24D-154F-44BF-95E2-50329806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976-F35A-4431-A9C1-2C64C53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1A6-7B8E-4379-AF0B-DBD5BC3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D19-D9F6-455F-AB74-101E242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D7BC-F75E-4D56-AC7B-7F5DA11C9F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otpot.klascement.net/aanbod/merlo_rudy/Les%206%20Breuken/Breuken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5360"/>
            <a:ext cx="6408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GELIJKNAMIGE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BREUK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                  </a:t>
            </a: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les 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539640" y="620640"/>
          <a:ext cx="6697800" cy="102384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hebben  gevonden dat 24  het KGV 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Dit wil zeggen dat we om goed te kunnen vergelijken, we de gehelen moeten verdelen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 gelijke del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050920" y="213192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we moeten het geheel in </a:t>
            </a:r>
            <a:r>
              <a:rPr b="0" lang="nl-BE" sz="1200" spc="-1" strike="noStrike">
                <a:solidFill>
                  <a:srgbClr val="ff0000"/>
                </a:solidFill>
                <a:latin typeface="Arial"/>
              </a:rPr>
              <a:t>24 (kgv)</a:t>
            </a: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 gelijke delen verdelen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 DUS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162864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 noemer deden we maal 3 dus nu  ook de teller  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1557360"/>
            <a:ext cx="4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700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m 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2492280"/>
            <a:ext cx="568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1916280"/>
            <a:ext cx="561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162864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9640" y="5445000"/>
          <a:ext cx="6697800" cy="100980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77920"/>
                <a:gridCol w="279360"/>
                <a:gridCol w="279360"/>
                <a:gridCol w="279360"/>
                <a:gridCol w="279720"/>
                <a:gridCol w="277560"/>
                <a:gridCol w="279360"/>
                <a:gridCol w="279360"/>
                <a:gridCol w="279720"/>
                <a:gridCol w="279360"/>
                <a:gridCol w="277560"/>
                <a:gridCol w="279720"/>
                <a:gridCol w="279360"/>
                <a:gridCol w="279360"/>
                <a:gridCol w="277560"/>
                <a:gridCol w="279720"/>
                <a:gridCol w="279360"/>
                <a:gridCol w="279360"/>
                <a:gridCol w="279360"/>
                <a:gridCol w="277920"/>
                <a:gridCol w="279360"/>
                <a:gridCol w="279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39640" y="2781360"/>
          <a:ext cx="6697800" cy="100944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77920"/>
                <a:gridCol w="279360"/>
                <a:gridCol w="279360"/>
                <a:gridCol w="279360"/>
                <a:gridCol w="279720"/>
                <a:gridCol w="277560"/>
                <a:gridCol w="279360"/>
                <a:gridCol w="279360"/>
                <a:gridCol w="279720"/>
                <a:gridCol w="279360"/>
                <a:gridCol w="277560"/>
                <a:gridCol w="279720"/>
                <a:gridCol w="279360"/>
                <a:gridCol w="279360"/>
                <a:gridCol w="277560"/>
                <a:gridCol w="279720"/>
                <a:gridCol w="279360"/>
                <a:gridCol w="279360"/>
                <a:gridCol w="279360"/>
                <a:gridCol w="277920"/>
                <a:gridCol w="279360"/>
                <a:gridCol w="27936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39640" y="2781360"/>
          <a:ext cx="6697800" cy="1008000"/>
        </p:xfrm>
        <a:graphic>
          <a:graphicData uri="http://schemas.openxmlformats.org/drawingml/2006/table">
            <a:tbl>
              <a:tblPr/>
              <a:tblGrid>
                <a:gridCol w="836640"/>
                <a:gridCol w="838080"/>
                <a:gridCol w="836640"/>
                <a:gridCol w="838440"/>
                <a:gridCol w="836640"/>
                <a:gridCol w="836640"/>
                <a:gridCol w="838080"/>
                <a:gridCol w="836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39640" y="5445000"/>
          <a:ext cx="6697800" cy="1008000"/>
        </p:xfrm>
        <a:graphic>
          <a:graphicData uri="http://schemas.openxmlformats.org/drawingml/2006/table">
            <a:tbl>
              <a:tblPr/>
              <a:tblGrid>
                <a:gridCol w="2232000"/>
                <a:gridCol w="2233800"/>
                <a:gridCol w="2232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76360" y="4005360"/>
            <a:ext cx="48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79736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436572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7440" y="393372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0" y="4502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rah 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1592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159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at we daarnet gedaan hebben, kunnen we ook voorstellen met een reep choco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65640" y="1394280"/>
            <a:ext cx="395280" cy="2590920"/>
          </a:xfrm>
          <a:custGeom>
            <a:avLst/>
            <a:gdLst>
              <a:gd name="textAreaLeft" fmla="*/ 252720 w 395280"/>
              <a:gd name="textAreaRight" fmla="*/ 395640 w 3952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8"/>
                </a:lnTo>
                <a:cubicBezTo>
                  <a:pt x="10800" y="9748"/>
                  <a:pt x="5400" y="10648"/>
                  <a:pt x="0" y="10648"/>
                </a:cubicBezTo>
                <a:cubicBezTo>
                  <a:pt x="5400" y="10648"/>
                  <a:pt x="10800" y="11548"/>
                  <a:pt x="10800" y="1244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458000" y="4095000"/>
            <a:ext cx="395280" cy="2232000"/>
          </a:xfrm>
          <a:custGeom>
            <a:avLst/>
            <a:gdLst>
              <a:gd name="textAreaLeft" fmla="*/ 252720 w 395280"/>
              <a:gd name="textAreaRight" fmla="*/ 395640 w 395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8"/>
                </a:lnTo>
                <a:cubicBezTo>
                  <a:pt x="10800" y="9748"/>
                  <a:pt x="5400" y="10648"/>
                  <a:pt x="0" y="10648"/>
                </a:cubicBezTo>
                <a:cubicBezTo>
                  <a:pt x="5400" y="10648"/>
                  <a:pt x="10800" y="11548"/>
                  <a:pt x="10800" y="1244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450864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we moeten het geheel in </a:t>
            </a:r>
            <a:r>
              <a:rPr b="0" lang="nl-BE" sz="1200" spc="-1" strike="noStrike">
                <a:solidFill>
                  <a:srgbClr val="ff0000"/>
                </a:solidFill>
                <a:latin typeface="Arial"/>
              </a:rPr>
              <a:t>24 (kgv)</a:t>
            </a: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 gelijke delen verdelen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 DUS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407664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 noemer deden we maal 8 dus nu  ook de teller  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1700280"/>
            <a:ext cx="6912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nl-BE" sz="2800" spc="-1" strike="noStrike" u="sng">
                <a:solidFill>
                  <a:srgbClr val="008000"/>
                </a:solidFill>
                <a:uFillTx/>
                <a:latin typeface="Arial"/>
              </a:rPr>
              <a:t>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4005360"/>
            <a:ext cx="6912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nl-BE" sz="2800" spc="-1" strike="noStrike" u="sng">
                <a:solidFill>
                  <a:srgbClr val="008000"/>
                </a:solidFill>
                <a:uFillTx/>
                <a:latin typeface="Arial"/>
              </a:rPr>
              <a:t>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708280"/>
            <a:ext cx="51130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beide breuken zijn </a:t>
            </a:r>
            <a:r>
              <a:rPr b="0" i="1" lang="nl-BE" sz="3200" spc="-1" strike="noStrike">
                <a:solidFill>
                  <a:srgbClr val="339933"/>
                </a:solidFill>
                <a:latin typeface="Arial"/>
              </a:rPr>
              <a:t>gelijknamig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, zo kunnen we ze vergelijken en zien wie het meeste chocolade heeft gege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47628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anneer de computer online is, kan je op de gekleurde button klik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e kan hier 30 vragen over breuken oplo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anneer je alle vragen hebt opgelost, klik je op       om af te slu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/>
          </p:cNvPr>
          <p:cNvSpPr/>
          <p:nvPr/>
        </p:nvSpPr>
        <p:spPr>
          <a:xfrm>
            <a:off x="250920" y="3213000"/>
            <a:ext cx="8569080" cy="1368360"/>
          </a:xfrm>
          <a:custGeom>
            <a:avLst/>
            <a:gdLst>
              <a:gd name="textAreaLeft" fmla="*/ 88560 w 8569080"/>
              <a:gd name="textAreaRight" fmla="*/ 8480520 w 8569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135236" h="21600">
                <a:moveTo>
                  <a:pt x="0" y="0"/>
                </a:moveTo>
                <a:lnTo>
                  <a:pt x="135236" y="0"/>
                </a:lnTo>
                <a:lnTo>
                  <a:pt x="135236" y="21600"/>
                </a:lnTo>
                <a:lnTo>
                  <a:pt x="0" y="21600"/>
                </a:lnTo>
                <a:close/>
              </a:path>
              <a:path fill="lightenLess" w="135236" h="21600">
                <a:moveTo>
                  <a:pt x="0" y="0"/>
                </a:moveTo>
                <a:lnTo>
                  <a:pt x="135236" y="0"/>
                </a:lnTo>
                <a:lnTo>
                  <a:pt x="133836" y="1400"/>
                </a:lnTo>
                <a:lnTo>
                  <a:pt x="1400" y="1400"/>
                </a:lnTo>
                <a:close/>
              </a:path>
              <a:path fill="darken" w="135236" h="21600">
                <a:moveTo>
                  <a:pt x="135236" y="0"/>
                </a:moveTo>
                <a:lnTo>
                  <a:pt x="135236" y="21600"/>
                </a:lnTo>
                <a:lnTo>
                  <a:pt x="133836" y="20200"/>
                </a:lnTo>
                <a:lnTo>
                  <a:pt x="133836" y="1400"/>
                </a:lnTo>
                <a:close/>
              </a:path>
              <a:path fill="darkenLess" w="135236" h="21600">
                <a:moveTo>
                  <a:pt x="135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836" y="20200"/>
                </a:lnTo>
                <a:close/>
              </a:path>
              <a:path fill="lighten" w="135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126828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55640" y="83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Even herh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522936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01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NO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414972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933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BREUKSTR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328464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3068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501336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De noemer duidt aan in hoeveel gelijke delen het geheel is verd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3080" y="2852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teller duidt aan hoeveel gelijke delen er worden gen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16360" y="333360"/>
          <a:ext cx="2592360" cy="201600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916360" y="333360"/>
          <a:ext cx="2592360" cy="201600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916360" y="333360"/>
          <a:ext cx="2592360" cy="2016000"/>
        </p:xfrm>
        <a:graphic>
          <a:graphicData uri="http://schemas.openxmlformats.org/drawingml/2006/table">
            <a:tbl>
              <a:tblPr/>
              <a:tblGrid>
                <a:gridCol w="1296720"/>
                <a:gridCol w="1295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916360" y="333360"/>
            <a:ext cx="259236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33336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34136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3933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De breukstreep duidt aan dat je in gelijke delen verdeelt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87280" y="2997360"/>
            <a:ext cx="79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149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987640" y="476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STAMBREU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98100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ff"/>
                </a:solidFill>
                <a:latin typeface="Arial"/>
              </a:rPr>
              <a:t>Stambreuken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zijn breuken met als </a:t>
            </a:r>
            <a:r>
              <a:rPr b="0" i="1" lang="nl-BE" sz="2000" spc="-1" strike="noStrike">
                <a:solidFill>
                  <a:srgbClr val="0000ff"/>
                </a:solidFill>
                <a:latin typeface="Arial"/>
              </a:rPr>
              <a:t>teller </a:t>
            </a:r>
            <a:r>
              <a:rPr b="0" i="1" lang="nl-BE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bv.</a:t>
            </a:r>
            <a:r>
              <a:rPr b="0" i="1" lang="nl-BE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nl-BE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nl-BE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nl-BE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4    8   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42920" y="1773360"/>
          <a:ext cx="6912000" cy="5918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                                      </a:t>
                      </a: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42920" y="2349360"/>
          <a:ext cx="6913800" cy="59220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042920" y="2924280"/>
          <a:ext cx="6913800" cy="576000"/>
        </p:xfrm>
        <a:graphic>
          <a:graphicData uri="http://schemas.openxmlformats.org/drawingml/2006/table">
            <a:tbl>
              <a:tblPr/>
              <a:tblGrid>
                <a:gridCol w="2305080"/>
                <a:gridCol w="2303640"/>
                <a:gridCol w="2305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042920" y="3500280"/>
          <a:ext cx="6913800" cy="576360"/>
        </p:xfrm>
        <a:graphic>
          <a:graphicData uri="http://schemas.openxmlformats.org/drawingml/2006/table">
            <a:tbl>
              <a:tblPr/>
              <a:tblGrid>
                <a:gridCol w="1728720"/>
                <a:gridCol w="1729080"/>
                <a:gridCol w="1726920"/>
                <a:gridCol w="1729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042920" y="4076640"/>
          <a:ext cx="6913800" cy="592200"/>
        </p:xfrm>
        <a:graphic>
          <a:graphicData uri="http://schemas.openxmlformats.org/drawingml/2006/table">
            <a:tbl>
              <a:tblPr/>
              <a:tblGrid>
                <a:gridCol w="1382760"/>
                <a:gridCol w="1382760"/>
                <a:gridCol w="1382760"/>
                <a:gridCol w="1382760"/>
                <a:gridCol w="13827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826920" y="4941720"/>
            <a:ext cx="741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oe groter het getal in de noemer, hoe kleiner de stambreuk 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 1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5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oe kleiner het getal in de noemer, hoe groter de stambreuk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&gt;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2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71640" y="2476440"/>
          <a:ext cx="6913440" cy="592200"/>
        </p:xfrm>
        <a:graphic>
          <a:graphicData uri="http://schemas.openxmlformats.org/drawingml/2006/table">
            <a:tbl>
              <a:tblPr/>
              <a:tblGrid>
                <a:gridCol w="3457440"/>
                <a:gridCol w="345600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971640" y="3213000"/>
          <a:ext cx="6913440" cy="57636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71640" y="3933720"/>
          <a:ext cx="6913440" cy="57456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865080"/>
                <a:gridCol w="863640"/>
                <a:gridCol w="863640"/>
                <a:gridCol w="863640"/>
                <a:gridCol w="865080"/>
                <a:gridCol w="8636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00"/>
                        </a:gs>
                        <a:gs pos="100000">
                          <a:srgbClr val="e9e9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00"/>
                        </a:gs>
                        <a:gs pos="100000">
                          <a:srgbClr val="e9e9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00"/>
                        </a:gs>
                        <a:gs pos="100000">
                          <a:srgbClr val="e9e9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971640" y="4724280"/>
          <a:ext cx="6913440" cy="57636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433440"/>
                <a:gridCol w="432000"/>
                <a:gridCol w="431640"/>
                <a:gridCol w="431640"/>
                <a:gridCol w="432000"/>
                <a:gridCol w="431640"/>
                <a:gridCol w="433440"/>
                <a:gridCol w="432000"/>
                <a:gridCol w="431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835280" y="189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GELIJK</a:t>
            </a:r>
            <a:r>
              <a:rPr b="0" i="1" lang="nl-BE" sz="2400" spc="-1" strike="noStrike" u="sng">
                <a:solidFill>
                  <a:srgbClr val="0000ff"/>
                </a:solidFill>
                <a:uFillTx/>
                <a:latin typeface="Arial"/>
              </a:rPr>
              <a:t>WAARDIGE</a:t>
            </a: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   BREU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69228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ff"/>
                </a:solidFill>
                <a:latin typeface="Arial"/>
              </a:rPr>
              <a:t>Gelijkwaardige breuken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zijn breuken die dezelfde waarde heb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Gelijkwaardige breuken stellen een even groot deel van het geheel v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3080" y="1773360"/>
          <a:ext cx="6912000" cy="5918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                                      </a:t>
                      </a: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28720" y="5445000"/>
            <a:ext cx="69832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p dit breukenmuurtje kan je aflezen dat 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=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        4        8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nl-BE" sz="1200" spc="-1" strike="noStrike">
                <a:solidFill>
                  <a:srgbClr val="ff3399"/>
                </a:solidFill>
                <a:latin typeface="Arial"/>
              </a:rPr>
              <a:t>Dit zijn gelijkwaardige breuken</a:t>
            </a:r>
            <a:r>
              <a:rPr b="0" i="1" lang="nl-BE" sz="12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906560" y="404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BREUKEN VEREENVOU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989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it zijn gelijkwaardige breuken, ze hebben telkens dezelfde waa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laatste breuk staat in de 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eenvoudigste v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052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=  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= 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=      </a:t>
            </a:r>
            <a:r>
              <a:rPr b="1" lang="nl-BE" sz="1800" spc="-1" strike="noStrike" u="sng">
                <a:solidFill>
                  <a:srgbClr val="0000ff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16         8            4             </a:t>
            </a:r>
            <a:r>
              <a:rPr b="0" lang="nl-BE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357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m een breuk te vereenvoudigen ( = in de eenvoudigste vorm noteren)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deel je teller en noemer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door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eenzelfde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getal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4940280"/>
            <a:ext cx="72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4925880"/>
            <a:ext cx="72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72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50101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501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16200000">
            <a:off x="2429640" y="405828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6200000">
            <a:off x="4301280" y="405828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 rot="5469000">
            <a:off x="2365200" y="525492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5388600">
            <a:off x="4302000" y="513828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4336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Arial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6461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Arial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64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826920" y="981000"/>
            <a:ext cx="72723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eenvoudigste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breuk vind je door teller en noemer te delen door hun grootste gemeenschappelijke deler (Ggd)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De delers van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nl-BE" sz="1800" spc="-1" strike="noStrike">
                <a:solidFill>
                  <a:srgbClr val="ff0000"/>
                </a:solidFill>
                <a:latin typeface="Arial"/>
              </a:rPr>
              <a:t>1   2   3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De delers van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0" lang="nl-BE" sz="1800" spc="-1" strike="noStrike">
                <a:solidFill>
                  <a:srgbClr val="ff0000"/>
                </a:solidFill>
                <a:latin typeface="Arial"/>
              </a:rPr>
              <a:t>1   2   3   4   6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Grootste gemeenschappelijke deler van 6 en 12 is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nl-BE" sz="2400" spc="-1" strike="noStrike">
                <a:solidFill>
                  <a:srgbClr val="0000ff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We delen nu noemer en teller door  </a:t>
            </a:r>
            <a:r>
              <a:rPr b="1" lang="nl-BE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46280" y="4435560"/>
            <a:ext cx="706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4363920"/>
            <a:ext cx="70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16200000">
            <a:off x="3192120" y="2671560"/>
            <a:ext cx="1440720" cy="367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5469000">
            <a:off x="3175920" y="3823560"/>
            <a:ext cx="1440720" cy="38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3080" y="3859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308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700280"/>
            <a:ext cx="43164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133720"/>
            <a:ext cx="43200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8900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e moeten nu          </a:t>
            </a:r>
            <a:r>
              <a:rPr b="1" lang="nl-BE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vereenvoud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4437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437000"/>
            <a:ext cx="71640" cy="1079640"/>
          </a:xfrm>
          <a:custGeom>
            <a:avLst/>
            <a:gdLst>
              <a:gd name="textAreaLeft" fmla="*/ 0 w 71640"/>
              <a:gd name="textAreaRight" fmla="*/ 25920 w 7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4437000"/>
            <a:ext cx="2160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it is een </a:t>
            </a:r>
            <a:r>
              <a:rPr b="0" lang="nl-BE" sz="1800" spc="-1" strike="noStrike">
                <a:solidFill>
                  <a:srgbClr val="ff0000"/>
                </a:solidFill>
                <a:latin typeface="Arial"/>
              </a:rPr>
              <a:t>vereenvoudigde bre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0000"/>
                </a:solidFill>
                <a:latin typeface="Arial"/>
              </a:rPr>
              <a:t>( de breuk heeft nog altijd </a:t>
            </a:r>
            <a:r>
              <a:rPr b="1" lang="nl-BE" sz="1000" spc="-1" strike="noStrike">
                <a:solidFill>
                  <a:srgbClr val="ff0000"/>
                </a:solidFill>
                <a:latin typeface="Arial"/>
              </a:rPr>
              <a:t>dezelfde</a:t>
            </a:r>
            <a:r>
              <a:rPr b="0" lang="nl-BE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nl-BE" sz="1000" spc="-1" strike="noStrike">
                <a:solidFill>
                  <a:srgbClr val="ff0000"/>
                </a:solidFill>
                <a:latin typeface="Arial"/>
              </a:rPr>
              <a:t>waarde</a:t>
            </a:r>
            <a:r>
              <a:rPr b="0" lang="nl-BE" sz="1000" spc="-1" strike="noStrike">
                <a:solidFill>
                  <a:srgbClr val="ff0000"/>
                </a:solidFill>
                <a:latin typeface="Arial"/>
              </a:rPr>
              <a:t> als 6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908000" y="40464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BREUKEN gelijknamig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2781360"/>
            <a:ext cx="820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We maken breuken </a:t>
            </a:r>
            <a:r>
              <a:rPr b="0" i="1" lang="nl-BE" sz="2800" spc="-1" strike="noStrike">
                <a:solidFill>
                  <a:srgbClr val="0000ff"/>
                </a:solidFill>
                <a:latin typeface="Arial"/>
              </a:rPr>
              <a:t>gelijknamig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breuken met elkaar te kunnen </a:t>
            </a:r>
            <a:r>
              <a:rPr b="0" lang="nl-BE" sz="2800" spc="-1" strike="noStrike">
                <a:solidFill>
                  <a:srgbClr val="008000"/>
                </a:solidFill>
                <a:latin typeface="Arial"/>
              </a:rPr>
              <a:t>vergel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breuken met elkaar te kunnen </a:t>
            </a:r>
            <a:r>
              <a:rPr b="0" lang="nl-BE" sz="2800" spc="-1" strike="noStrike">
                <a:solidFill>
                  <a:srgbClr val="008000"/>
                </a:solidFill>
                <a:latin typeface="Arial"/>
              </a:rPr>
              <a:t>op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breuken onderling </a:t>
            </a:r>
            <a:r>
              <a:rPr b="0" lang="nl-BE" sz="2800" spc="-1" strike="noStrike">
                <a:solidFill>
                  <a:srgbClr val="008000"/>
                </a:solidFill>
                <a:latin typeface="Arial"/>
              </a:rPr>
              <a:t>af te 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26828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GELIJKNAMIGE BREUKEN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zijn breuken met </a:t>
            </a:r>
            <a:r>
              <a:rPr b="0" i="1" lang="nl-BE" sz="1800" spc="-1" strike="noStrike">
                <a:solidFill>
                  <a:srgbClr val="ff0000"/>
                </a:solidFill>
                <a:latin typeface="Arial"/>
              </a:rPr>
              <a:t>eenzelfde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 no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ONGELIJKNAMIGE BREUKEN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zijn breuken met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een </a:t>
            </a:r>
            <a:r>
              <a:rPr b="0" i="1" lang="nl-BE" sz="1800" spc="-1" strike="noStrike">
                <a:solidFill>
                  <a:srgbClr val="ff0000"/>
                </a:solidFill>
                <a:latin typeface="Arial"/>
              </a:rPr>
              <a:t>verschillende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 no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50920" y="1413000"/>
            <a:ext cx="590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Sam eet  </a:t>
            </a:r>
            <a:r>
              <a:rPr b="0" lang="nl-BE" sz="1800" spc="-1" strike="noStrike" u="sng">
                <a:solidFill>
                  <a:srgbClr val="008000"/>
                </a:solidFill>
                <a:uFillTx/>
                <a:latin typeface="Comic Sans MS"/>
              </a:rPr>
              <a:t>5</a:t>
            </a: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 van een reep chocol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Sarah eet  </a:t>
            </a:r>
            <a:r>
              <a:rPr b="0" lang="nl-BE" sz="1800" spc="-1" strike="noStrike" u="sng">
                <a:solidFill>
                  <a:srgbClr val="008000"/>
                </a:solidFill>
                <a:uFillTx/>
                <a:latin typeface="Comic Sans MS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  van een even groot stuk chocol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Comic Sans MS"/>
              </a:rPr>
              <a:t>                 </a:t>
            </a:r>
            <a:r>
              <a:rPr b="0" lang="nl-BE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Wie eet het grootste stuk 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87280" y="189000"/>
          <a:ext cx="6697440" cy="1023840"/>
        </p:xfrm>
        <a:graphic>
          <a:graphicData uri="http://schemas.openxmlformats.org/drawingml/2006/table">
            <a:tbl>
              <a:tblPr/>
              <a:tblGrid>
                <a:gridCol w="66974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8d684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546200" y="3716280"/>
            <a:ext cx="6121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e gaan deze breuken  </a:t>
            </a:r>
            <a:r>
              <a:rPr b="1" i="1" lang="nl-BE" sz="1800" spc="-1" strike="noStrike">
                <a:solidFill>
                  <a:srgbClr val="008000"/>
                </a:solidFill>
                <a:latin typeface="Arial"/>
              </a:rPr>
              <a:t>vergelijken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m die breuken te kunnen vergelijken, moeten we werken met delen die EVEN GROOT zijn .We moeten daarom de breuken  eerst </a:t>
            </a:r>
            <a:r>
              <a:rPr b="1" i="1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gelijknamig</a:t>
            </a:r>
            <a:r>
              <a:rPr b="0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aken zodat we beide gehelen in dezelfde gelijke delen kunnen verde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373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m breuken GELIJKNAMIG te maken, zoeken we eerst het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kleinste gemeenschappelijke veelvoud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noe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40464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Stap 1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de veelvouden van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0 , 8,  16,  24,  32,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veelvouden van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0 ,  3,  6,   9,  12 , 15 , 18 , 21,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177336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Stap 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het kleinste gemeenschappelijke veelvoud van 8 en 3 =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421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Stap 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De nieuwe noemer wordt 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04640"/>
            <a:ext cx="43164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24720" y="836640"/>
            <a:ext cx="43200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78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3284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29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997360"/>
            <a:ext cx="48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2997360"/>
            <a:ext cx="6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5440" y="2924280"/>
            <a:ext cx="48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78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284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3080" y="29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2924280"/>
            <a:ext cx="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581360"/>
            <a:ext cx="853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m eet  </a:t>
            </a:r>
            <a:r>
              <a:rPr b="1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9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van een reep chocolade en Sarah  </a:t>
            </a:r>
            <a:r>
              <a:rPr b="1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2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Nu de noemers gelijk zijn </a:t>
            </a:r>
            <a:r>
              <a:rPr b="1" i="1" lang="nl-BE" sz="1800" spc="-1" strike="noStrike">
                <a:solidFill>
                  <a:srgbClr val="ff6600"/>
                </a:solidFill>
                <a:latin typeface="Arial"/>
              </a:rPr>
              <a:t>( GELIJKNAMIG),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kunnen we correct vergelij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Ons besluit:</a:t>
            </a: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   Sam eet het grootste st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50:20Z</dcterms:created>
  <dc:creator>Herman</dc:creator>
  <dc:description/>
  <dc:language>en-US</dc:language>
  <cp:lastModifiedBy>klascomputer</cp:lastModifiedBy>
  <dcterms:modified xsi:type="dcterms:W3CDTF">2009-12-08T10:47:12Z</dcterms:modified>
  <cp:revision>13</cp:revision>
  <dc:subject/>
  <dc:title>Dia 1</dc:title>
</cp:coreProperties>
</file>