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36B-728E-48A5-B28D-13BDB316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39D-E1EC-41BC-B438-4D0DEC6F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727-B127-4BAC-9D13-9F11516D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673-DEA3-4C7A-BA2A-D2FD2CC4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398-A2B4-46CB-81B3-BC69E685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C41-30A5-44F5-B20B-A307E324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D19-F7C2-4D31-9EC5-7EDC716F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363-2C9F-4974-86D0-5DB1A02C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821-154F-4E05-8233-C817B9FC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985-C666-45A9-AEEE-891DC490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869-9306-4987-BA07-C244311D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780-4747-460D-9F29-8B0A9F8D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B6A5-A7A0-40E5-9637-CE6269D12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rovincies-ANI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42916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5715000"/>
            <a:ext cx="861048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868686"/>
                  </a:outerShdw>
                </a:effectLst>
                <a:latin typeface="Arial Black"/>
              </a:rPr>
              <a:t>DE 10 PROVINCIES VAN BELG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57200" y="4038480"/>
            <a:ext cx="1447920" cy="129564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4138" h="21600">
                <a:moveTo>
                  <a:pt x="0" y="0"/>
                </a:moveTo>
                <a:lnTo>
                  <a:pt x="24138" y="0"/>
                </a:lnTo>
                <a:lnTo>
                  <a:pt x="24138" y="21600"/>
                </a:lnTo>
                <a:lnTo>
                  <a:pt x="0" y="21600"/>
                </a:lnTo>
                <a:close/>
              </a:path>
              <a:path fill="lightenLess" w="24138" h="21600">
                <a:moveTo>
                  <a:pt x="0" y="0"/>
                </a:moveTo>
                <a:lnTo>
                  <a:pt x="24138" y="0"/>
                </a:lnTo>
                <a:lnTo>
                  <a:pt x="22738" y="1400"/>
                </a:lnTo>
                <a:lnTo>
                  <a:pt x="1400" y="1400"/>
                </a:lnTo>
                <a:close/>
              </a:path>
              <a:path fill="darken" w="24138" h="21600">
                <a:moveTo>
                  <a:pt x="24138" y="0"/>
                </a:moveTo>
                <a:lnTo>
                  <a:pt x="24138" y="21600"/>
                </a:lnTo>
                <a:lnTo>
                  <a:pt x="22738" y="20200"/>
                </a:lnTo>
                <a:lnTo>
                  <a:pt x="22738" y="1400"/>
                </a:lnTo>
                <a:close/>
              </a:path>
              <a:path fill="darkenLess" w="24138" h="21600">
                <a:moveTo>
                  <a:pt x="24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8" y="20200"/>
                </a:lnTo>
                <a:close/>
              </a:path>
              <a:path fill="lighten" w="24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8" h="21600">
                <a:moveTo>
                  <a:pt x="5063" y="3794"/>
                </a:moveTo>
                <a:lnTo>
                  <a:pt x="19075" y="10800"/>
                </a:lnTo>
                <a:lnTo>
                  <a:pt x="5063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457200"/>
            <a:ext cx="2895480" cy="487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volgende sta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terugke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keuzemen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ik wil hul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stopp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8571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781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4960" y="26956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610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4495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53040" y="45720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9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Limburg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Vlaams-Brabant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Luik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Luxemburg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Namen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65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Je hebt ze allemaal juist. Keer terug naar het keuzemenu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Namen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80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81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82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83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84" name="orang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86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87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88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Brugge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orang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96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97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98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99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00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01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03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04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Antwerpen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12" name="orang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13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14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15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16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17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18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19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20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Aarlen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28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29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30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31" name="orang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32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33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34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35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36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aart%20provincies4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904760" cy="160344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609480" y="5562720"/>
            <a:ext cx="1219320" cy="99036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92" h="21600">
                <a:moveTo>
                  <a:pt x="0" y="0"/>
                </a:moveTo>
                <a:lnTo>
                  <a:pt x="26592" y="0"/>
                </a:lnTo>
                <a:lnTo>
                  <a:pt x="26592" y="21600"/>
                </a:lnTo>
                <a:lnTo>
                  <a:pt x="0" y="21600"/>
                </a:lnTo>
                <a:close/>
              </a:path>
              <a:path fill="lightenLess" w="26592" h="21600">
                <a:moveTo>
                  <a:pt x="0" y="0"/>
                </a:moveTo>
                <a:lnTo>
                  <a:pt x="26592" y="0"/>
                </a:lnTo>
                <a:lnTo>
                  <a:pt x="25192" y="1400"/>
                </a:lnTo>
                <a:lnTo>
                  <a:pt x="1400" y="1400"/>
                </a:lnTo>
                <a:close/>
              </a:path>
              <a:path fill="darken" w="26592" h="21600">
                <a:moveTo>
                  <a:pt x="26592" y="0"/>
                </a:moveTo>
                <a:lnTo>
                  <a:pt x="26592" y="21600"/>
                </a:lnTo>
                <a:lnTo>
                  <a:pt x="25192" y="20200"/>
                </a:lnTo>
                <a:lnTo>
                  <a:pt x="25192" y="1400"/>
                </a:lnTo>
                <a:close/>
              </a:path>
              <a:path fill="darkenLess" w="26592" h="21600">
                <a:moveTo>
                  <a:pt x="26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92" y="20200"/>
                </a:lnTo>
                <a:close/>
              </a:path>
              <a:path fill="lighten" w="26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92" h="21600">
                <a:moveTo>
                  <a:pt x="6289" y="3794"/>
                </a:moveTo>
                <a:lnTo>
                  <a:pt x="20302" y="10800"/>
                </a:lnTo>
                <a:lnTo>
                  <a:pt x="6289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kaart%20provincies4" descr=""/>
          <p:cNvPicPr/>
          <p:nvPr/>
        </p:nvPicPr>
        <p:blipFill>
          <a:blip r:embed="rId3"/>
          <a:stretch/>
        </p:blipFill>
        <p:spPr>
          <a:xfrm>
            <a:off x="2514600" y="1066680"/>
            <a:ext cx="1905120" cy="1603440"/>
          </a:xfrm>
          <a:prstGeom prst="rect">
            <a:avLst/>
          </a:prstGeom>
          <a:ln w="0">
            <a:noFill/>
          </a:ln>
        </p:spPr>
      </p:pic>
      <p:pic>
        <p:nvPicPr>
          <p:cNvPr id="55" name="kaart%20provincies4" descr=""/>
          <p:cNvPicPr/>
          <p:nvPr/>
        </p:nvPicPr>
        <p:blipFill>
          <a:blip r:embed="rId4"/>
          <a:stretch/>
        </p:blipFill>
        <p:spPr>
          <a:xfrm>
            <a:off x="4876920" y="1066680"/>
            <a:ext cx="1904760" cy="1603440"/>
          </a:xfrm>
          <a:prstGeom prst="rect">
            <a:avLst/>
          </a:prstGeom>
          <a:ln w="0">
            <a:noFill/>
          </a:ln>
        </p:spPr>
      </p:pic>
      <p:pic>
        <p:nvPicPr>
          <p:cNvPr id="56" name="kaart%20provincies4" descr=""/>
          <p:cNvPicPr/>
          <p:nvPr/>
        </p:nvPicPr>
        <p:blipFill>
          <a:blip r:embed="rId5"/>
          <a:stretch/>
        </p:blipFill>
        <p:spPr>
          <a:xfrm>
            <a:off x="7010280" y="1143000"/>
            <a:ext cx="1905120" cy="160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676520" y="30492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868686"/>
                  </a:outerShdw>
                </a:effectLst>
                <a:latin typeface="Arial Black"/>
              </a:rPr>
              <a:t>KEUZEMEN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2743200"/>
            <a:ext cx="2133720" cy="2705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VERKENNEN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Wil je eerst de </a:t>
            </a: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provincies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beter leren situeren dan kan je hier even de nodige informatie vinde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743200"/>
            <a:ext cx="2133360" cy="2705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VERKENNEN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Wil je eerst de </a:t>
            </a: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hoofdsteden van de provincies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beter leren situeren dan kan je hier even de nodige informatie vi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743200"/>
            <a:ext cx="2133720" cy="2705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TOETS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Wil je even testen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hoe het staat met jouw kennis in verband met de</a:t>
            </a:r>
            <a:br>
              <a:rPr sz="1800"/>
            </a:br>
            <a:r>
              <a:rPr b="1" lang="nl-BE" sz="1800" spc="-1" strike="noStrike">
                <a:solidFill>
                  <a:srgbClr val="0000ff"/>
                </a:solidFill>
                <a:latin typeface="Arial"/>
              </a:rPr>
              <a:t>provincies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dan kan je hier aan de sla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2743200"/>
            <a:ext cx="2152800" cy="2705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TOETS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Wil je even testen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hoe het staat met jouw kennis in verband met de 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hoofdsteden van de provincies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dan kan je hier aan de s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6" action="ppaction://hlinksldjump"/>
          </p:cNvPr>
          <p:cNvSpPr/>
          <p:nvPr/>
        </p:nvSpPr>
        <p:spPr>
          <a:xfrm>
            <a:off x="2819520" y="55627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3794"/>
                </a:moveTo>
                <a:lnTo>
                  <a:pt x="20298" y="10800"/>
                </a:lnTo>
                <a:lnTo>
                  <a:pt x="628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7" action="ppaction://hlinksldjump"/>
          </p:cNvPr>
          <p:cNvSpPr/>
          <p:nvPr/>
        </p:nvSpPr>
        <p:spPr>
          <a:xfrm>
            <a:off x="5029200" y="5562720"/>
            <a:ext cx="1219320" cy="99036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92" h="21600">
                <a:moveTo>
                  <a:pt x="0" y="0"/>
                </a:moveTo>
                <a:lnTo>
                  <a:pt x="26592" y="0"/>
                </a:lnTo>
                <a:lnTo>
                  <a:pt x="26592" y="21600"/>
                </a:lnTo>
                <a:lnTo>
                  <a:pt x="0" y="21600"/>
                </a:lnTo>
                <a:close/>
              </a:path>
              <a:path fill="lightenLess" w="26592" h="21600">
                <a:moveTo>
                  <a:pt x="0" y="0"/>
                </a:moveTo>
                <a:lnTo>
                  <a:pt x="26592" y="0"/>
                </a:lnTo>
                <a:lnTo>
                  <a:pt x="25192" y="1400"/>
                </a:lnTo>
                <a:lnTo>
                  <a:pt x="1400" y="1400"/>
                </a:lnTo>
                <a:close/>
              </a:path>
              <a:path fill="darken" w="26592" h="21600">
                <a:moveTo>
                  <a:pt x="26592" y="0"/>
                </a:moveTo>
                <a:lnTo>
                  <a:pt x="26592" y="21600"/>
                </a:lnTo>
                <a:lnTo>
                  <a:pt x="25192" y="20200"/>
                </a:lnTo>
                <a:lnTo>
                  <a:pt x="25192" y="1400"/>
                </a:lnTo>
                <a:close/>
              </a:path>
              <a:path fill="darkenLess" w="26592" h="21600">
                <a:moveTo>
                  <a:pt x="26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92" y="20200"/>
                </a:lnTo>
                <a:close/>
              </a:path>
              <a:path fill="lighten" w="26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92" h="21600">
                <a:moveTo>
                  <a:pt x="6289" y="3794"/>
                </a:moveTo>
                <a:lnTo>
                  <a:pt x="20302" y="10800"/>
                </a:lnTo>
                <a:lnTo>
                  <a:pt x="6289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5562720"/>
            <a:ext cx="1219320" cy="99036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92" h="21600">
                <a:moveTo>
                  <a:pt x="0" y="0"/>
                </a:moveTo>
                <a:lnTo>
                  <a:pt x="26592" y="0"/>
                </a:lnTo>
                <a:lnTo>
                  <a:pt x="26592" y="21600"/>
                </a:lnTo>
                <a:lnTo>
                  <a:pt x="0" y="21600"/>
                </a:lnTo>
                <a:close/>
              </a:path>
              <a:path fill="lightenLess" w="26592" h="21600">
                <a:moveTo>
                  <a:pt x="0" y="0"/>
                </a:moveTo>
                <a:lnTo>
                  <a:pt x="26592" y="0"/>
                </a:lnTo>
                <a:lnTo>
                  <a:pt x="25192" y="1400"/>
                </a:lnTo>
                <a:lnTo>
                  <a:pt x="1400" y="1400"/>
                </a:lnTo>
                <a:close/>
              </a:path>
              <a:path fill="darken" w="26592" h="21600">
                <a:moveTo>
                  <a:pt x="26592" y="0"/>
                </a:moveTo>
                <a:lnTo>
                  <a:pt x="26592" y="21600"/>
                </a:lnTo>
                <a:lnTo>
                  <a:pt x="25192" y="20200"/>
                </a:lnTo>
                <a:lnTo>
                  <a:pt x="25192" y="1400"/>
                </a:lnTo>
                <a:close/>
              </a:path>
              <a:path fill="darkenLess" w="26592" h="21600">
                <a:moveTo>
                  <a:pt x="26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92" y="20200"/>
                </a:lnTo>
                <a:close/>
              </a:path>
              <a:path fill="lighten" w="26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92" h="21600">
                <a:moveTo>
                  <a:pt x="6289" y="3794"/>
                </a:moveTo>
                <a:lnTo>
                  <a:pt x="20302" y="10800"/>
                </a:lnTo>
                <a:lnTo>
                  <a:pt x="6289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Bergen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41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44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45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46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47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48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49" name="orang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50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51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52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Gent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60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61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62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3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64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65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66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67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68" name="orang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Leuven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76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77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8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79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80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81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82" name="orang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83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84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Luik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89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92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93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94" name="orang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95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96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97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98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99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00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Waver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08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09" name="orang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10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11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12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13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14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15" name="orang" descr="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16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ff0000"/>
                </a:solidFill>
                <a:latin typeface="Arial"/>
              </a:rPr>
              <a:t>Hasselt ?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lik op de hoofdplaats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421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orang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24" name="orang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25" name="orang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26" name="orang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27" name="orang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28" name="orang" descr="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29" name="orang" descr="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30" name="orang" descr="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31" name="orang" descr="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32" name="orang" descr="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kaart%20provincies4" descr=""/>
          <p:cNvPicPr/>
          <p:nvPr/>
        </p:nvPicPr>
        <p:blipFill>
          <a:blip r:embed="rId1"/>
          <a:stretch/>
        </p:blipFill>
        <p:spPr>
          <a:xfrm>
            <a:off x="1295280" y="18576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Je hebt ze allemaal juist. Keer terug naar het keuze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orang" descr=""/>
          <p:cNvPicPr/>
          <p:nvPr/>
        </p:nvPicPr>
        <p:blipFill>
          <a:blip r:embed="rId2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40" name="orang" descr=""/>
          <p:cNvPicPr/>
          <p:nvPr/>
        </p:nvPicPr>
        <p:blipFill>
          <a:blip r:embed="rId3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41" name="orang" descr=""/>
          <p:cNvPicPr/>
          <p:nvPr/>
        </p:nvPicPr>
        <p:blipFill>
          <a:blip r:embed="rId4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42" name="orang" descr=""/>
          <p:cNvPicPr/>
          <p:nvPr/>
        </p:nvPicPr>
        <p:blipFill>
          <a:blip r:embed="rId5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43" name="orang" descr=""/>
          <p:cNvPicPr/>
          <p:nvPr/>
        </p:nvPicPr>
        <p:blipFill>
          <a:blip r:embed="rId6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44" name="orang" descr=""/>
          <p:cNvPicPr/>
          <p:nvPr/>
        </p:nvPicPr>
        <p:blipFill>
          <a:blip r:embed="rId7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45" name="orang" descr=""/>
          <p:cNvPicPr/>
          <p:nvPr/>
        </p:nvPicPr>
        <p:blipFill>
          <a:blip r:embed="rId8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46" name="orang" descr=""/>
          <p:cNvPicPr/>
          <p:nvPr/>
        </p:nvPicPr>
        <p:blipFill>
          <a:blip r:embed="rId9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47" name="orang" descr=""/>
          <p:cNvPicPr/>
          <p:nvPr/>
        </p:nvPicPr>
        <p:blipFill>
          <a:blip r:embed="rId10"/>
          <a:stretch/>
        </p:blipFill>
        <p:spPr>
          <a:xfrm>
            <a:off x="5257800" y="26989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48" name="orang" descr=""/>
          <p:cNvPicPr/>
          <p:nvPr/>
        </p:nvPicPr>
        <p:blipFill>
          <a:blip r:embed="rId11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kaart%20provincies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09680" y="380880"/>
            <a:ext cx="4572000" cy="38512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533520" y="4343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Je maakte een foutje</a:t>
            </a:r>
            <a:br>
              <a:rPr sz="3600"/>
            </a:b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robeer het eens opnieu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3962520" y="56386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kaart%20provincies4" descr=""/>
          <p:cNvPicPr/>
          <p:nvPr/>
        </p:nvPicPr>
        <p:blipFill>
          <a:blip r:embed="rId1"/>
          <a:stretch/>
        </p:blipFill>
        <p:spPr>
          <a:xfrm>
            <a:off x="1295280" y="181080"/>
            <a:ext cx="7543800" cy="6352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" y="4114800"/>
            <a:ext cx="3733920" cy="2549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00ff"/>
                </a:solidFill>
                <a:uFillTx/>
                <a:latin typeface="Arial"/>
              </a:rPr>
              <a:t>PROVINCIES</a:t>
            </a: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400" spc="-1" strike="noStrike" u="sng">
                <a:solidFill>
                  <a:srgbClr val="ff0000"/>
                </a:solidFill>
                <a:uFillTx/>
                <a:latin typeface="Arial"/>
              </a:rPr>
              <a:t>HOOFDST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Oost-Vlaander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Gent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West-Vlaander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Brugge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Antwerp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Antwerpen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Limburg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Hasselt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Vlaams-Brabant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Leuv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Waals-Brabant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Waver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Henegouw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Bergen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Nam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Namen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Luik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Luik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Luxemburg</a:t>
            </a: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Aar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1600200"/>
            <a:ext cx="2361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West-Vlaand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1176480"/>
            <a:ext cx="2362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Oost-Vlaand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91440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Antwer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1523880"/>
            <a:ext cx="1295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Limbu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33760" y="1981080"/>
            <a:ext cx="1905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Vlaams-Brab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81640" y="2724120"/>
            <a:ext cx="1828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Waals-Brab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3200400"/>
            <a:ext cx="1600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Henegouw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304812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Lu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373392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Na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464832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Luxembu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76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 u="sng">
                <a:solidFill>
                  <a:srgbClr val="0000ff"/>
                </a:solidFill>
                <a:uFillTx/>
                <a:latin typeface="Arial"/>
              </a:rPr>
              <a:t>De provi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502920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411480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aart%20provincies4" descr=""/>
          <p:cNvPicPr/>
          <p:nvPr/>
        </p:nvPicPr>
        <p:blipFill>
          <a:blip r:embed="rId1"/>
          <a:stretch/>
        </p:blipFill>
        <p:spPr>
          <a:xfrm>
            <a:off x="1295280" y="181080"/>
            <a:ext cx="7543800" cy="6352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4114800"/>
            <a:ext cx="3733920" cy="2549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00ff"/>
                </a:solidFill>
                <a:uFillTx/>
                <a:latin typeface="Arial"/>
              </a:rPr>
              <a:t>PROVINCIES</a:t>
            </a: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400" spc="-1" strike="noStrike" u="sng">
                <a:solidFill>
                  <a:srgbClr val="ff0000"/>
                </a:solidFill>
                <a:uFillTx/>
                <a:latin typeface="Arial"/>
              </a:rPr>
              <a:t>HOOFDST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Oost-Vlaander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Gent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West-Vlaander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Brugge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Antwerp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Antwerpen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Limburg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Hasselt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Vlaams-Brabant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Leuv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Waals-Brabant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Waver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Henegouw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Bergen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Namen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Namen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Luik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Luik</a:t>
            </a:r>
            <a:br>
              <a:rPr sz="1400"/>
            </a:b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Luxemburg</a:t>
            </a: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1400" spc="-1" strike="noStrike">
                <a:solidFill>
                  <a:srgbClr val="ff0000"/>
                </a:solidFill>
                <a:latin typeface="Arial"/>
              </a:rPr>
              <a:t>Aar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62080" y="1152360"/>
            <a:ext cx="9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Brug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14920" y="120636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Antwer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53280" y="200988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Hass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2724120"/>
            <a:ext cx="852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Wa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3840" y="3473280"/>
            <a:ext cx="1600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Ber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97648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Lu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48160" y="3476520"/>
            <a:ext cx="1295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Na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5715000"/>
            <a:ext cx="1295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Aar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rang" descr=""/>
          <p:cNvPicPr/>
          <p:nvPr/>
        </p:nvPicPr>
        <p:blipFill>
          <a:blip r:embed="rId2"/>
          <a:stretch/>
        </p:blipFill>
        <p:spPr>
          <a:xfrm>
            <a:off x="2529000" y="111456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3" name="orang" descr=""/>
          <p:cNvPicPr/>
          <p:nvPr/>
        </p:nvPicPr>
        <p:blipFill>
          <a:blip r:embed="rId3"/>
          <a:stretch/>
        </p:blipFill>
        <p:spPr>
          <a:xfrm>
            <a:off x="3584520" y="16034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4" name="orang" descr=""/>
          <p:cNvPicPr/>
          <p:nvPr/>
        </p:nvPicPr>
        <p:blipFill>
          <a:blip r:embed="rId4"/>
          <a:stretch/>
        </p:blipFill>
        <p:spPr>
          <a:xfrm>
            <a:off x="4803840" y="114624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5" name="orang" descr=""/>
          <p:cNvPicPr/>
          <p:nvPr/>
        </p:nvPicPr>
        <p:blipFill>
          <a:blip r:embed="rId5"/>
          <a:stretch/>
        </p:blipFill>
        <p:spPr>
          <a:xfrm>
            <a:off x="5413320" y="2060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6" name="orang" descr=""/>
          <p:cNvPicPr/>
          <p:nvPr/>
        </p:nvPicPr>
        <p:blipFill>
          <a:blip r:embed="rId6"/>
          <a:stretch/>
        </p:blipFill>
        <p:spPr>
          <a:xfrm>
            <a:off x="6632640" y="198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7" name="orang" descr=""/>
          <p:cNvPicPr/>
          <p:nvPr/>
        </p:nvPicPr>
        <p:blipFill>
          <a:blip r:embed="rId7"/>
          <a:stretch/>
        </p:blipFill>
        <p:spPr>
          <a:xfrm>
            <a:off x="3965400" y="3432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8" name="orang" descr=""/>
          <p:cNvPicPr/>
          <p:nvPr/>
        </p:nvPicPr>
        <p:blipFill>
          <a:blip r:embed="rId8"/>
          <a:stretch/>
        </p:blipFill>
        <p:spPr>
          <a:xfrm>
            <a:off x="5718240" y="3429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9" name="orang" descr=""/>
          <p:cNvPicPr/>
          <p:nvPr/>
        </p:nvPicPr>
        <p:blipFill>
          <a:blip r:embed="rId9"/>
          <a:stretch/>
        </p:blipFill>
        <p:spPr>
          <a:xfrm>
            <a:off x="7086600" y="28954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0" name="orang" descr=""/>
          <p:cNvPicPr/>
          <p:nvPr/>
        </p:nvPicPr>
        <p:blipFill>
          <a:blip r:embed="rId10"/>
          <a:stretch/>
        </p:blipFill>
        <p:spPr>
          <a:xfrm>
            <a:off x="7547040" y="5675400"/>
            <a:ext cx="149040" cy="149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05160" y="1676520"/>
            <a:ext cx="9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116080"/>
            <a:ext cx="9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rang" descr=""/>
          <p:cNvPicPr/>
          <p:nvPr/>
        </p:nvPicPr>
        <p:blipFill>
          <a:blip r:embed="rId11"/>
          <a:stretch/>
        </p:blipFill>
        <p:spPr>
          <a:xfrm>
            <a:off x="5257800" y="267012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280" y="76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 u="sng">
                <a:solidFill>
                  <a:srgbClr val="ff0000"/>
                </a:solidFill>
                <a:uFillTx/>
                <a:latin typeface="Arial"/>
              </a:rPr>
              <a:t>De hoofdste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2" action="ppaction://hlinksldjump"/>
          </p:cNvPr>
          <p:cNvSpPr/>
          <p:nvPr/>
        </p:nvSpPr>
        <p:spPr>
          <a:xfrm>
            <a:off x="502920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1480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Oost-Vlaanderen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West-Vlaanderen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Henegouwen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las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Antwerpen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kaart%20provincies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543800" cy="6353280"/>
          </a:xfrm>
          <a:prstGeom prst="rect">
            <a:avLst/>
          </a:prstGeom>
          <a:ln w="0">
            <a:noFill/>
          </a:ln>
        </p:spPr>
      </p:pic>
      <p:sp>
        <p:nvSpPr>
          <p:cNvPr id="173" name="">
            <a:hlinkClick r:id="" action="ppaction://hlinkshowjump?jump=lastslide"/>
          </p:cNvPr>
          <p:cNvSpPr/>
          <p:nvPr/>
        </p:nvSpPr>
        <p:spPr>
          <a:xfrm>
            <a:off x="1514520" y="857160"/>
            <a:ext cx="1528560" cy="1657440"/>
          </a:xfrm>
          <a:custGeom>
            <a:avLst/>
            <a:gdLst/>
            <a:ahLst/>
            <a:rect l="l" t="t" r="r" b="b"/>
            <a:pathLst>
              <a:path w="963" h="1044">
                <a:moveTo>
                  <a:pt x="792" y="0"/>
                </a:moveTo>
                <a:cubicBezTo>
                  <a:pt x="741" y="17"/>
                  <a:pt x="753" y="25"/>
                  <a:pt x="720" y="54"/>
                </a:cubicBezTo>
                <a:cubicBezTo>
                  <a:pt x="686" y="84"/>
                  <a:pt x="639" y="116"/>
                  <a:pt x="603" y="144"/>
                </a:cubicBezTo>
                <a:cubicBezTo>
                  <a:pt x="503" y="222"/>
                  <a:pt x="366" y="259"/>
                  <a:pt x="243" y="270"/>
                </a:cubicBezTo>
                <a:cubicBezTo>
                  <a:pt x="242" y="270"/>
                  <a:pt x="180" y="281"/>
                  <a:pt x="171" y="288"/>
                </a:cubicBezTo>
                <a:cubicBezTo>
                  <a:pt x="159" y="298"/>
                  <a:pt x="154" y="313"/>
                  <a:pt x="144" y="324"/>
                </a:cubicBezTo>
                <a:cubicBezTo>
                  <a:pt x="136" y="334"/>
                  <a:pt x="127" y="343"/>
                  <a:pt x="117" y="351"/>
                </a:cubicBezTo>
                <a:cubicBezTo>
                  <a:pt x="76" y="383"/>
                  <a:pt x="37" y="404"/>
                  <a:pt x="0" y="441"/>
                </a:cubicBezTo>
                <a:cubicBezTo>
                  <a:pt x="3" y="501"/>
                  <a:pt x="4" y="561"/>
                  <a:pt x="9" y="621"/>
                </a:cubicBezTo>
                <a:cubicBezTo>
                  <a:pt x="15" y="694"/>
                  <a:pt x="61" y="773"/>
                  <a:pt x="90" y="837"/>
                </a:cubicBezTo>
                <a:cubicBezTo>
                  <a:pt x="109" y="879"/>
                  <a:pt x="113" y="948"/>
                  <a:pt x="162" y="972"/>
                </a:cubicBezTo>
                <a:cubicBezTo>
                  <a:pt x="173" y="977"/>
                  <a:pt x="240" y="994"/>
                  <a:pt x="261" y="999"/>
                </a:cubicBezTo>
                <a:cubicBezTo>
                  <a:pt x="300" y="996"/>
                  <a:pt x="342" y="1005"/>
                  <a:pt x="378" y="990"/>
                </a:cubicBezTo>
                <a:cubicBezTo>
                  <a:pt x="406" y="979"/>
                  <a:pt x="413" y="936"/>
                  <a:pt x="441" y="927"/>
                </a:cubicBezTo>
                <a:cubicBezTo>
                  <a:pt x="450" y="924"/>
                  <a:pt x="459" y="921"/>
                  <a:pt x="468" y="918"/>
                </a:cubicBezTo>
                <a:cubicBezTo>
                  <a:pt x="513" y="926"/>
                  <a:pt x="542" y="942"/>
                  <a:pt x="585" y="954"/>
                </a:cubicBezTo>
                <a:cubicBezTo>
                  <a:pt x="632" y="968"/>
                  <a:pt x="683" y="970"/>
                  <a:pt x="729" y="990"/>
                </a:cubicBezTo>
                <a:cubicBezTo>
                  <a:pt x="784" y="1013"/>
                  <a:pt x="831" y="1034"/>
                  <a:pt x="891" y="1044"/>
                </a:cubicBezTo>
                <a:cubicBezTo>
                  <a:pt x="912" y="1041"/>
                  <a:pt x="935" y="1044"/>
                  <a:pt x="954" y="1035"/>
                </a:cubicBezTo>
                <a:cubicBezTo>
                  <a:pt x="962" y="1031"/>
                  <a:pt x="963" y="1017"/>
                  <a:pt x="963" y="1008"/>
                </a:cubicBezTo>
                <a:cubicBezTo>
                  <a:pt x="963" y="881"/>
                  <a:pt x="953" y="845"/>
                  <a:pt x="873" y="765"/>
                </a:cubicBezTo>
                <a:cubicBezTo>
                  <a:pt x="827" y="628"/>
                  <a:pt x="879" y="800"/>
                  <a:pt x="846" y="513"/>
                </a:cubicBezTo>
                <a:cubicBezTo>
                  <a:pt x="843" y="488"/>
                  <a:pt x="825" y="466"/>
                  <a:pt x="819" y="441"/>
                </a:cubicBezTo>
                <a:cubicBezTo>
                  <a:pt x="816" y="376"/>
                  <a:pt x="773" y="198"/>
                  <a:pt x="855" y="144"/>
                </a:cubicBezTo>
                <a:cubicBezTo>
                  <a:pt x="861" y="135"/>
                  <a:pt x="873" y="117"/>
                  <a:pt x="873" y="117"/>
                </a:cubicBezTo>
                <a:lnTo>
                  <a:pt x="79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lastslide"/>
          </p:cNvPr>
          <p:cNvSpPr/>
          <p:nvPr/>
        </p:nvSpPr>
        <p:spPr>
          <a:xfrm>
            <a:off x="3009960" y="1028880"/>
            <a:ext cx="1633320" cy="1511280"/>
          </a:xfrm>
          <a:custGeom>
            <a:avLst/>
            <a:gdLst/>
            <a:ahLst/>
            <a:rect l="l" t="t" r="r" b="b"/>
            <a:pathLst>
              <a:path w="1029" h="952">
                <a:moveTo>
                  <a:pt x="390" y="72"/>
                </a:moveTo>
                <a:cubicBezTo>
                  <a:pt x="338" y="55"/>
                  <a:pt x="310" y="45"/>
                  <a:pt x="264" y="18"/>
                </a:cubicBezTo>
                <a:cubicBezTo>
                  <a:pt x="246" y="21"/>
                  <a:pt x="227" y="20"/>
                  <a:pt x="210" y="27"/>
                </a:cubicBezTo>
                <a:cubicBezTo>
                  <a:pt x="178" y="41"/>
                  <a:pt x="174" y="86"/>
                  <a:pt x="147" y="108"/>
                </a:cubicBezTo>
                <a:cubicBezTo>
                  <a:pt x="120" y="130"/>
                  <a:pt x="48" y="144"/>
                  <a:pt x="48" y="144"/>
                </a:cubicBezTo>
                <a:cubicBezTo>
                  <a:pt x="0" y="216"/>
                  <a:pt x="10" y="328"/>
                  <a:pt x="48" y="405"/>
                </a:cubicBezTo>
                <a:cubicBezTo>
                  <a:pt x="58" y="424"/>
                  <a:pt x="72" y="441"/>
                  <a:pt x="84" y="459"/>
                </a:cubicBezTo>
                <a:cubicBezTo>
                  <a:pt x="90" y="468"/>
                  <a:pt x="102" y="486"/>
                  <a:pt x="102" y="486"/>
                </a:cubicBezTo>
                <a:cubicBezTo>
                  <a:pt x="121" y="562"/>
                  <a:pt x="126" y="633"/>
                  <a:pt x="138" y="711"/>
                </a:cubicBezTo>
                <a:cubicBezTo>
                  <a:pt x="144" y="752"/>
                  <a:pt x="179" y="780"/>
                  <a:pt x="192" y="819"/>
                </a:cubicBezTo>
                <a:cubicBezTo>
                  <a:pt x="195" y="858"/>
                  <a:pt x="180" y="903"/>
                  <a:pt x="201" y="936"/>
                </a:cubicBezTo>
                <a:cubicBezTo>
                  <a:pt x="211" y="952"/>
                  <a:pt x="237" y="924"/>
                  <a:pt x="255" y="918"/>
                </a:cubicBezTo>
                <a:cubicBezTo>
                  <a:pt x="289" y="907"/>
                  <a:pt x="320" y="884"/>
                  <a:pt x="354" y="873"/>
                </a:cubicBezTo>
                <a:cubicBezTo>
                  <a:pt x="438" y="885"/>
                  <a:pt x="413" y="891"/>
                  <a:pt x="480" y="918"/>
                </a:cubicBezTo>
                <a:cubicBezTo>
                  <a:pt x="498" y="925"/>
                  <a:pt x="534" y="936"/>
                  <a:pt x="534" y="936"/>
                </a:cubicBezTo>
                <a:cubicBezTo>
                  <a:pt x="561" y="933"/>
                  <a:pt x="590" y="937"/>
                  <a:pt x="615" y="927"/>
                </a:cubicBezTo>
                <a:cubicBezTo>
                  <a:pt x="624" y="923"/>
                  <a:pt x="620" y="908"/>
                  <a:pt x="624" y="900"/>
                </a:cubicBezTo>
                <a:cubicBezTo>
                  <a:pt x="629" y="890"/>
                  <a:pt x="634" y="880"/>
                  <a:pt x="642" y="873"/>
                </a:cubicBezTo>
                <a:cubicBezTo>
                  <a:pt x="658" y="860"/>
                  <a:pt x="679" y="857"/>
                  <a:pt x="696" y="846"/>
                </a:cubicBezTo>
                <a:cubicBezTo>
                  <a:pt x="726" y="787"/>
                  <a:pt x="712" y="718"/>
                  <a:pt x="741" y="666"/>
                </a:cubicBezTo>
                <a:cubicBezTo>
                  <a:pt x="780" y="596"/>
                  <a:pt x="805" y="611"/>
                  <a:pt x="858" y="558"/>
                </a:cubicBezTo>
                <a:cubicBezTo>
                  <a:pt x="889" y="464"/>
                  <a:pt x="877" y="523"/>
                  <a:pt x="867" y="378"/>
                </a:cubicBezTo>
                <a:cubicBezTo>
                  <a:pt x="870" y="354"/>
                  <a:pt x="867" y="328"/>
                  <a:pt x="876" y="306"/>
                </a:cubicBezTo>
                <a:cubicBezTo>
                  <a:pt x="880" y="296"/>
                  <a:pt x="971" y="256"/>
                  <a:pt x="984" y="252"/>
                </a:cubicBezTo>
                <a:cubicBezTo>
                  <a:pt x="1025" y="190"/>
                  <a:pt x="1013" y="219"/>
                  <a:pt x="1029" y="171"/>
                </a:cubicBezTo>
                <a:cubicBezTo>
                  <a:pt x="1027" y="159"/>
                  <a:pt x="1002" y="12"/>
                  <a:pt x="993" y="9"/>
                </a:cubicBezTo>
                <a:cubicBezTo>
                  <a:pt x="984" y="6"/>
                  <a:pt x="975" y="3"/>
                  <a:pt x="966" y="0"/>
                </a:cubicBezTo>
                <a:cubicBezTo>
                  <a:pt x="928" y="26"/>
                  <a:pt x="906" y="64"/>
                  <a:pt x="867" y="90"/>
                </a:cubicBezTo>
                <a:cubicBezTo>
                  <a:pt x="814" y="169"/>
                  <a:pt x="679" y="210"/>
                  <a:pt x="588" y="225"/>
                </a:cubicBezTo>
                <a:cubicBezTo>
                  <a:pt x="561" y="222"/>
                  <a:pt x="533" y="224"/>
                  <a:pt x="507" y="216"/>
                </a:cubicBezTo>
                <a:cubicBezTo>
                  <a:pt x="463" y="203"/>
                  <a:pt x="471" y="168"/>
                  <a:pt x="426" y="153"/>
                </a:cubicBezTo>
                <a:cubicBezTo>
                  <a:pt x="419" y="146"/>
                  <a:pt x="343" y="72"/>
                  <a:pt x="390" y="7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lastslide"/>
          </p:cNvPr>
          <p:cNvSpPr/>
          <p:nvPr/>
        </p:nvSpPr>
        <p:spPr>
          <a:xfrm>
            <a:off x="4641840" y="455760"/>
            <a:ext cx="1731960" cy="1301760"/>
          </a:xfrm>
          <a:custGeom>
            <a:avLst/>
            <a:gdLst/>
            <a:ahLst/>
            <a:rect l="l" t="t" r="r" b="b"/>
            <a:pathLst>
              <a:path w="1091" h="820">
                <a:moveTo>
                  <a:pt x="280" y="37"/>
                </a:moveTo>
                <a:cubicBezTo>
                  <a:pt x="218" y="58"/>
                  <a:pt x="220" y="46"/>
                  <a:pt x="199" y="109"/>
                </a:cubicBezTo>
                <a:cubicBezTo>
                  <a:pt x="202" y="124"/>
                  <a:pt x="201" y="140"/>
                  <a:pt x="208" y="154"/>
                </a:cubicBezTo>
                <a:cubicBezTo>
                  <a:pt x="214" y="165"/>
                  <a:pt x="228" y="170"/>
                  <a:pt x="235" y="181"/>
                </a:cubicBezTo>
                <a:cubicBezTo>
                  <a:pt x="240" y="189"/>
                  <a:pt x="241" y="199"/>
                  <a:pt x="244" y="208"/>
                </a:cubicBezTo>
                <a:cubicBezTo>
                  <a:pt x="241" y="220"/>
                  <a:pt x="242" y="234"/>
                  <a:pt x="235" y="244"/>
                </a:cubicBezTo>
                <a:cubicBezTo>
                  <a:pt x="209" y="283"/>
                  <a:pt x="107" y="285"/>
                  <a:pt x="73" y="289"/>
                </a:cubicBezTo>
                <a:cubicBezTo>
                  <a:pt x="76" y="298"/>
                  <a:pt x="76" y="309"/>
                  <a:pt x="82" y="316"/>
                </a:cubicBezTo>
                <a:cubicBezTo>
                  <a:pt x="89" y="324"/>
                  <a:pt x="103" y="325"/>
                  <a:pt x="109" y="334"/>
                </a:cubicBezTo>
                <a:cubicBezTo>
                  <a:pt x="119" y="350"/>
                  <a:pt x="127" y="388"/>
                  <a:pt x="127" y="388"/>
                </a:cubicBezTo>
                <a:cubicBezTo>
                  <a:pt x="110" y="454"/>
                  <a:pt x="104" y="508"/>
                  <a:pt x="127" y="577"/>
                </a:cubicBezTo>
                <a:cubicBezTo>
                  <a:pt x="124" y="602"/>
                  <a:pt x="126" y="697"/>
                  <a:pt x="82" y="712"/>
                </a:cubicBezTo>
                <a:cubicBezTo>
                  <a:pt x="64" y="718"/>
                  <a:pt x="46" y="724"/>
                  <a:pt x="28" y="730"/>
                </a:cubicBezTo>
                <a:cubicBezTo>
                  <a:pt x="19" y="733"/>
                  <a:pt x="1" y="739"/>
                  <a:pt x="1" y="739"/>
                </a:cubicBezTo>
                <a:cubicBezTo>
                  <a:pt x="4" y="751"/>
                  <a:pt x="0" y="768"/>
                  <a:pt x="10" y="775"/>
                </a:cubicBezTo>
                <a:cubicBezTo>
                  <a:pt x="31" y="789"/>
                  <a:pt x="58" y="787"/>
                  <a:pt x="82" y="793"/>
                </a:cubicBezTo>
                <a:cubicBezTo>
                  <a:pt x="136" y="806"/>
                  <a:pt x="189" y="813"/>
                  <a:pt x="244" y="820"/>
                </a:cubicBezTo>
                <a:cubicBezTo>
                  <a:pt x="324" y="800"/>
                  <a:pt x="394" y="798"/>
                  <a:pt x="478" y="793"/>
                </a:cubicBezTo>
                <a:cubicBezTo>
                  <a:pt x="535" y="782"/>
                  <a:pt x="649" y="766"/>
                  <a:pt x="649" y="766"/>
                </a:cubicBezTo>
                <a:cubicBezTo>
                  <a:pt x="703" y="748"/>
                  <a:pt x="757" y="730"/>
                  <a:pt x="811" y="712"/>
                </a:cubicBezTo>
                <a:cubicBezTo>
                  <a:pt x="846" y="700"/>
                  <a:pt x="886" y="702"/>
                  <a:pt x="919" y="685"/>
                </a:cubicBezTo>
                <a:cubicBezTo>
                  <a:pt x="960" y="664"/>
                  <a:pt x="981" y="628"/>
                  <a:pt x="1027" y="613"/>
                </a:cubicBezTo>
                <a:cubicBezTo>
                  <a:pt x="1036" y="604"/>
                  <a:pt x="1052" y="599"/>
                  <a:pt x="1054" y="586"/>
                </a:cubicBezTo>
                <a:cubicBezTo>
                  <a:pt x="1066" y="521"/>
                  <a:pt x="1091" y="443"/>
                  <a:pt x="1054" y="388"/>
                </a:cubicBezTo>
                <a:cubicBezTo>
                  <a:pt x="1048" y="379"/>
                  <a:pt x="1035" y="378"/>
                  <a:pt x="1027" y="370"/>
                </a:cubicBezTo>
                <a:cubicBezTo>
                  <a:pt x="1014" y="357"/>
                  <a:pt x="970" y="289"/>
                  <a:pt x="964" y="280"/>
                </a:cubicBezTo>
                <a:cubicBezTo>
                  <a:pt x="936" y="238"/>
                  <a:pt x="922" y="262"/>
                  <a:pt x="901" y="199"/>
                </a:cubicBezTo>
                <a:cubicBezTo>
                  <a:pt x="904" y="184"/>
                  <a:pt x="910" y="169"/>
                  <a:pt x="910" y="154"/>
                </a:cubicBezTo>
                <a:cubicBezTo>
                  <a:pt x="910" y="142"/>
                  <a:pt x="913" y="118"/>
                  <a:pt x="901" y="118"/>
                </a:cubicBezTo>
                <a:cubicBezTo>
                  <a:pt x="879" y="118"/>
                  <a:pt x="847" y="154"/>
                  <a:pt x="847" y="154"/>
                </a:cubicBezTo>
                <a:cubicBezTo>
                  <a:pt x="805" y="217"/>
                  <a:pt x="829" y="196"/>
                  <a:pt x="784" y="226"/>
                </a:cubicBezTo>
                <a:cubicBezTo>
                  <a:pt x="720" y="183"/>
                  <a:pt x="653" y="178"/>
                  <a:pt x="577" y="172"/>
                </a:cubicBezTo>
                <a:cubicBezTo>
                  <a:pt x="562" y="128"/>
                  <a:pt x="533" y="85"/>
                  <a:pt x="595" y="64"/>
                </a:cubicBezTo>
                <a:cubicBezTo>
                  <a:pt x="638" y="0"/>
                  <a:pt x="577" y="52"/>
                  <a:pt x="559" y="64"/>
                </a:cubicBezTo>
                <a:cubicBezTo>
                  <a:pt x="539" y="95"/>
                  <a:pt x="516" y="123"/>
                  <a:pt x="496" y="154"/>
                </a:cubicBezTo>
                <a:cubicBezTo>
                  <a:pt x="303" y="145"/>
                  <a:pt x="280" y="194"/>
                  <a:pt x="280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lastslide"/>
          </p:cNvPr>
          <p:cNvSpPr/>
          <p:nvPr/>
        </p:nvSpPr>
        <p:spPr>
          <a:xfrm>
            <a:off x="4119480" y="1828800"/>
            <a:ext cx="2095560" cy="944640"/>
          </a:xfrm>
          <a:custGeom>
            <a:avLst/>
            <a:gdLst/>
            <a:ahLst/>
            <a:rect l="l" t="t" r="r" b="b"/>
            <a:pathLst>
              <a:path w="1320" h="595">
                <a:moveTo>
                  <a:pt x="339" y="0"/>
                </a:moveTo>
                <a:cubicBezTo>
                  <a:pt x="332" y="36"/>
                  <a:pt x="328" y="71"/>
                  <a:pt x="303" y="99"/>
                </a:cubicBezTo>
                <a:cubicBezTo>
                  <a:pt x="286" y="118"/>
                  <a:pt x="267" y="135"/>
                  <a:pt x="249" y="153"/>
                </a:cubicBezTo>
                <a:cubicBezTo>
                  <a:pt x="240" y="162"/>
                  <a:pt x="222" y="180"/>
                  <a:pt x="222" y="180"/>
                </a:cubicBezTo>
                <a:cubicBezTo>
                  <a:pt x="207" y="242"/>
                  <a:pt x="212" y="267"/>
                  <a:pt x="150" y="288"/>
                </a:cubicBezTo>
                <a:cubicBezTo>
                  <a:pt x="97" y="368"/>
                  <a:pt x="152" y="275"/>
                  <a:pt x="123" y="486"/>
                </a:cubicBezTo>
                <a:cubicBezTo>
                  <a:pt x="119" y="512"/>
                  <a:pt x="87" y="524"/>
                  <a:pt x="69" y="531"/>
                </a:cubicBezTo>
                <a:cubicBezTo>
                  <a:pt x="51" y="538"/>
                  <a:pt x="15" y="549"/>
                  <a:pt x="15" y="549"/>
                </a:cubicBezTo>
                <a:cubicBezTo>
                  <a:pt x="12" y="558"/>
                  <a:pt x="0" y="568"/>
                  <a:pt x="6" y="576"/>
                </a:cubicBezTo>
                <a:cubicBezTo>
                  <a:pt x="20" y="595"/>
                  <a:pt x="98" y="579"/>
                  <a:pt x="123" y="576"/>
                </a:cubicBezTo>
                <a:cubicBezTo>
                  <a:pt x="153" y="556"/>
                  <a:pt x="204" y="504"/>
                  <a:pt x="204" y="504"/>
                </a:cubicBezTo>
                <a:cubicBezTo>
                  <a:pt x="233" y="523"/>
                  <a:pt x="263" y="533"/>
                  <a:pt x="294" y="549"/>
                </a:cubicBezTo>
                <a:cubicBezTo>
                  <a:pt x="423" y="523"/>
                  <a:pt x="263" y="559"/>
                  <a:pt x="375" y="522"/>
                </a:cubicBezTo>
                <a:cubicBezTo>
                  <a:pt x="407" y="511"/>
                  <a:pt x="489" y="506"/>
                  <a:pt x="510" y="504"/>
                </a:cubicBezTo>
                <a:cubicBezTo>
                  <a:pt x="536" y="491"/>
                  <a:pt x="578" y="446"/>
                  <a:pt x="600" y="441"/>
                </a:cubicBezTo>
                <a:cubicBezTo>
                  <a:pt x="632" y="434"/>
                  <a:pt x="666" y="435"/>
                  <a:pt x="699" y="432"/>
                </a:cubicBezTo>
                <a:cubicBezTo>
                  <a:pt x="756" y="413"/>
                  <a:pt x="694" y="438"/>
                  <a:pt x="762" y="387"/>
                </a:cubicBezTo>
                <a:cubicBezTo>
                  <a:pt x="786" y="369"/>
                  <a:pt x="807" y="367"/>
                  <a:pt x="834" y="360"/>
                </a:cubicBezTo>
                <a:cubicBezTo>
                  <a:pt x="943" y="369"/>
                  <a:pt x="1040" y="397"/>
                  <a:pt x="1149" y="405"/>
                </a:cubicBezTo>
                <a:cubicBezTo>
                  <a:pt x="1197" y="421"/>
                  <a:pt x="1168" y="409"/>
                  <a:pt x="1230" y="450"/>
                </a:cubicBezTo>
                <a:cubicBezTo>
                  <a:pt x="1239" y="456"/>
                  <a:pt x="1257" y="468"/>
                  <a:pt x="1257" y="468"/>
                </a:cubicBezTo>
                <a:cubicBezTo>
                  <a:pt x="1282" y="452"/>
                  <a:pt x="1289" y="451"/>
                  <a:pt x="1302" y="423"/>
                </a:cubicBezTo>
                <a:cubicBezTo>
                  <a:pt x="1310" y="406"/>
                  <a:pt x="1320" y="369"/>
                  <a:pt x="1320" y="369"/>
                </a:cubicBezTo>
                <a:cubicBezTo>
                  <a:pt x="1317" y="342"/>
                  <a:pt x="1320" y="314"/>
                  <a:pt x="1311" y="288"/>
                </a:cubicBezTo>
                <a:cubicBezTo>
                  <a:pt x="1307" y="278"/>
                  <a:pt x="1294" y="274"/>
                  <a:pt x="1284" y="270"/>
                </a:cubicBezTo>
                <a:cubicBezTo>
                  <a:pt x="1267" y="262"/>
                  <a:pt x="1248" y="258"/>
                  <a:pt x="1230" y="252"/>
                </a:cubicBezTo>
                <a:cubicBezTo>
                  <a:pt x="1217" y="248"/>
                  <a:pt x="1206" y="240"/>
                  <a:pt x="1194" y="234"/>
                </a:cubicBezTo>
                <a:cubicBezTo>
                  <a:pt x="1172" y="201"/>
                  <a:pt x="1172" y="184"/>
                  <a:pt x="1203" y="153"/>
                </a:cubicBezTo>
                <a:cubicBezTo>
                  <a:pt x="1232" y="124"/>
                  <a:pt x="1230" y="149"/>
                  <a:pt x="1230" y="126"/>
                </a:cubicBezTo>
                <a:cubicBezTo>
                  <a:pt x="1160" y="164"/>
                  <a:pt x="1220" y="138"/>
                  <a:pt x="1230" y="99"/>
                </a:cubicBezTo>
                <a:cubicBezTo>
                  <a:pt x="1234" y="84"/>
                  <a:pt x="1224" y="69"/>
                  <a:pt x="1221" y="54"/>
                </a:cubicBezTo>
                <a:cubicBezTo>
                  <a:pt x="1185" y="57"/>
                  <a:pt x="1149" y="56"/>
                  <a:pt x="1113" y="63"/>
                </a:cubicBezTo>
                <a:cubicBezTo>
                  <a:pt x="1100" y="65"/>
                  <a:pt x="1090" y="76"/>
                  <a:pt x="1077" y="81"/>
                </a:cubicBezTo>
                <a:cubicBezTo>
                  <a:pt x="1062" y="86"/>
                  <a:pt x="1008" y="97"/>
                  <a:pt x="996" y="99"/>
                </a:cubicBezTo>
                <a:cubicBezTo>
                  <a:pt x="842" y="89"/>
                  <a:pt x="691" y="100"/>
                  <a:pt x="537" y="90"/>
                </a:cubicBezTo>
                <a:cubicBezTo>
                  <a:pt x="491" y="83"/>
                  <a:pt x="455" y="74"/>
                  <a:pt x="411" y="63"/>
                </a:cubicBezTo>
                <a:cubicBezTo>
                  <a:pt x="339" y="15"/>
                  <a:pt x="426" y="78"/>
                  <a:pt x="366" y="18"/>
                </a:cubicBezTo>
                <a:cubicBezTo>
                  <a:pt x="358" y="10"/>
                  <a:pt x="339" y="0"/>
                  <a:pt x="33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lastslide"/>
          </p:cNvPr>
          <p:cNvSpPr/>
          <p:nvPr/>
        </p:nvSpPr>
        <p:spPr>
          <a:xfrm>
            <a:off x="6288120" y="1100160"/>
            <a:ext cx="1212840" cy="1579680"/>
          </a:xfrm>
          <a:custGeom>
            <a:avLst/>
            <a:gdLst/>
            <a:ahLst/>
            <a:rect l="l" t="t" r="r" b="b"/>
            <a:pathLst>
              <a:path w="764" h="995">
                <a:moveTo>
                  <a:pt x="413" y="0"/>
                </a:moveTo>
                <a:cubicBezTo>
                  <a:pt x="377" y="24"/>
                  <a:pt x="337" y="44"/>
                  <a:pt x="296" y="54"/>
                </a:cubicBezTo>
                <a:cubicBezTo>
                  <a:pt x="266" y="44"/>
                  <a:pt x="227" y="27"/>
                  <a:pt x="197" y="54"/>
                </a:cubicBezTo>
                <a:cubicBezTo>
                  <a:pt x="179" y="71"/>
                  <a:pt x="179" y="126"/>
                  <a:pt x="179" y="126"/>
                </a:cubicBezTo>
                <a:cubicBezTo>
                  <a:pt x="183" y="170"/>
                  <a:pt x="197" y="242"/>
                  <a:pt x="179" y="288"/>
                </a:cubicBezTo>
                <a:cubicBezTo>
                  <a:pt x="172" y="304"/>
                  <a:pt x="74" y="329"/>
                  <a:pt x="62" y="333"/>
                </a:cubicBezTo>
                <a:cubicBezTo>
                  <a:pt x="53" y="336"/>
                  <a:pt x="35" y="342"/>
                  <a:pt x="35" y="342"/>
                </a:cubicBezTo>
                <a:cubicBezTo>
                  <a:pt x="22" y="380"/>
                  <a:pt x="31" y="399"/>
                  <a:pt x="53" y="432"/>
                </a:cubicBezTo>
                <a:cubicBezTo>
                  <a:pt x="50" y="455"/>
                  <a:pt x="48" y="497"/>
                  <a:pt x="35" y="522"/>
                </a:cubicBezTo>
                <a:cubicBezTo>
                  <a:pt x="0" y="592"/>
                  <a:pt x="31" y="508"/>
                  <a:pt x="8" y="576"/>
                </a:cubicBezTo>
                <a:cubicBezTo>
                  <a:pt x="20" y="651"/>
                  <a:pt x="13" y="631"/>
                  <a:pt x="80" y="648"/>
                </a:cubicBezTo>
                <a:cubicBezTo>
                  <a:pt x="110" y="739"/>
                  <a:pt x="71" y="810"/>
                  <a:pt x="44" y="891"/>
                </a:cubicBezTo>
                <a:cubicBezTo>
                  <a:pt x="52" y="942"/>
                  <a:pt x="48" y="962"/>
                  <a:pt x="89" y="990"/>
                </a:cubicBezTo>
                <a:cubicBezTo>
                  <a:pt x="134" y="987"/>
                  <a:pt x="181" y="995"/>
                  <a:pt x="224" y="981"/>
                </a:cubicBezTo>
                <a:cubicBezTo>
                  <a:pt x="248" y="973"/>
                  <a:pt x="254" y="936"/>
                  <a:pt x="278" y="927"/>
                </a:cubicBezTo>
                <a:cubicBezTo>
                  <a:pt x="332" y="905"/>
                  <a:pt x="382" y="899"/>
                  <a:pt x="440" y="891"/>
                </a:cubicBezTo>
                <a:cubicBezTo>
                  <a:pt x="458" y="885"/>
                  <a:pt x="476" y="879"/>
                  <a:pt x="494" y="873"/>
                </a:cubicBezTo>
                <a:cubicBezTo>
                  <a:pt x="515" y="866"/>
                  <a:pt x="548" y="837"/>
                  <a:pt x="548" y="837"/>
                </a:cubicBezTo>
                <a:cubicBezTo>
                  <a:pt x="538" y="756"/>
                  <a:pt x="514" y="704"/>
                  <a:pt x="602" y="675"/>
                </a:cubicBezTo>
                <a:cubicBezTo>
                  <a:pt x="637" y="640"/>
                  <a:pt x="646" y="626"/>
                  <a:pt x="656" y="576"/>
                </a:cubicBezTo>
                <a:cubicBezTo>
                  <a:pt x="659" y="528"/>
                  <a:pt x="656" y="479"/>
                  <a:pt x="665" y="432"/>
                </a:cubicBezTo>
                <a:cubicBezTo>
                  <a:pt x="668" y="417"/>
                  <a:pt x="683" y="408"/>
                  <a:pt x="692" y="396"/>
                </a:cubicBezTo>
                <a:cubicBezTo>
                  <a:pt x="719" y="358"/>
                  <a:pt x="749" y="323"/>
                  <a:pt x="764" y="279"/>
                </a:cubicBezTo>
                <a:cubicBezTo>
                  <a:pt x="745" y="184"/>
                  <a:pt x="700" y="214"/>
                  <a:pt x="593" y="207"/>
                </a:cubicBezTo>
                <a:cubicBezTo>
                  <a:pt x="581" y="198"/>
                  <a:pt x="570" y="187"/>
                  <a:pt x="557" y="180"/>
                </a:cubicBezTo>
                <a:cubicBezTo>
                  <a:pt x="549" y="175"/>
                  <a:pt x="537" y="177"/>
                  <a:pt x="530" y="171"/>
                </a:cubicBezTo>
                <a:cubicBezTo>
                  <a:pt x="522" y="164"/>
                  <a:pt x="520" y="152"/>
                  <a:pt x="512" y="144"/>
                </a:cubicBezTo>
                <a:cubicBezTo>
                  <a:pt x="487" y="119"/>
                  <a:pt x="456" y="107"/>
                  <a:pt x="440" y="72"/>
                </a:cubicBezTo>
                <a:cubicBezTo>
                  <a:pt x="432" y="55"/>
                  <a:pt x="430" y="35"/>
                  <a:pt x="422" y="18"/>
                </a:cubicBezTo>
                <a:cubicBezTo>
                  <a:pt x="419" y="12"/>
                  <a:pt x="416" y="6"/>
                  <a:pt x="413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lastslide"/>
          </p:cNvPr>
          <p:cNvSpPr/>
          <p:nvPr/>
        </p:nvSpPr>
        <p:spPr>
          <a:xfrm>
            <a:off x="6114960" y="2585880"/>
            <a:ext cx="2487600" cy="1735200"/>
          </a:xfrm>
          <a:custGeom>
            <a:avLst/>
            <a:gdLst/>
            <a:ahLst/>
            <a:rect l="l" t="t" r="r" b="b"/>
            <a:pathLst>
              <a:path w="1567" h="1093">
                <a:moveTo>
                  <a:pt x="711" y="0"/>
                </a:moveTo>
                <a:cubicBezTo>
                  <a:pt x="657" y="72"/>
                  <a:pt x="600" y="133"/>
                  <a:pt x="513" y="162"/>
                </a:cubicBezTo>
                <a:cubicBezTo>
                  <a:pt x="362" y="150"/>
                  <a:pt x="222" y="171"/>
                  <a:pt x="72" y="180"/>
                </a:cubicBezTo>
                <a:cubicBezTo>
                  <a:pt x="9" y="222"/>
                  <a:pt x="30" y="198"/>
                  <a:pt x="0" y="243"/>
                </a:cubicBezTo>
                <a:cubicBezTo>
                  <a:pt x="18" y="332"/>
                  <a:pt x="30" y="292"/>
                  <a:pt x="81" y="369"/>
                </a:cubicBezTo>
                <a:cubicBezTo>
                  <a:pt x="130" y="442"/>
                  <a:pt x="190" y="505"/>
                  <a:pt x="252" y="567"/>
                </a:cubicBezTo>
                <a:cubicBezTo>
                  <a:pt x="286" y="601"/>
                  <a:pt x="324" y="625"/>
                  <a:pt x="351" y="666"/>
                </a:cubicBezTo>
                <a:cubicBezTo>
                  <a:pt x="403" y="649"/>
                  <a:pt x="356" y="670"/>
                  <a:pt x="405" y="621"/>
                </a:cubicBezTo>
                <a:cubicBezTo>
                  <a:pt x="431" y="595"/>
                  <a:pt x="459" y="576"/>
                  <a:pt x="495" y="567"/>
                </a:cubicBezTo>
                <a:cubicBezTo>
                  <a:pt x="509" y="568"/>
                  <a:pt x="635" y="577"/>
                  <a:pt x="666" y="585"/>
                </a:cubicBezTo>
                <a:cubicBezTo>
                  <a:pt x="722" y="600"/>
                  <a:pt x="686" y="606"/>
                  <a:pt x="738" y="639"/>
                </a:cubicBezTo>
                <a:cubicBezTo>
                  <a:pt x="770" y="659"/>
                  <a:pt x="838" y="660"/>
                  <a:pt x="873" y="666"/>
                </a:cubicBezTo>
                <a:cubicBezTo>
                  <a:pt x="893" y="725"/>
                  <a:pt x="894" y="786"/>
                  <a:pt x="909" y="846"/>
                </a:cubicBezTo>
                <a:cubicBezTo>
                  <a:pt x="968" y="816"/>
                  <a:pt x="936" y="810"/>
                  <a:pt x="981" y="765"/>
                </a:cubicBezTo>
                <a:cubicBezTo>
                  <a:pt x="1007" y="739"/>
                  <a:pt x="1047" y="736"/>
                  <a:pt x="1080" y="729"/>
                </a:cubicBezTo>
                <a:cubicBezTo>
                  <a:pt x="1179" y="778"/>
                  <a:pt x="1058" y="713"/>
                  <a:pt x="1143" y="774"/>
                </a:cubicBezTo>
                <a:cubicBezTo>
                  <a:pt x="1172" y="795"/>
                  <a:pt x="1218" y="806"/>
                  <a:pt x="1251" y="819"/>
                </a:cubicBezTo>
                <a:cubicBezTo>
                  <a:pt x="1320" y="922"/>
                  <a:pt x="1170" y="1093"/>
                  <a:pt x="1323" y="1062"/>
                </a:cubicBezTo>
                <a:cubicBezTo>
                  <a:pt x="1329" y="1047"/>
                  <a:pt x="1341" y="1017"/>
                  <a:pt x="1341" y="1017"/>
                </a:cubicBezTo>
                <a:cubicBezTo>
                  <a:pt x="1381" y="913"/>
                  <a:pt x="1347" y="899"/>
                  <a:pt x="1386" y="918"/>
                </a:cubicBezTo>
                <a:cubicBezTo>
                  <a:pt x="1425" y="859"/>
                  <a:pt x="1497" y="836"/>
                  <a:pt x="1521" y="765"/>
                </a:cubicBezTo>
                <a:cubicBezTo>
                  <a:pt x="1532" y="569"/>
                  <a:pt x="1567" y="603"/>
                  <a:pt x="1431" y="558"/>
                </a:cubicBezTo>
                <a:cubicBezTo>
                  <a:pt x="1408" y="535"/>
                  <a:pt x="1380" y="519"/>
                  <a:pt x="1359" y="495"/>
                </a:cubicBezTo>
                <a:cubicBezTo>
                  <a:pt x="1343" y="477"/>
                  <a:pt x="1336" y="452"/>
                  <a:pt x="1323" y="432"/>
                </a:cubicBezTo>
                <a:cubicBezTo>
                  <a:pt x="1302" y="349"/>
                  <a:pt x="1323" y="449"/>
                  <a:pt x="1323" y="297"/>
                </a:cubicBezTo>
                <a:cubicBezTo>
                  <a:pt x="1323" y="296"/>
                  <a:pt x="1315" y="215"/>
                  <a:pt x="1305" y="207"/>
                </a:cubicBezTo>
                <a:cubicBezTo>
                  <a:pt x="1288" y="193"/>
                  <a:pt x="1263" y="196"/>
                  <a:pt x="1242" y="189"/>
                </a:cubicBezTo>
                <a:cubicBezTo>
                  <a:pt x="1236" y="180"/>
                  <a:pt x="1232" y="169"/>
                  <a:pt x="1224" y="162"/>
                </a:cubicBezTo>
                <a:cubicBezTo>
                  <a:pt x="1208" y="148"/>
                  <a:pt x="1170" y="126"/>
                  <a:pt x="1170" y="126"/>
                </a:cubicBezTo>
                <a:cubicBezTo>
                  <a:pt x="1164" y="117"/>
                  <a:pt x="1143" y="78"/>
                  <a:pt x="1125" y="81"/>
                </a:cubicBezTo>
                <a:cubicBezTo>
                  <a:pt x="1112" y="83"/>
                  <a:pt x="1107" y="99"/>
                  <a:pt x="1098" y="108"/>
                </a:cubicBezTo>
                <a:cubicBezTo>
                  <a:pt x="1074" y="203"/>
                  <a:pt x="1034" y="171"/>
                  <a:pt x="927" y="162"/>
                </a:cubicBezTo>
                <a:cubicBezTo>
                  <a:pt x="869" y="157"/>
                  <a:pt x="860" y="154"/>
                  <a:pt x="810" y="144"/>
                </a:cubicBezTo>
                <a:cubicBezTo>
                  <a:pt x="793" y="127"/>
                  <a:pt x="775" y="113"/>
                  <a:pt x="765" y="90"/>
                </a:cubicBezTo>
                <a:cubicBezTo>
                  <a:pt x="757" y="73"/>
                  <a:pt x="765" y="42"/>
                  <a:pt x="747" y="36"/>
                </a:cubicBezTo>
                <a:cubicBezTo>
                  <a:pt x="711" y="24"/>
                  <a:pt x="723" y="36"/>
                  <a:pt x="71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4367160" y="2585880"/>
            <a:ext cx="1623960" cy="630360"/>
          </a:xfrm>
          <a:custGeom>
            <a:avLst/>
            <a:gdLst/>
            <a:ahLst/>
            <a:rect l="l" t="t" r="r" b="b"/>
            <a:pathLst>
              <a:path w="1023" h="397">
                <a:moveTo>
                  <a:pt x="345" y="135"/>
                </a:moveTo>
                <a:cubicBezTo>
                  <a:pt x="281" y="156"/>
                  <a:pt x="358" y="126"/>
                  <a:pt x="291" y="171"/>
                </a:cubicBezTo>
                <a:cubicBezTo>
                  <a:pt x="283" y="176"/>
                  <a:pt x="233" y="188"/>
                  <a:pt x="228" y="189"/>
                </a:cubicBezTo>
                <a:cubicBezTo>
                  <a:pt x="163" y="182"/>
                  <a:pt x="87" y="192"/>
                  <a:pt x="39" y="144"/>
                </a:cubicBezTo>
                <a:cubicBezTo>
                  <a:pt x="27" y="147"/>
                  <a:pt x="6" y="141"/>
                  <a:pt x="3" y="153"/>
                </a:cubicBezTo>
                <a:cubicBezTo>
                  <a:pt x="0" y="165"/>
                  <a:pt x="20" y="172"/>
                  <a:pt x="30" y="180"/>
                </a:cubicBezTo>
                <a:cubicBezTo>
                  <a:pt x="79" y="218"/>
                  <a:pt x="124" y="231"/>
                  <a:pt x="183" y="243"/>
                </a:cubicBezTo>
                <a:cubicBezTo>
                  <a:pt x="197" y="329"/>
                  <a:pt x="221" y="346"/>
                  <a:pt x="300" y="378"/>
                </a:cubicBezTo>
                <a:cubicBezTo>
                  <a:pt x="369" y="375"/>
                  <a:pt x="524" y="397"/>
                  <a:pt x="588" y="333"/>
                </a:cubicBezTo>
                <a:cubicBezTo>
                  <a:pt x="616" y="249"/>
                  <a:pt x="696" y="276"/>
                  <a:pt x="777" y="270"/>
                </a:cubicBezTo>
                <a:cubicBezTo>
                  <a:pt x="813" y="267"/>
                  <a:pt x="849" y="264"/>
                  <a:pt x="885" y="261"/>
                </a:cubicBezTo>
                <a:cubicBezTo>
                  <a:pt x="918" y="250"/>
                  <a:pt x="946" y="235"/>
                  <a:pt x="975" y="216"/>
                </a:cubicBezTo>
                <a:cubicBezTo>
                  <a:pt x="991" y="191"/>
                  <a:pt x="1023" y="138"/>
                  <a:pt x="993" y="108"/>
                </a:cubicBezTo>
                <a:cubicBezTo>
                  <a:pt x="973" y="88"/>
                  <a:pt x="939" y="90"/>
                  <a:pt x="912" y="81"/>
                </a:cubicBezTo>
                <a:cubicBezTo>
                  <a:pt x="853" y="61"/>
                  <a:pt x="797" y="28"/>
                  <a:pt x="741" y="0"/>
                </a:cubicBezTo>
                <a:cubicBezTo>
                  <a:pt x="726" y="3"/>
                  <a:pt x="709" y="1"/>
                  <a:pt x="696" y="9"/>
                </a:cubicBezTo>
                <a:cubicBezTo>
                  <a:pt x="688" y="14"/>
                  <a:pt x="693" y="28"/>
                  <a:pt x="687" y="36"/>
                </a:cubicBezTo>
                <a:cubicBezTo>
                  <a:pt x="675" y="53"/>
                  <a:pt x="645" y="79"/>
                  <a:pt x="624" y="90"/>
                </a:cubicBezTo>
                <a:cubicBezTo>
                  <a:pt x="606" y="99"/>
                  <a:pt x="588" y="109"/>
                  <a:pt x="570" y="117"/>
                </a:cubicBezTo>
                <a:cubicBezTo>
                  <a:pt x="553" y="125"/>
                  <a:pt x="516" y="135"/>
                  <a:pt x="516" y="135"/>
                </a:cubicBezTo>
                <a:cubicBezTo>
                  <a:pt x="467" y="125"/>
                  <a:pt x="437" y="115"/>
                  <a:pt x="408" y="72"/>
                </a:cubicBezTo>
                <a:cubicBezTo>
                  <a:pt x="379" y="91"/>
                  <a:pt x="352" y="112"/>
                  <a:pt x="336" y="144"/>
                </a:cubicBezTo>
                <a:cubicBezTo>
                  <a:pt x="334" y="148"/>
                  <a:pt x="342" y="138"/>
                  <a:pt x="345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lastslide"/>
          </p:cNvPr>
          <p:cNvSpPr/>
          <p:nvPr/>
        </p:nvSpPr>
        <p:spPr>
          <a:xfrm>
            <a:off x="2728800" y="2700360"/>
            <a:ext cx="2428920" cy="2311200"/>
          </a:xfrm>
          <a:custGeom>
            <a:avLst/>
            <a:gdLst/>
            <a:ahLst/>
            <a:rect l="l" t="t" r="r" b="b"/>
            <a:pathLst>
              <a:path w="1530" h="1456">
                <a:moveTo>
                  <a:pt x="0" y="0"/>
                </a:moveTo>
                <a:cubicBezTo>
                  <a:pt x="30" y="30"/>
                  <a:pt x="35" y="53"/>
                  <a:pt x="54" y="90"/>
                </a:cubicBezTo>
                <a:cubicBezTo>
                  <a:pt x="45" y="162"/>
                  <a:pt x="16" y="255"/>
                  <a:pt x="54" y="324"/>
                </a:cubicBezTo>
                <a:cubicBezTo>
                  <a:pt x="65" y="343"/>
                  <a:pt x="78" y="360"/>
                  <a:pt x="90" y="378"/>
                </a:cubicBezTo>
                <a:cubicBezTo>
                  <a:pt x="101" y="394"/>
                  <a:pt x="144" y="396"/>
                  <a:pt x="144" y="396"/>
                </a:cubicBezTo>
                <a:cubicBezTo>
                  <a:pt x="204" y="387"/>
                  <a:pt x="220" y="390"/>
                  <a:pt x="252" y="342"/>
                </a:cubicBezTo>
                <a:cubicBezTo>
                  <a:pt x="270" y="348"/>
                  <a:pt x="290" y="349"/>
                  <a:pt x="306" y="360"/>
                </a:cubicBezTo>
                <a:cubicBezTo>
                  <a:pt x="315" y="366"/>
                  <a:pt x="323" y="373"/>
                  <a:pt x="333" y="378"/>
                </a:cubicBezTo>
                <a:cubicBezTo>
                  <a:pt x="366" y="395"/>
                  <a:pt x="406" y="393"/>
                  <a:pt x="441" y="405"/>
                </a:cubicBezTo>
                <a:cubicBezTo>
                  <a:pt x="462" y="426"/>
                  <a:pt x="483" y="447"/>
                  <a:pt x="504" y="468"/>
                </a:cubicBezTo>
                <a:cubicBezTo>
                  <a:pt x="513" y="477"/>
                  <a:pt x="531" y="495"/>
                  <a:pt x="531" y="495"/>
                </a:cubicBezTo>
                <a:cubicBezTo>
                  <a:pt x="534" y="513"/>
                  <a:pt x="540" y="531"/>
                  <a:pt x="540" y="549"/>
                </a:cubicBezTo>
                <a:cubicBezTo>
                  <a:pt x="540" y="585"/>
                  <a:pt x="516" y="639"/>
                  <a:pt x="540" y="675"/>
                </a:cubicBezTo>
                <a:cubicBezTo>
                  <a:pt x="549" y="688"/>
                  <a:pt x="570" y="687"/>
                  <a:pt x="585" y="693"/>
                </a:cubicBezTo>
                <a:cubicBezTo>
                  <a:pt x="705" y="689"/>
                  <a:pt x="830" y="658"/>
                  <a:pt x="945" y="693"/>
                </a:cubicBezTo>
                <a:cubicBezTo>
                  <a:pt x="965" y="699"/>
                  <a:pt x="971" y="729"/>
                  <a:pt x="990" y="738"/>
                </a:cubicBezTo>
                <a:cubicBezTo>
                  <a:pt x="1007" y="746"/>
                  <a:pt x="1044" y="756"/>
                  <a:pt x="1044" y="756"/>
                </a:cubicBezTo>
                <a:cubicBezTo>
                  <a:pt x="1064" y="782"/>
                  <a:pt x="1068" y="797"/>
                  <a:pt x="1098" y="810"/>
                </a:cubicBezTo>
                <a:cubicBezTo>
                  <a:pt x="1115" y="818"/>
                  <a:pt x="1152" y="828"/>
                  <a:pt x="1152" y="828"/>
                </a:cubicBezTo>
                <a:cubicBezTo>
                  <a:pt x="1218" y="927"/>
                  <a:pt x="1143" y="973"/>
                  <a:pt x="1116" y="1053"/>
                </a:cubicBezTo>
                <a:cubicBezTo>
                  <a:pt x="1124" y="1130"/>
                  <a:pt x="1113" y="1150"/>
                  <a:pt x="1170" y="1188"/>
                </a:cubicBezTo>
                <a:cubicBezTo>
                  <a:pt x="1194" y="1259"/>
                  <a:pt x="1173" y="1319"/>
                  <a:pt x="1134" y="1377"/>
                </a:cubicBezTo>
                <a:cubicBezTo>
                  <a:pt x="1148" y="1420"/>
                  <a:pt x="1166" y="1418"/>
                  <a:pt x="1206" y="1431"/>
                </a:cubicBezTo>
                <a:cubicBezTo>
                  <a:pt x="1251" y="1428"/>
                  <a:pt x="1311" y="1456"/>
                  <a:pt x="1341" y="1422"/>
                </a:cubicBezTo>
                <a:cubicBezTo>
                  <a:pt x="1369" y="1390"/>
                  <a:pt x="1329" y="1338"/>
                  <a:pt x="1323" y="1296"/>
                </a:cubicBezTo>
                <a:cubicBezTo>
                  <a:pt x="1314" y="1233"/>
                  <a:pt x="1300" y="1170"/>
                  <a:pt x="1287" y="1107"/>
                </a:cubicBezTo>
                <a:cubicBezTo>
                  <a:pt x="1284" y="1074"/>
                  <a:pt x="1287" y="1040"/>
                  <a:pt x="1278" y="1008"/>
                </a:cubicBezTo>
                <a:cubicBezTo>
                  <a:pt x="1275" y="996"/>
                  <a:pt x="1258" y="991"/>
                  <a:pt x="1251" y="981"/>
                </a:cubicBezTo>
                <a:cubicBezTo>
                  <a:pt x="1233" y="956"/>
                  <a:pt x="1231" y="938"/>
                  <a:pt x="1224" y="909"/>
                </a:cubicBezTo>
                <a:cubicBezTo>
                  <a:pt x="1290" y="843"/>
                  <a:pt x="1285" y="856"/>
                  <a:pt x="1350" y="810"/>
                </a:cubicBezTo>
                <a:cubicBezTo>
                  <a:pt x="1362" y="801"/>
                  <a:pt x="1374" y="792"/>
                  <a:pt x="1386" y="783"/>
                </a:cubicBezTo>
                <a:cubicBezTo>
                  <a:pt x="1404" y="771"/>
                  <a:pt x="1440" y="747"/>
                  <a:pt x="1440" y="747"/>
                </a:cubicBezTo>
                <a:cubicBezTo>
                  <a:pt x="1446" y="738"/>
                  <a:pt x="1450" y="728"/>
                  <a:pt x="1458" y="720"/>
                </a:cubicBezTo>
                <a:cubicBezTo>
                  <a:pt x="1466" y="712"/>
                  <a:pt x="1478" y="710"/>
                  <a:pt x="1485" y="702"/>
                </a:cubicBezTo>
                <a:cubicBezTo>
                  <a:pt x="1491" y="695"/>
                  <a:pt x="1490" y="683"/>
                  <a:pt x="1494" y="675"/>
                </a:cubicBezTo>
                <a:cubicBezTo>
                  <a:pt x="1510" y="642"/>
                  <a:pt x="1521" y="622"/>
                  <a:pt x="1530" y="585"/>
                </a:cubicBezTo>
                <a:cubicBezTo>
                  <a:pt x="1527" y="555"/>
                  <a:pt x="1529" y="524"/>
                  <a:pt x="1521" y="495"/>
                </a:cubicBezTo>
                <a:cubicBezTo>
                  <a:pt x="1509" y="453"/>
                  <a:pt x="1475" y="453"/>
                  <a:pt x="1440" y="441"/>
                </a:cubicBezTo>
                <a:cubicBezTo>
                  <a:pt x="1387" y="423"/>
                  <a:pt x="1331" y="423"/>
                  <a:pt x="1278" y="405"/>
                </a:cubicBezTo>
                <a:cubicBezTo>
                  <a:pt x="1252" y="379"/>
                  <a:pt x="1223" y="359"/>
                  <a:pt x="1197" y="333"/>
                </a:cubicBezTo>
                <a:cubicBezTo>
                  <a:pt x="1172" y="257"/>
                  <a:pt x="1076" y="254"/>
                  <a:pt x="1008" y="243"/>
                </a:cubicBezTo>
                <a:cubicBezTo>
                  <a:pt x="982" y="217"/>
                  <a:pt x="969" y="172"/>
                  <a:pt x="936" y="153"/>
                </a:cubicBezTo>
                <a:cubicBezTo>
                  <a:pt x="897" y="131"/>
                  <a:pt x="801" y="119"/>
                  <a:pt x="756" y="108"/>
                </a:cubicBezTo>
                <a:cubicBezTo>
                  <a:pt x="747" y="102"/>
                  <a:pt x="736" y="98"/>
                  <a:pt x="729" y="90"/>
                </a:cubicBezTo>
                <a:cubicBezTo>
                  <a:pt x="723" y="83"/>
                  <a:pt x="727" y="70"/>
                  <a:pt x="720" y="63"/>
                </a:cubicBezTo>
                <a:cubicBezTo>
                  <a:pt x="675" y="18"/>
                  <a:pt x="625" y="19"/>
                  <a:pt x="567" y="9"/>
                </a:cubicBezTo>
                <a:cubicBezTo>
                  <a:pt x="546" y="12"/>
                  <a:pt x="524" y="10"/>
                  <a:pt x="504" y="18"/>
                </a:cubicBezTo>
                <a:cubicBezTo>
                  <a:pt x="379" y="68"/>
                  <a:pt x="565" y="25"/>
                  <a:pt x="450" y="63"/>
                </a:cubicBezTo>
                <a:cubicBezTo>
                  <a:pt x="433" y="69"/>
                  <a:pt x="414" y="69"/>
                  <a:pt x="396" y="72"/>
                </a:cubicBezTo>
                <a:cubicBezTo>
                  <a:pt x="237" y="37"/>
                  <a:pt x="315" y="34"/>
                  <a:pt x="99" y="45"/>
                </a:cubicBezTo>
                <a:cubicBezTo>
                  <a:pt x="64" y="33"/>
                  <a:pt x="33" y="16"/>
                  <a:pt x="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lastslide"/>
          </p:cNvPr>
          <p:cNvSpPr/>
          <p:nvPr/>
        </p:nvSpPr>
        <p:spPr>
          <a:xfrm>
            <a:off x="4929120" y="3086280"/>
            <a:ext cx="1792440" cy="2350800"/>
          </a:xfrm>
          <a:custGeom>
            <a:avLst/>
            <a:gdLst/>
            <a:ahLst/>
            <a:rect l="l" t="t" r="r" b="b"/>
            <a:pathLst>
              <a:path w="1129" h="1481">
                <a:moveTo>
                  <a:pt x="630" y="0"/>
                </a:moveTo>
                <a:cubicBezTo>
                  <a:pt x="590" y="13"/>
                  <a:pt x="562" y="41"/>
                  <a:pt x="522" y="54"/>
                </a:cubicBezTo>
                <a:cubicBezTo>
                  <a:pt x="463" y="132"/>
                  <a:pt x="390" y="127"/>
                  <a:pt x="297" y="135"/>
                </a:cubicBezTo>
                <a:cubicBezTo>
                  <a:pt x="279" y="141"/>
                  <a:pt x="261" y="147"/>
                  <a:pt x="243" y="153"/>
                </a:cubicBezTo>
                <a:cubicBezTo>
                  <a:pt x="228" y="158"/>
                  <a:pt x="248" y="183"/>
                  <a:pt x="252" y="198"/>
                </a:cubicBezTo>
                <a:cubicBezTo>
                  <a:pt x="257" y="216"/>
                  <a:pt x="264" y="234"/>
                  <a:pt x="270" y="252"/>
                </a:cubicBezTo>
                <a:cubicBezTo>
                  <a:pt x="282" y="287"/>
                  <a:pt x="288" y="324"/>
                  <a:pt x="297" y="360"/>
                </a:cubicBezTo>
                <a:cubicBezTo>
                  <a:pt x="294" y="414"/>
                  <a:pt x="293" y="468"/>
                  <a:pt x="288" y="522"/>
                </a:cubicBezTo>
                <a:cubicBezTo>
                  <a:pt x="285" y="556"/>
                  <a:pt x="205" y="642"/>
                  <a:pt x="171" y="648"/>
                </a:cubicBezTo>
                <a:cubicBezTo>
                  <a:pt x="132" y="655"/>
                  <a:pt x="93" y="654"/>
                  <a:pt x="54" y="657"/>
                </a:cubicBezTo>
                <a:cubicBezTo>
                  <a:pt x="0" y="693"/>
                  <a:pt x="36" y="657"/>
                  <a:pt x="36" y="756"/>
                </a:cubicBezTo>
                <a:cubicBezTo>
                  <a:pt x="36" y="817"/>
                  <a:pt x="30" y="834"/>
                  <a:pt x="18" y="882"/>
                </a:cubicBezTo>
                <a:cubicBezTo>
                  <a:pt x="27" y="970"/>
                  <a:pt x="31" y="966"/>
                  <a:pt x="54" y="1035"/>
                </a:cubicBezTo>
                <a:cubicBezTo>
                  <a:pt x="65" y="1170"/>
                  <a:pt x="36" y="1175"/>
                  <a:pt x="162" y="1161"/>
                </a:cubicBezTo>
                <a:cubicBezTo>
                  <a:pt x="199" y="1133"/>
                  <a:pt x="224" y="1108"/>
                  <a:pt x="252" y="1071"/>
                </a:cubicBezTo>
                <a:cubicBezTo>
                  <a:pt x="261" y="1033"/>
                  <a:pt x="261" y="989"/>
                  <a:pt x="279" y="954"/>
                </a:cubicBezTo>
                <a:cubicBezTo>
                  <a:pt x="296" y="921"/>
                  <a:pt x="306" y="922"/>
                  <a:pt x="333" y="891"/>
                </a:cubicBezTo>
                <a:cubicBezTo>
                  <a:pt x="380" y="836"/>
                  <a:pt x="397" y="794"/>
                  <a:pt x="468" y="765"/>
                </a:cubicBezTo>
                <a:cubicBezTo>
                  <a:pt x="494" y="769"/>
                  <a:pt x="544" y="769"/>
                  <a:pt x="567" y="792"/>
                </a:cubicBezTo>
                <a:cubicBezTo>
                  <a:pt x="591" y="816"/>
                  <a:pt x="606" y="849"/>
                  <a:pt x="630" y="873"/>
                </a:cubicBezTo>
                <a:cubicBezTo>
                  <a:pt x="643" y="923"/>
                  <a:pt x="629" y="949"/>
                  <a:pt x="612" y="999"/>
                </a:cubicBezTo>
                <a:cubicBezTo>
                  <a:pt x="605" y="1020"/>
                  <a:pt x="583" y="1032"/>
                  <a:pt x="576" y="1053"/>
                </a:cubicBezTo>
                <a:cubicBezTo>
                  <a:pt x="570" y="1071"/>
                  <a:pt x="558" y="1107"/>
                  <a:pt x="558" y="1107"/>
                </a:cubicBezTo>
                <a:cubicBezTo>
                  <a:pt x="562" y="1145"/>
                  <a:pt x="566" y="1228"/>
                  <a:pt x="585" y="1269"/>
                </a:cubicBezTo>
                <a:cubicBezTo>
                  <a:pt x="594" y="1289"/>
                  <a:pt x="621" y="1323"/>
                  <a:pt x="621" y="1323"/>
                </a:cubicBezTo>
                <a:cubicBezTo>
                  <a:pt x="618" y="1356"/>
                  <a:pt x="612" y="1389"/>
                  <a:pt x="612" y="1422"/>
                </a:cubicBezTo>
                <a:cubicBezTo>
                  <a:pt x="612" y="1481"/>
                  <a:pt x="620" y="1477"/>
                  <a:pt x="657" y="1440"/>
                </a:cubicBezTo>
                <a:cubicBezTo>
                  <a:pt x="691" y="1406"/>
                  <a:pt x="703" y="1358"/>
                  <a:pt x="738" y="1323"/>
                </a:cubicBezTo>
                <a:cubicBezTo>
                  <a:pt x="771" y="1223"/>
                  <a:pt x="677" y="1204"/>
                  <a:pt x="630" y="1134"/>
                </a:cubicBezTo>
                <a:cubicBezTo>
                  <a:pt x="636" y="1107"/>
                  <a:pt x="634" y="1077"/>
                  <a:pt x="648" y="1053"/>
                </a:cubicBezTo>
                <a:cubicBezTo>
                  <a:pt x="659" y="1035"/>
                  <a:pt x="684" y="1029"/>
                  <a:pt x="702" y="1017"/>
                </a:cubicBezTo>
                <a:cubicBezTo>
                  <a:pt x="729" y="999"/>
                  <a:pt x="733" y="982"/>
                  <a:pt x="747" y="954"/>
                </a:cubicBezTo>
                <a:cubicBezTo>
                  <a:pt x="756" y="910"/>
                  <a:pt x="767" y="883"/>
                  <a:pt x="792" y="846"/>
                </a:cubicBezTo>
                <a:cubicBezTo>
                  <a:pt x="846" y="860"/>
                  <a:pt x="816" y="851"/>
                  <a:pt x="882" y="873"/>
                </a:cubicBezTo>
                <a:cubicBezTo>
                  <a:pt x="891" y="876"/>
                  <a:pt x="909" y="882"/>
                  <a:pt x="909" y="882"/>
                </a:cubicBezTo>
                <a:cubicBezTo>
                  <a:pt x="918" y="873"/>
                  <a:pt x="935" y="868"/>
                  <a:pt x="936" y="855"/>
                </a:cubicBezTo>
                <a:cubicBezTo>
                  <a:pt x="939" y="824"/>
                  <a:pt x="909" y="755"/>
                  <a:pt x="900" y="720"/>
                </a:cubicBezTo>
                <a:cubicBezTo>
                  <a:pt x="903" y="699"/>
                  <a:pt x="900" y="676"/>
                  <a:pt x="909" y="657"/>
                </a:cubicBezTo>
                <a:cubicBezTo>
                  <a:pt x="929" y="616"/>
                  <a:pt x="1014" y="616"/>
                  <a:pt x="1044" y="612"/>
                </a:cubicBezTo>
                <a:cubicBezTo>
                  <a:pt x="1056" y="600"/>
                  <a:pt x="1070" y="590"/>
                  <a:pt x="1080" y="576"/>
                </a:cubicBezTo>
                <a:cubicBezTo>
                  <a:pt x="1129" y="508"/>
                  <a:pt x="1036" y="437"/>
                  <a:pt x="981" y="423"/>
                </a:cubicBezTo>
                <a:cubicBezTo>
                  <a:pt x="972" y="417"/>
                  <a:pt x="964" y="409"/>
                  <a:pt x="954" y="405"/>
                </a:cubicBezTo>
                <a:cubicBezTo>
                  <a:pt x="937" y="397"/>
                  <a:pt x="900" y="387"/>
                  <a:pt x="900" y="387"/>
                </a:cubicBezTo>
                <a:cubicBezTo>
                  <a:pt x="855" y="320"/>
                  <a:pt x="913" y="402"/>
                  <a:pt x="855" y="333"/>
                </a:cubicBezTo>
                <a:cubicBezTo>
                  <a:pt x="829" y="302"/>
                  <a:pt x="820" y="264"/>
                  <a:pt x="792" y="234"/>
                </a:cubicBezTo>
                <a:cubicBezTo>
                  <a:pt x="763" y="203"/>
                  <a:pt x="726" y="179"/>
                  <a:pt x="702" y="144"/>
                </a:cubicBezTo>
                <a:cubicBezTo>
                  <a:pt x="690" y="126"/>
                  <a:pt x="678" y="108"/>
                  <a:pt x="666" y="90"/>
                </a:cubicBezTo>
                <a:cubicBezTo>
                  <a:pt x="660" y="81"/>
                  <a:pt x="648" y="63"/>
                  <a:pt x="648" y="63"/>
                </a:cubicBezTo>
                <a:cubicBezTo>
                  <a:pt x="637" y="18"/>
                  <a:pt x="643" y="39"/>
                  <a:pt x="63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lastslide"/>
          </p:cNvPr>
          <p:cNvSpPr/>
          <p:nvPr/>
        </p:nvSpPr>
        <p:spPr>
          <a:xfrm>
            <a:off x="6162840" y="3740040"/>
            <a:ext cx="1806480" cy="2446560"/>
          </a:xfrm>
          <a:custGeom>
            <a:avLst/>
            <a:gdLst/>
            <a:ahLst/>
            <a:rect l="l" t="t" r="r" b="b"/>
            <a:pathLst>
              <a:path w="1138" h="1541">
                <a:moveTo>
                  <a:pt x="492" y="11"/>
                </a:moveTo>
                <a:cubicBezTo>
                  <a:pt x="505" y="76"/>
                  <a:pt x="508" y="175"/>
                  <a:pt x="456" y="227"/>
                </a:cubicBezTo>
                <a:cubicBezTo>
                  <a:pt x="422" y="261"/>
                  <a:pt x="389" y="290"/>
                  <a:pt x="348" y="317"/>
                </a:cubicBezTo>
                <a:cubicBezTo>
                  <a:pt x="339" y="323"/>
                  <a:pt x="321" y="335"/>
                  <a:pt x="321" y="335"/>
                </a:cubicBezTo>
                <a:cubicBezTo>
                  <a:pt x="299" y="401"/>
                  <a:pt x="330" y="542"/>
                  <a:pt x="330" y="542"/>
                </a:cubicBezTo>
                <a:cubicBezTo>
                  <a:pt x="299" y="589"/>
                  <a:pt x="286" y="581"/>
                  <a:pt x="231" y="596"/>
                </a:cubicBezTo>
                <a:cubicBezTo>
                  <a:pt x="174" y="611"/>
                  <a:pt x="134" y="639"/>
                  <a:pt x="78" y="650"/>
                </a:cubicBezTo>
                <a:cubicBezTo>
                  <a:pt x="45" y="683"/>
                  <a:pt x="0" y="690"/>
                  <a:pt x="33" y="749"/>
                </a:cubicBezTo>
                <a:cubicBezTo>
                  <a:pt x="40" y="762"/>
                  <a:pt x="57" y="767"/>
                  <a:pt x="69" y="776"/>
                </a:cubicBezTo>
                <a:cubicBezTo>
                  <a:pt x="87" y="788"/>
                  <a:pt x="123" y="812"/>
                  <a:pt x="123" y="812"/>
                </a:cubicBezTo>
                <a:cubicBezTo>
                  <a:pt x="151" y="895"/>
                  <a:pt x="131" y="927"/>
                  <a:pt x="87" y="983"/>
                </a:cubicBezTo>
                <a:cubicBezTo>
                  <a:pt x="87" y="983"/>
                  <a:pt x="42" y="1050"/>
                  <a:pt x="33" y="1064"/>
                </a:cubicBezTo>
                <a:cubicBezTo>
                  <a:pt x="27" y="1073"/>
                  <a:pt x="15" y="1091"/>
                  <a:pt x="15" y="1091"/>
                </a:cubicBezTo>
                <a:cubicBezTo>
                  <a:pt x="30" y="1100"/>
                  <a:pt x="43" y="1112"/>
                  <a:pt x="60" y="1118"/>
                </a:cubicBezTo>
                <a:cubicBezTo>
                  <a:pt x="100" y="1131"/>
                  <a:pt x="148" y="1124"/>
                  <a:pt x="186" y="1145"/>
                </a:cubicBezTo>
                <a:cubicBezTo>
                  <a:pt x="296" y="1205"/>
                  <a:pt x="221" y="1178"/>
                  <a:pt x="285" y="1199"/>
                </a:cubicBezTo>
                <a:cubicBezTo>
                  <a:pt x="327" y="1324"/>
                  <a:pt x="453" y="1346"/>
                  <a:pt x="546" y="1415"/>
                </a:cubicBezTo>
                <a:cubicBezTo>
                  <a:pt x="559" y="1453"/>
                  <a:pt x="550" y="1500"/>
                  <a:pt x="591" y="1523"/>
                </a:cubicBezTo>
                <a:cubicBezTo>
                  <a:pt x="608" y="1532"/>
                  <a:pt x="645" y="1541"/>
                  <a:pt x="645" y="1541"/>
                </a:cubicBezTo>
                <a:cubicBezTo>
                  <a:pt x="723" y="1531"/>
                  <a:pt x="793" y="1502"/>
                  <a:pt x="870" y="1487"/>
                </a:cubicBezTo>
                <a:cubicBezTo>
                  <a:pt x="885" y="1475"/>
                  <a:pt x="930" y="1448"/>
                  <a:pt x="933" y="1424"/>
                </a:cubicBezTo>
                <a:cubicBezTo>
                  <a:pt x="947" y="1324"/>
                  <a:pt x="895" y="1213"/>
                  <a:pt x="798" y="1181"/>
                </a:cubicBezTo>
                <a:cubicBezTo>
                  <a:pt x="738" y="1002"/>
                  <a:pt x="831" y="896"/>
                  <a:pt x="870" y="740"/>
                </a:cubicBezTo>
                <a:cubicBezTo>
                  <a:pt x="876" y="678"/>
                  <a:pt x="870" y="654"/>
                  <a:pt x="897" y="605"/>
                </a:cubicBezTo>
                <a:cubicBezTo>
                  <a:pt x="929" y="546"/>
                  <a:pt x="987" y="515"/>
                  <a:pt x="1023" y="461"/>
                </a:cubicBezTo>
                <a:cubicBezTo>
                  <a:pt x="1045" y="428"/>
                  <a:pt x="1067" y="399"/>
                  <a:pt x="1095" y="371"/>
                </a:cubicBezTo>
                <a:cubicBezTo>
                  <a:pt x="1120" y="295"/>
                  <a:pt x="1138" y="265"/>
                  <a:pt x="1104" y="164"/>
                </a:cubicBezTo>
                <a:cubicBezTo>
                  <a:pt x="1099" y="149"/>
                  <a:pt x="1074" y="158"/>
                  <a:pt x="1059" y="155"/>
                </a:cubicBezTo>
                <a:cubicBezTo>
                  <a:pt x="995" y="176"/>
                  <a:pt x="1065" y="144"/>
                  <a:pt x="1023" y="245"/>
                </a:cubicBezTo>
                <a:cubicBezTo>
                  <a:pt x="1007" y="283"/>
                  <a:pt x="886" y="310"/>
                  <a:pt x="852" y="317"/>
                </a:cubicBezTo>
                <a:cubicBezTo>
                  <a:pt x="815" y="305"/>
                  <a:pt x="781" y="284"/>
                  <a:pt x="744" y="272"/>
                </a:cubicBezTo>
                <a:cubicBezTo>
                  <a:pt x="738" y="254"/>
                  <a:pt x="728" y="237"/>
                  <a:pt x="726" y="218"/>
                </a:cubicBezTo>
                <a:cubicBezTo>
                  <a:pt x="723" y="188"/>
                  <a:pt x="726" y="157"/>
                  <a:pt x="717" y="128"/>
                </a:cubicBezTo>
                <a:cubicBezTo>
                  <a:pt x="704" y="86"/>
                  <a:pt x="622" y="82"/>
                  <a:pt x="591" y="65"/>
                </a:cubicBezTo>
                <a:cubicBezTo>
                  <a:pt x="559" y="47"/>
                  <a:pt x="535" y="16"/>
                  <a:pt x="501" y="2"/>
                </a:cubicBezTo>
                <a:cubicBezTo>
                  <a:pt x="497" y="0"/>
                  <a:pt x="495" y="8"/>
                  <a:pt x="492" y="1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5181480"/>
            <a:ext cx="388620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Waar ligt …</a:t>
            </a:r>
            <a:br>
              <a:rPr sz="3200"/>
            </a:br>
            <a:r>
              <a:rPr b="1" lang="nl-BE" sz="3200" spc="-1" strike="noStrike">
                <a:solidFill>
                  <a:srgbClr val="0000ff"/>
                </a:solidFill>
                <a:latin typeface="Arial"/>
              </a:rPr>
              <a:t>Waals-Brabant ?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lik op de kaart.</a:t>
            </a:r>
            <a:r>
              <a:rPr b="1" lang="nl-BE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228600"/>
          <a:ext cx="533520" cy="48006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41911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148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0">
                <a:moveTo>
                  <a:pt x="11905" y="14287"/>
                </a:moveTo>
                <a:lnTo>
                  <a:pt x="11905" y="12328"/>
                </a:lnTo>
                <a:cubicBezTo>
                  <a:pt x="11905" y="11501"/>
                  <a:pt x="12236" y="10805"/>
                  <a:pt x="12837" y="10805"/>
                </a:cubicBezTo>
                <a:cubicBezTo>
                  <a:pt x="13968" y="10805"/>
                  <a:pt x="14865" y="9439"/>
                  <a:pt x="14865" y="7855"/>
                </a:cubicBezTo>
                <a:cubicBezTo>
                  <a:pt x="14865" y="5539"/>
                  <a:pt x="13011" y="3799"/>
                  <a:pt x="10800" y="3799"/>
                </a:cubicBezTo>
                <a:cubicBezTo>
                  <a:pt x="8589" y="3799"/>
                  <a:pt x="6918" y="5539"/>
                  <a:pt x="6918" y="7855"/>
                </a:cubicBezTo>
                <a:lnTo>
                  <a:pt x="8772" y="7855"/>
                </a:lnTo>
                <a:cubicBezTo>
                  <a:pt x="8772" y="6714"/>
                  <a:pt x="9695" y="5827"/>
                  <a:pt x="10800" y="5827"/>
                </a:cubicBezTo>
                <a:cubicBezTo>
                  <a:pt x="11905" y="5827"/>
                  <a:pt x="12837" y="6714"/>
                  <a:pt x="12837" y="7855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5"/>
                  <a:pt x="9695" y="12328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5105520" y="59436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12:36:19Z</dcterms:created>
  <dc:creator>Kraeye Geert</dc:creator>
  <dc:description/>
  <dc:language>en-US</dc:language>
  <cp:lastModifiedBy>Kraeye Geert</cp:lastModifiedBy>
  <dcterms:modified xsi:type="dcterms:W3CDTF">2003-01-02T20:52:22Z</dcterms:modified>
  <cp:revision>15</cp:revision>
  <dc:subject/>
  <dc:title>PowerPoint-presentatie</dc:title>
</cp:coreProperties>
</file>