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AB8-0708-4166-BD01-DC44E582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59B-AD2B-4A7F-891C-F27FBDD9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766-73DF-46D2-823C-7A7FD323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AB7-F1AF-4E35-91ED-5D7BC2F5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FA7-1837-4CFE-B0AA-F638A72B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CBE-F971-4095-8444-AF0B689E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C5D-1684-4ECA-8579-765BD2F5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BB7-3B84-4821-BC2A-B314C8BE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9C3-2648-4EA3-BF5E-35A140C2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16A-3D7D-4A90-B367-2B2E5B56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4B8-26F4-4EFC-94B7-01C34498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E9A-C05C-4729-8787-BE6CE20D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5A49-ABCE-43D0-BD01-54AC65F58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rovincies-ANI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42916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5715000"/>
            <a:ext cx="861048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868686"/>
                  </a:outerShdw>
                </a:effectLst>
                <a:latin typeface="Arial Black"/>
              </a:rPr>
              <a:t>DE 10 PROVINCIES VAN BELG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57200" y="4038480"/>
            <a:ext cx="1447920" cy="129564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4138" h="21600">
                <a:moveTo>
                  <a:pt x="0" y="0"/>
                </a:moveTo>
                <a:lnTo>
                  <a:pt x="24138" y="0"/>
                </a:lnTo>
                <a:lnTo>
                  <a:pt x="24138" y="21600"/>
                </a:lnTo>
                <a:lnTo>
                  <a:pt x="0" y="21600"/>
                </a:lnTo>
                <a:close/>
              </a:path>
              <a:path fill="lightenLess" w="24138" h="21600">
                <a:moveTo>
                  <a:pt x="0" y="0"/>
                </a:moveTo>
                <a:lnTo>
                  <a:pt x="24138" y="0"/>
                </a:lnTo>
                <a:lnTo>
                  <a:pt x="22738" y="1400"/>
                </a:lnTo>
                <a:lnTo>
                  <a:pt x="1400" y="1400"/>
                </a:lnTo>
                <a:close/>
              </a:path>
              <a:path fill="darken" w="24138" h="21600">
                <a:moveTo>
                  <a:pt x="24138" y="0"/>
                </a:moveTo>
                <a:lnTo>
                  <a:pt x="24138" y="21600"/>
                </a:lnTo>
                <a:lnTo>
                  <a:pt x="22738" y="20200"/>
                </a:lnTo>
                <a:lnTo>
                  <a:pt x="22738" y="1400"/>
                </a:lnTo>
                <a:close/>
              </a:path>
              <a:path fill="darkenLess" w="24138" h="21600">
                <a:moveTo>
                  <a:pt x="24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8" y="20200"/>
                </a:lnTo>
                <a:close/>
              </a:path>
              <a:path fill="lighten" w="24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38" h="21600">
                <a:moveTo>
                  <a:pt x="5063" y="3794"/>
                </a:moveTo>
                <a:lnTo>
                  <a:pt x="19075" y="10800"/>
                </a:lnTo>
                <a:lnTo>
                  <a:pt x="5063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457200"/>
            <a:ext cx="2895480" cy="487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volgende sta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terugker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keuzemen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ik wil hul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stopp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8571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781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4960" y="26956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610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4495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53040" y="457200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9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Limburg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Vlaams-Brabant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Luik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Luxemburg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Namen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65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Je hebt ze allemaal juist. Keer terug naar het keuzemenu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Namen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80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81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82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83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84" name="orang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85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86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87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88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Brugge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orang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96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97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98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99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00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01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03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04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Antwerpen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12" name="orang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13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14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15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16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17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18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19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20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Aarlen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28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29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30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31" name="orang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32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33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34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35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36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aart%20provincies4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904760" cy="160344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609480" y="5562720"/>
            <a:ext cx="1219320" cy="99036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92" h="21600">
                <a:moveTo>
                  <a:pt x="0" y="0"/>
                </a:moveTo>
                <a:lnTo>
                  <a:pt x="26592" y="0"/>
                </a:lnTo>
                <a:lnTo>
                  <a:pt x="26592" y="21600"/>
                </a:lnTo>
                <a:lnTo>
                  <a:pt x="0" y="21600"/>
                </a:lnTo>
                <a:close/>
              </a:path>
              <a:path fill="lightenLess" w="26592" h="21600">
                <a:moveTo>
                  <a:pt x="0" y="0"/>
                </a:moveTo>
                <a:lnTo>
                  <a:pt x="26592" y="0"/>
                </a:lnTo>
                <a:lnTo>
                  <a:pt x="25192" y="1400"/>
                </a:lnTo>
                <a:lnTo>
                  <a:pt x="1400" y="1400"/>
                </a:lnTo>
                <a:close/>
              </a:path>
              <a:path fill="darken" w="26592" h="21600">
                <a:moveTo>
                  <a:pt x="26592" y="0"/>
                </a:moveTo>
                <a:lnTo>
                  <a:pt x="26592" y="21600"/>
                </a:lnTo>
                <a:lnTo>
                  <a:pt x="25192" y="20200"/>
                </a:lnTo>
                <a:lnTo>
                  <a:pt x="25192" y="1400"/>
                </a:lnTo>
                <a:close/>
              </a:path>
              <a:path fill="darkenLess" w="26592" h="21600">
                <a:moveTo>
                  <a:pt x="26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92" y="20200"/>
                </a:lnTo>
                <a:close/>
              </a:path>
              <a:path fill="lighten" w="26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92" h="21600">
                <a:moveTo>
                  <a:pt x="6289" y="3794"/>
                </a:moveTo>
                <a:lnTo>
                  <a:pt x="20302" y="10800"/>
                </a:lnTo>
                <a:lnTo>
                  <a:pt x="6289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kaart%20provincies4" descr=""/>
          <p:cNvPicPr/>
          <p:nvPr/>
        </p:nvPicPr>
        <p:blipFill>
          <a:blip r:embed="rId3"/>
          <a:stretch/>
        </p:blipFill>
        <p:spPr>
          <a:xfrm>
            <a:off x="2514600" y="1066680"/>
            <a:ext cx="1905120" cy="1603440"/>
          </a:xfrm>
          <a:prstGeom prst="rect">
            <a:avLst/>
          </a:prstGeom>
          <a:ln w="0">
            <a:noFill/>
          </a:ln>
        </p:spPr>
      </p:pic>
      <p:pic>
        <p:nvPicPr>
          <p:cNvPr id="55" name="kaart%20provincies4" descr=""/>
          <p:cNvPicPr/>
          <p:nvPr/>
        </p:nvPicPr>
        <p:blipFill>
          <a:blip r:embed="rId4"/>
          <a:stretch/>
        </p:blipFill>
        <p:spPr>
          <a:xfrm>
            <a:off x="4876920" y="1066680"/>
            <a:ext cx="1904760" cy="1603440"/>
          </a:xfrm>
          <a:prstGeom prst="rect">
            <a:avLst/>
          </a:prstGeom>
          <a:ln w="0">
            <a:noFill/>
          </a:ln>
        </p:spPr>
      </p:pic>
      <p:pic>
        <p:nvPicPr>
          <p:cNvPr id="56" name="kaart%20provincies4" descr=""/>
          <p:cNvPicPr/>
          <p:nvPr/>
        </p:nvPicPr>
        <p:blipFill>
          <a:blip r:embed="rId5"/>
          <a:stretch/>
        </p:blipFill>
        <p:spPr>
          <a:xfrm>
            <a:off x="7010280" y="1143000"/>
            <a:ext cx="1905120" cy="160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676520" y="30492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868686"/>
                  </a:outerShdw>
                </a:effectLst>
                <a:latin typeface="Arial Black"/>
              </a:rPr>
              <a:t>KEUZEMEN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2743200"/>
            <a:ext cx="2133720" cy="2705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ff"/>
                </a:solidFill>
                <a:latin typeface="Arial"/>
              </a:rPr>
              <a:t>VERKENNEN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Wil je eerst de </a:t>
            </a:r>
            <a:r>
              <a:rPr b="1" lang="nl-BE" sz="1800" spc="-1" strike="noStrike">
                <a:solidFill>
                  <a:srgbClr val="0000ff"/>
                </a:solidFill>
                <a:latin typeface="Arial"/>
              </a:rPr>
              <a:t>provincies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beter leren situeren dan kan je hier even de nodige informatie vinde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743200"/>
            <a:ext cx="2133360" cy="2705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VERKENNEN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Wil je eerst de </a:t>
            </a: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hoofdsteden van de provincies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beter leren situeren dan kan je hier even de nodige informatie vi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743200"/>
            <a:ext cx="2133720" cy="2705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ff"/>
                </a:solidFill>
                <a:latin typeface="Arial"/>
              </a:rPr>
              <a:t>TOETS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Wil je even testen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hoe het staat met jouw kennis in verband met de</a:t>
            </a:r>
            <a:br>
              <a:rPr sz="1800"/>
            </a:br>
            <a:r>
              <a:rPr b="1" lang="nl-BE" sz="1800" spc="-1" strike="noStrike">
                <a:solidFill>
                  <a:srgbClr val="0000ff"/>
                </a:solidFill>
                <a:latin typeface="Arial"/>
              </a:rPr>
              <a:t>provincies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dan kan je hier aan de sla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2743200"/>
            <a:ext cx="2152800" cy="2705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TOETS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Wil je even testen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hoe het staat met jouw kennis in verband met de 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hoofdsteden van de provincies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dan kan je hier aan de s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6" action="ppaction://hlinksldjump"/>
          </p:cNvPr>
          <p:cNvSpPr/>
          <p:nvPr/>
        </p:nvSpPr>
        <p:spPr>
          <a:xfrm>
            <a:off x="2819520" y="55627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3794"/>
                </a:moveTo>
                <a:lnTo>
                  <a:pt x="20298" y="10800"/>
                </a:lnTo>
                <a:lnTo>
                  <a:pt x="628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7" action="ppaction://hlinksldjump"/>
          </p:cNvPr>
          <p:cNvSpPr/>
          <p:nvPr/>
        </p:nvSpPr>
        <p:spPr>
          <a:xfrm>
            <a:off x="5029200" y="5562720"/>
            <a:ext cx="1219320" cy="99036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92" h="21600">
                <a:moveTo>
                  <a:pt x="0" y="0"/>
                </a:moveTo>
                <a:lnTo>
                  <a:pt x="26592" y="0"/>
                </a:lnTo>
                <a:lnTo>
                  <a:pt x="26592" y="21600"/>
                </a:lnTo>
                <a:lnTo>
                  <a:pt x="0" y="21600"/>
                </a:lnTo>
                <a:close/>
              </a:path>
              <a:path fill="lightenLess" w="26592" h="21600">
                <a:moveTo>
                  <a:pt x="0" y="0"/>
                </a:moveTo>
                <a:lnTo>
                  <a:pt x="26592" y="0"/>
                </a:lnTo>
                <a:lnTo>
                  <a:pt x="25192" y="1400"/>
                </a:lnTo>
                <a:lnTo>
                  <a:pt x="1400" y="1400"/>
                </a:lnTo>
                <a:close/>
              </a:path>
              <a:path fill="darken" w="26592" h="21600">
                <a:moveTo>
                  <a:pt x="26592" y="0"/>
                </a:moveTo>
                <a:lnTo>
                  <a:pt x="26592" y="21600"/>
                </a:lnTo>
                <a:lnTo>
                  <a:pt x="25192" y="20200"/>
                </a:lnTo>
                <a:lnTo>
                  <a:pt x="25192" y="1400"/>
                </a:lnTo>
                <a:close/>
              </a:path>
              <a:path fill="darkenLess" w="26592" h="21600">
                <a:moveTo>
                  <a:pt x="26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92" y="20200"/>
                </a:lnTo>
                <a:close/>
              </a:path>
              <a:path fill="lighten" w="26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92" h="21600">
                <a:moveTo>
                  <a:pt x="6289" y="3794"/>
                </a:moveTo>
                <a:lnTo>
                  <a:pt x="20302" y="10800"/>
                </a:lnTo>
                <a:lnTo>
                  <a:pt x="6289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5562720"/>
            <a:ext cx="1219320" cy="99036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92" h="21600">
                <a:moveTo>
                  <a:pt x="0" y="0"/>
                </a:moveTo>
                <a:lnTo>
                  <a:pt x="26592" y="0"/>
                </a:lnTo>
                <a:lnTo>
                  <a:pt x="26592" y="21600"/>
                </a:lnTo>
                <a:lnTo>
                  <a:pt x="0" y="21600"/>
                </a:lnTo>
                <a:close/>
              </a:path>
              <a:path fill="lightenLess" w="26592" h="21600">
                <a:moveTo>
                  <a:pt x="0" y="0"/>
                </a:moveTo>
                <a:lnTo>
                  <a:pt x="26592" y="0"/>
                </a:lnTo>
                <a:lnTo>
                  <a:pt x="25192" y="1400"/>
                </a:lnTo>
                <a:lnTo>
                  <a:pt x="1400" y="1400"/>
                </a:lnTo>
                <a:close/>
              </a:path>
              <a:path fill="darken" w="26592" h="21600">
                <a:moveTo>
                  <a:pt x="26592" y="0"/>
                </a:moveTo>
                <a:lnTo>
                  <a:pt x="26592" y="21600"/>
                </a:lnTo>
                <a:lnTo>
                  <a:pt x="25192" y="20200"/>
                </a:lnTo>
                <a:lnTo>
                  <a:pt x="25192" y="1400"/>
                </a:lnTo>
                <a:close/>
              </a:path>
              <a:path fill="darkenLess" w="26592" h="21600">
                <a:moveTo>
                  <a:pt x="26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92" y="20200"/>
                </a:lnTo>
                <a:close/>
              </a:path>
              <a:path fill="lighten" w="26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92" h="21600">
                <a:moveTo>
                  <a:pt x="6289" y="3794"/>
                </a:moveTo>
                <a:lnTo>
                  <a:pt x="20302" y="10800"/>
                </a:lnTo>
                <a:lnTo>
                  <a:pt x="6289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Bergen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341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44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45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46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47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48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49" name="orang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50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51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52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Gent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357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60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61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62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63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64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65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66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67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68" name="orang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Leuven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373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76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77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78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79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80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81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82" name="orang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83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84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Luik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389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92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93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94" name="orang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95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96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97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98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99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00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Waver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405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08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09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10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11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12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13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14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15" name="orang" descr="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16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Hasselt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421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24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25" name="orang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26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27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28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29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30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31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32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Je hebt ze allemaal juist. Keer terug naar het keuze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orang" descr=""/>
          <p:cNvPicPr/>
          <p:nvPr/>
        </p:nvPicPr>
        <p:blipFill>
          <a:blip r:embed="rId2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40" name="orang" descr=""/>
          <p:cNvPicPr/>
          <p:nvPr/>
        </p:nvPicPr>
        <p:blipFill>
          <a:blip r:embed="rId3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41" name="orang" descr=""/>
          <p:cNvPicPr/>
          <p:nvPr/>
        </p:nvPicPr>
        <p:blipFill>
          <a:blip r:embed="rId4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42" name="orang" descr=""/>
          <p:cNvPicPr/>
          <p:nvPr/>
        </p:nvPicPr>
        <p:blipFill>
          <a:blip r:embed="rId5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43" name="orang" descr=""/>
          <p:cNvPicPr/>
          <p:nvPr/>
        </p:nvPicPr>
        <p:blipFill>
          <a:blip r:embed="rId6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44" name="orang" descr=""/>
          <p:cNvPicPr/>
          <p:nvPr/>
        </p:nvPicPr>
        <p:blipFill>
          <a:blip r:embed="rId7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45" name="orang" descr=""/>
          <p:cNvPicPr/>
          <p:nvPr/>
        </p:nvPicPr>
        <p:blipFill>
          <a:blip r:embed="rId8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46" name="orang" descr=""/>
          <p:cNvPicPr/>
          <p:nvPr/>
        </p:nvPicPr>
        <p:blipFill>
          <a:blip r:embed="rId9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47" name="orang" descr=""/>
          <p:cNvPicPr/>
          <p:nvPr/>
        </p:nvPicPr>
        <p:blipFill>
          <a:blip r:embed="rId10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48" name="orang" descr=""/>
          <p:cNvPicPr/>
          <p:nvPr/>
        </p:nvPicPr>
        <p:blipFill>
          <a:blip r:embed="rId11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kaart%20provincies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09680" y="380880"/>
            <a:ext cx="4572000" cy="38512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533520" y="4343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Je maakte een foutje</a:t>
            </a:r>
            <a:br>
              <a:rPr sz="3600"/>
            </a:b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robeer het eens opnieu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previousslide"/>
          </p:cNvPr>
          <p:cNvSpPr/>
          <p:nvPr/>
        </p:nvSpPr>
        <p:spPr>
          <a:xfrm>
            <a:off x="3962520" y="56386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4621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kaart%20provincies4" descr=""/>
          <p:cNvPicPr/>
          <p:nvPr/>
        </p:nvPicPr>
        <p:blipFill>
          <a:blip r:embed="rId1"/>
          <a:stretch/>
        </p:blipFill>
        <p:spPr>
          <a:xfrm>
            <a:off x="1295280" y="181080"/>
            <a:ext cx="7543800" cy="6352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8600" y="4114800"/>
            <a:ext cx="3733920" cy="2549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00ff"/>
                </a:solidFill>
                <a:uFillTx/>
                <a:latin typeface="Arial"/>
              </a:rPr>
              <a:t>PROVINCIES</a:t>
            </a: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1400" spc="-1" strike="noStrike" u="sng">
                <a:solidFill>
                  <a:srgbClr val="ff0000"/>
                </a:solidFill>
                <a:uFillTx/>
                <a:latin typeface="Arial"/>
              </a:rPr>
              <a:t>HOOFDST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Oost-Vlaander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Gent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West-Vlaander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Brugge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Antwerp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Antwerpen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Limburg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Hasselt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Vlaams-Brabant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Leuv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Waals-Brabant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Waver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Henegouw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Bergen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Nam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Namen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Luik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Luik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Luxemburg</a:t>
            </a: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Aar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1600200"/>
            <a:ext cx="2361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West-Vlaand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1176480"/>
            <a:ext cx="2362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Oost-Vlaand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914400"/>
            <a:ext cx="1295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Antwer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1523880"/>
            <a:ext cx="1295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Limbu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33760" y="1981080"/>
            <a:ext cx="1905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Vlaams-Brab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81640" y="2724120"/>
            <a:ext cx="1828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Waals-Brab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3200400"/>
            <a:ext cx="1600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Henegouw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3048120"/>
            <a:ext cx="1295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Lu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3733920"/>
            <a:ext cx="1295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Na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4648320"/>
            <a:ext cx="1295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Luxembu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76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 u="sng">
                <a:solidFill>
                  <a:srgbClr val="0000ff"/>
                </a:solidFill>
                <a:uFillTx/>
                <a:latin typeface="Arial"/>
              </a:rPr>
              <a:t>De provi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502920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411480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aart%20provincies4" descr=""/>
          <p:cNvPicPr/>
          <p:nvPr/>
        </p:nvPicPr>
        <p:blipFill>
          <a:blip r:embed="rId1"/>
          <a:stretch/>
        </p:blipFill>
        <p:spPr>
          <a:xfrm>
            <a:off x="1295280" y="181080"/>
            <a:ext cx="7543800" cy="6352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" y="4114800"/>
            <a:ext cx="3733920" cy="2549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00ff"/>
                </a:solidFill>
                <a:uFillTx/>
                <a:latin typeface="Arial"/>
              </a:rPr>
              <a:t>PROVINCIES</a:t>
            </a: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1400" spc="-1" strike="noStrike" u="sng">
                <a:solidFill>
                  <a:srgbClr val="ff0000"/>
                </a:solidFill>
                <a:uFillTx/>
                <a:latin typeface="Arial"/>
              </a:rPr>
              <a:t>HOOFDST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Oost-Vlaander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Gent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West-Vlaander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Brugge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Antwerp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Antwerpen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Limburg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Hasselt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Vlaams-Brabant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Leuv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Waals-Brabant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Waver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Henegouw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Bergen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Nam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Namen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Luik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Luik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Luxemburg</a:t>
            </a: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Aar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62080" y="1152360"/>
            <a:ext cx="914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Brug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14920" y="1206360"/>
            <a:ext cx="1295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Antwer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53280" y="2009880"/>
            <a:ext cx="1295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Hass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2724120"/>
            <a:ext cx="852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Wa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33840" y="3473280"/>
            <a:ext cx="1600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Ber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2976480"/>
            <a:ext cx="1295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Lu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48160" y="3476520"/>
            <a:ext cx="1295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Na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5715000"/>
            <a:ext cx="1295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Aar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rang" descr=""/>
          <p:cNvPicPr/>
          <p:nvPr/>
        </p:nvPicPr>
        <p:blipFill>
          <a:blip r:embed="rId2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93" name="orang" descr=""/>
          <p:cNvPicPr/>
          <p:nvPr/>
        </p:nvPicPr>
        <p:blipFill>
          <a:blip r:embed="rId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4" name="orang" descr=""/>
          <p:cNvPicPr/>
          <p:nvPr/>
        </p:nvPicPr>
        <p:blipFill>
          <a:blip r:embed="rId4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95" name="orang" descr=""/>
          <p:cNvPicPr/>
          <p:nvPr/>
        </p:nvPicPr>
        <p:blipFill>
          <a:blip r:embed="rId5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6" name="orang" descr=""/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7" name="orang" descr=""/>
          <p:cNvPicPr/>
          <p:nvPr/>
        </p:nvPicPr>
        <p:blipFill>
          <a:blip r:embed="rId7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8" name="orang" descr=""/>
          <p:cNvPicPr/>
          <p:nvPr/>
        </p:nvPicPr>
        <p:blipFill>
          <a:blip r:embed="rId8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9" name="orang" descr=""/>
          <p:cNvPicPr/>
          <p:nvPr/>
        </p:nvPicPr>
        <p:blipFill>
          <a:blip r:embed="rId9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0" name="orang" descr=""/>
          <p:cNvPicPr/>
          <p:nvPr/>
        </p:nvPicPr>
        <p:blipFill>
          <a:blip r:embed="rId10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05160" y="1676520"/>
            <a:ext cx="914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116080"/>
            <a:ext cx="914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rang" descr=""/>
          <p:cNvPicPr/>
          <p:nvPr/>
        </p:nvPicPr>
        <p:blipFill>
          <a:blip r:embed="rId11"/>
          <a:stretch/>
        </p:blipFill>
        <p:spPr>
          <a:xfrm>
            <a:off x="5257800" y="267012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280" y="76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 u="sng">
                <a:solidFill>
                  <a:srgbClr val="ff0000"/>
                </a:solidFill>
                <a:uFillTx/>
                <a:latin typeface="Arial"/>
              </a:rPr>
              <a:t>De hoofdste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2" action="ppaction://hlinksldjump"/>
          </p:cNvPr>
          <p:cNvSpPr/>
          <p:nvPr/>
        </p:nvSpPr>
        <p:spPr>
          <a:xfrm>
            <a:off x="502920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11480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Oost-Vlaanderen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West-Vlaanderen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Henegouwen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Antwerpen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173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Waals-Brabant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12:36:19Z</dcterms:created>
  <dc:creator>Kraeye Geert</dc:creator>
  <dc:description/>
  <dc:language>en-US</dc:language>
  <cp:lastModifiedBy>Kraeye Geert</cp:lastModifiedBy>
  <dcterms:modified xsi:type="dcterms:W3CDTF">2003-01-02T20:52:22Z</dcterms:modified>
  <cp:revision>15</cp:revision>
  <dc:subject/>
  <dc:title>PowerPoint-presentatie</dc:title>
</cp:coreProperties>
</file>