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A5A-9D9C-4419-BD99-626629F6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F6F-7004-486E-8499-077470C9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893-0CC6-4682-B5A5-7075CC86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734-2A69-436C-9D84-44119088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F85-BAA2-476E-A4C9-A85274FD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A83-9E32-4208-8F3E-3FFE4872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AC6-9EFF-4AA1-9B6E-AB2877F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AFA-BC12-4C03-A4C6-A698AC6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565-31B2-495A-B457-2ACC41ED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137-2B2B-4D07-9979-CB86704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8B7-735C-4058-9A2C-7DC11A6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CF9-5EEF-4AAA-B9F9-CCAB7E3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344-20C5-4C3A-AC6D-F835947509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3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3.gif"/><Relationship Id="rId5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3.gif"/><Relationship Id="rId5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3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3.gif"/><Relationship Id="rId5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3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3.gif"/><Relationship Id="rId5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3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3.gif"/><Relationship Id="rId5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3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3.gif"/><Relationship Id="rId5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3.gif"/><Relationship Id="rId5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3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3.gif"/><Relationship Id="rId6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3.gif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3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2.gif"/><Relationship Id="rId61" Type="http://schemas.openxmlformats.org/officeDocument/2006/relationships/image" Target="../media/image3.gif"/><Relationship Id="rId6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3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3.gif"/><Relationship Id="rId4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3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3.gif"/><Relationship Id="rId4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3.gif"/><Relationship Id="rId4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3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3.gif"/><Relationship Id="rId4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3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3.gif"/><Relationship Id="rId4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3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3.gif"/><Relationship Id="rId4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3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3.gif"/><Relationship Id="rId5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3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3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3.gif"/><Relationship Id="rId5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3.gif"/><Relationship Id="rId5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3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3.gif"/><Relationship Id="rId5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3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3.gif"/><Relationship Id="rId5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3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3.gif"/><Relationship Id="rId5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3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3.gif"/><Relationship Id="rId5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3.gif"/><Relationship Id="rId5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3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3.gif"/><Relationship Id="rId6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3.gif"/><Relationship Id="rId6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4.gif"/><Relationship Id="rId61" Type="http://schemas.openxmlformats.org/officeDocument/2006/relationships/image" Target="../media/image3.gif"/><Relationship Id="rId6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3.gif"/><Relationship Id="rId4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3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3.gif"/><Relationship Id="rId4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3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3.gif"/><Relationship Id="rId4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3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3.gif"/><Relationship Id="rId4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3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3.gif"/><Relationship Id="rId5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3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80880" y="4572000"/>
            <a:ext cx="1600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200400" y="4572000"/>
            <a:ext cx="1600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380880" y="52578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4625" y="3794"/>
                </a:moveTo>
                <a:lnTo>
                  <a:pt x="18638" y="10800"/>
                </a:lnTo>
                <a:lnTo>
                  <a:pt x="462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2" action="ppaction://hlinksldjump"/>
          </p:cNvPr>
          <p:cNvSpPr/>
          <p:nvPr/>
        </p:nvSpPr>
        <p:spPr>
          <a:xfrm>
            <a:off x="37339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D:\alles\Werk\onderwijs materiaal\onderwijs BEELD\mapEUROPE3.gif"/>
          <p:cNvPicPr/>
          <p:nvPr/>
        </p:nvPicPr>
        <p:blipFill>
          <a:blip r:embed="rId3"/>
          <a:stretch/>
        </p:blipFill>
        <p:spPr>
          <a:xfrm>
            <a:off x="380880" y="380880"/>
            <a:ext cx="4419720" cy="3998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029200" y="380880"/>
            <a:ext cx="3886200" cy="62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ff"/>
                </a:solidFill>
                <a:latin typeface="Arial"/>
              </a:rPr>
              <a:t>TEST Je kennis van de Europese landen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Reeks 1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gemakkelijk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reeks met de ons vertrouwde landen en die we dus gemakkelijker kunnen situere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ff"/>
                </a:solidFill>
                <a:latin typeface="Arial"/>
              </a:rPr>
              <a:t>Reeks 2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1" lang="nl-BE" sz="1600" spc="-1" strike="noStrike">
                <a:solidFill>
                  <a:srgbClr val="0000ff"/>
                </a:solidFill>
                <a:latin typeface="Arial"/>
              </a:rPr>
              <a:t>moeilijk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reeks met een heleboel landen die ons nog niet zo vertrouwd in de oren klinken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oe gaat het in z’n werk?</a:t>
            </a:r>
            <a:br>
              <a:rPr sz="1600"/>
            </a:b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rod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 is het land dat we zoeken. 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 De </a:t>
            </a:r>
            <a:r>
              <a:rPr b="1" lang="nl-BE" sz="1600" spc="-1" strike="noStrike">
                <a:solidFill>
                  <a:srgbClr val="00cc00"/>
                </a:solidFill>
                <a:latin typeface="Arial"/>
              </a:rPr>
              <a:t>groen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s daar moeten we op klikken. 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 De </a:t>
            </a:r>
            <a:r>
              <a:rPr b="1" lang="nl-BE" sz="1600" spc="-1" strike="noStrike">
                <a:solidFill>
                  <a:srgbClr val="ff9900"/>
                </a:solidFill>
                <a:latin typeface="Arial"/>
              </a:rPr>
              <a:t>oranj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s zijn de landen die we reeds gevonden hebbe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We wensen je veel succes tijdens jullie Europese zoektoc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5138640" y="37908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D:\alles\Werk\onderwijs materiaal\onderwijs BEELD\prenten\bewegende beelden\allerlei\red.gif"/>
          <p:cNvPicPr/>
          <p:nvPr/>
        </p:nvPicPr>
        <p:blipFill>
          <a:blip r:embed="rId5"/>
          <a:stretch/>
        </p:blipFill>
        <p:spPr>
          <a:xfrm>
            <a:off x="5133960" y="329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:\alles\Werk\onderwijs materiaal\onderwijs BEELD\prenten\bewegende beelden\allerlei\orang.gif"/>
          <p:cNvPicPr/>
          <p:nvPr/>
        </p:nvPicPr>
        <p:blipFill>
          <a:blip r:embed="rId6"/>
          <a:stretch/>
        </p:blipFill>
        <p:spPr>
          <a:xfrm>
            <a:off x="5148360" y="426708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>
            <a:hlinkClick r:id="" action="ppaction://hlinkshowjump?jump=endshow"/>
          </p:cNvPr>
          <p:cNvSpPr/>
          <p:nvPr/>
        </p:nvSpPr>
        <p:spPr>
          <a:xfrm>
            <a:off x="2085840" y="525780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2209680" y="5562720"/>
            <a:ext cx="7621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T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0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7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1814400" y="20858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0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0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2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8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1814400" y="22860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0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0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8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1814400" y="2514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9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0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7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1814400" y="27097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7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9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60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4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7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1814400" y="2924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6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7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9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0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1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67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1814400" y="31528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5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6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57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59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0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2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67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1814400" y="33526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4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5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6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57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9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60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68" descr="D:\alles\Werk\onderwijs materiaal\onderwijs BEELD\prenten\bewegende beelden\allerlei\red.gif"/>
          <p:cNvPicPr/>
          <p:nvPr/>
        </p:nvPicPr>
        <p:blipFill>
          <a:blip r:embed="rId58"/>
          <a:stretch/>
        </p:blipFill>
        <p:spPr>
          <a:xfrm>
            <a:off x="1814400" y="35672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3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4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5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6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57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59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60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9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67" descr="D:\alles\Werk\onderwijs materiaal\onderwijs BEELD\prenten\bewegende beelden\allerlei\red.gif"/>
          <p:cNvPicPr/>
          <p:nvPr/>
        </p:nvPicPr>
        <p:blipFill>
          <a:blip r:embed="rId59"/>
          <a:stretch/>
        </p:blipFill>
        <p:spPr>
          <a:xfrm>
            <a:off x="1814400" y="3781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2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3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4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5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6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7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9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60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6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Picture 6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57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7" descr="D:\alles\Werk\onderwijs materiaal\onderwijs BEELD\prenten\bewegende beelden\allerlei\red.gif"/>
          <p:cNvPicPr/>
          <p:nvPr/>
        </p:nvPicPr>
        <p:blipFill>
          <a:blip r:embed="rId60"/>
          <a:stretch/>
        </p:blipFill>
        <p:spPr>
          <a:xfrm>
            <a:off x="1814400" y="3990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7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1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2" descr="D:\alles\Werk\onderwijs materiaal\onderwijs BEELD\prenten\bewegende beelden\allerlei\red.gif"/>
          <p:cNvPicPr/>
          <p:nvPr/>
        </p:nvPicPr>
        <p:blipFill>
          <a:blip r:embed="rId3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3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74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5" name="AutoShape 75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6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1828800" y="3808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029200" y="39625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8880" y="2895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6429240" y="5227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0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1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52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53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4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55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56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7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59" descr="D:\alles\Werk\onderwijs materiaal\onderwijs BEELD\prenten\bewegende beelden\allerlei\orang.gif"/>
          <p:cNvPicPr/>
          <p:nvPr/>
        </p:nvPicPr>
        <p:blipFill>
          <a:blip r:embed="rId5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60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3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65" descr="D:\alles\Werk\ZESDE leerjaar\Alles voor website\schoolwebsite\html bestanden bij homepage\greenbol.gif">
            <a:hlinkClick r:id="" action="ppaction://hlinkshowjump?jump=firstslide"/>
          </p:cNvPr>
          <p:cNvPicPr/>
          <p:nvPr/>
        </p:nvPicPr>
        <p:blipFill>
          <a:blip r:embed="rId59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0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67" descr="D:\alles\Werk\onderwijs materiaal\onderwijs BEELD\prenten\bewegende beelden\allerlei\red.gif"/>
          <p:cNvPicPr/>
          <p:nvPr/>
        </p:nvPicPr>
        <p:blipFill>
          <a:blip r:embed="rId61"/>
          <a:stretch/>
        </p:blipFill>
        <p:spPr>
          <a:xfrm>
            <a:off x="1814400" y="4205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2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17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75" name="Picture 59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60" descr="D:\alles\Werk\onderwijs materiaal\onderwijs BEELD\prenten\bewegende beelden\allerlei\red.gif"/>
          <p:cNvPicPr/>
          <p:nvPr/>
        </p:nvPicPr>
        <p:blipFill>
          <a:blip r:embed="rId3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0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67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1814400" y="3808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3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39"/>
          <p:cNvSpPr/>
          <p:nvPr/>
        </p:nvSpPr>
        <p:spPr>
          <a:xfrm>
            <a:off x="0" y="285840"/>
            <a:ext cx="187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oldavië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Picture 44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23" name="WordArt 64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224" name="Picture 65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66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26" name="Text Box 67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68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Picture 6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7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7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72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1809720" y="5904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32" name="Text Box 73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7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274" name="Picture 59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60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66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1809720" y="7984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2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25" name="Picture 59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60" descr="D:\alles\Werk\onderwijs materiaal\onderwijs BEELD\prenten\bewegende beelden\allerlei\red.gif"/>
          <p:cNvPicPr/>
          <p:nvPr/>
        </p:nvPicPr>
        <p:blipFill>
          <a:blip r:embed="rId4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66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1803240" y="1019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3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2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7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76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77" name="Picture 59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60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379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67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1809720" y="12333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8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2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42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2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430" name="Picture 59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60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3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66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1809720" y="14479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38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47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8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484" name="Picture 59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60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8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66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1809720" y="16477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9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3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3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39" name="Picture 59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60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4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66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1809720" y="1862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4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7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3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9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95" name="Picture 5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60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9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66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1809720" y="20700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60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9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4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1814400" y="5810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8880" y="2895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22720" y="39528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32480" y="52434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3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4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50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51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52" name="Picture 5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60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654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6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66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1809720" y="22906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660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1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9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4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50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0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10" name="Picture 59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60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71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67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1809720" y="25034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718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2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5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66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7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6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69" name="Picture 59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70" name="Picture 60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77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66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1809720" y="27082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4" name="Picture 3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57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82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829" name="Picture 59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60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3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6" name="Picture 66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1809720" y="29275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3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5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6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2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7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56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57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88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890" name="Picture 59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60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9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9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9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66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1809720" y="31370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98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0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1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2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3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3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93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3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44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5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47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8" name="Picture 55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9" name="Picture 56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57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51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952" name="Picture 59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60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954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6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67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1809720" y="3360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60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8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3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9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99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54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55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56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7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1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015" name="Picture 59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0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1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66" descr="D:\alles\Werk\onderwijs materiaal\onderwijs BEELD\prenten\bewegende beelden\allerlei\red.gif"/>
          <p:cNvPicPr/>
          <p:nvPr/>
        </p:nvPicPr>
        <p:blipFill>
          <a:blip r:embed="rId58"/>
          <a:stretch/>
        </p:blipFill>
        <p:spPr>
          <a:xfrm>
            <a:off x="1809720" y="3562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2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3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3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4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3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06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8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9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1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72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3" name="Picture 53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54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55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56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57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7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079" name="Picture 59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60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8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66" descr="D:\alles\Werk\onderwijs materiaal\onderwijs BEELD\prenten\bewegende beelden\allerlei\red.gif"/>
          <p:cNvPicPr/>
          <p:nvPr/>
        </p:nvPicPr>
        <p:blipFill>
          <a:blip r:embed="rId59"/>
          <a:stretch/>
        </p:blipFill>
        <p:spPr>
          <a:xfrm>
            <a:off x="1809720" y="376560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8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20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52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53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9" name="Picture 54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40" name="Picture 55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56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57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14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44" name="Picture 59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60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14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6" descr="D:\alles\Werk\onderwijs materiaal\onderwijs BEELD\prenten\bewegende beelden\allerlei\red.gif"/>
          <p:cNvPicPr/>
          <p:nvPr/>
        </p:nvPicPr>
        <p:blipFill>
          <a:blip r:embed="rId60"/>
          <a:stretch/>
        </p:blipFill>
        <p:spPr>
          <a:xfrm>
            <a:off x="1809720" y="39895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15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30" descr="D:\alles\Werk\ZESDE leerjaar\Alles voor website\schoolwebsite\html bestanden bij homepage\greenbol.gif">
            <a:hlinkClick r:id="" action="ppaction://hlinkshowjump?jump=fir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19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99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51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52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53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54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55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56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208" name="WordArt 57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209" name="Picture 58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59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211" name="Text Box 60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AutoShape 61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3" name="Picture 6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66" descr="D:\alles\Werk\onderwijs materiaal\onderwijs BEELD\prenten\bewegende beelden\allerlei\orang.gif"/>
          <p:cNvPicPr/>
          <p:nvPr/>
        </p:nvPicPr>
        <p:blipFill>
          <a:blip r:embed="rId60"/>
          <a:stretch/>
        </p:blipFill>
        <p:spPr>
          <a:xfrm>
            <a:off x="1809720" y="39988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67" descr="D:\alles\Werk\onderwijs materiaal\onderwijs BEELD\prenten\bewegende beelden\allerlei\red.gif"/>
          <p:cNvPicPr/>
          <p:nvPr/>
        </p:nvPicPr>
        <p:blipFill>
          <a:blip r:embed="rId61"/>
          <a:stretch/>
        </p:blipFill>
        <p:spPr>
          <a:xfrm>
            <a:off x="1803240" y="4205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218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9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0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8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9" name="Picture 5" descr="D:\alles\Werk\onderwijs materiaal\onderwijs BEELD\mapEUROPE3.gif"/>
          <p:cNvPicPr/>
          <p:nvPr/>
        </p:nvPicPr>
        <p:blipFill>
          <a:blip r:embed="rId1"/>
          <a:stretch/>
        </p:blipFill>
        <p:spPr>
          <a:xfrm>
            <a:off x="1981080" y="338040"/>
            <a:ext cx="6850080" cy="6199200"/>
          </a:xfrm>
          <a:prstGeom prst="rect">
            <a:avLst/>
          </a:prstGeom>
          <a:ln w="0">
            <a:noFill/>
          </a:ln>
        </p:spPr>
      </p:pic>
      <p:sp>
        <p:nvSpPr>
          <p:cNvPr id="2220" name="WordArt 6"/>
          <p:cNvSpPr txBox="1"/>
          <p:nvPr/>
        </p:nvSpPr>
        <p:spPr>
          <a:xfrm>
            <a:off x="152280" y="457200"/>
            <a:ext cx="16002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eps !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out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robe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o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eertj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21" name="AutoShape 7">
            <a:hlinkClick r:id="" action="ppaction://hlinkshowjump?jump=previousslide"/>
          </p:cNvPr>
          <p:cNvSpPr/>
          <p:nvPr/>
        </p:nvSpPr>
        <p:spPr>
          <a:xfrm>
            <a:off x="457200" y="567216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0" descr="D:\alles\Werk\onderwijs materiaal\onderwijs BEELD\prenten\bewegende beelden\allerlei\red.gif"/>
          <p:cNvPicPr/>
          <p:nvPr/>
        </p:nvPicPr>
        <p:blipFill>
          <a:blip r:embed="rId4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8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1803240" y="993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9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0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7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7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1803240" y="12193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9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0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7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1800360" y="1447920"/>
            <a:ext cx="149040" cy="1490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9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0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0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9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1814400" y="16336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70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9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0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7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1814400" y="18572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16:15:46Z</dcterms:created>
  <dc:creator>Kraeye Geert</dc:creator>
  <dc:description/>
  <dc:language>en-US</dc:language>
  <cp:lastModifiedBy>pc</cp:lastModifiedBy>
  <dcterms:modified xsi:type="dcterms:W3CDTF">2013-09-22T20:41:46Z</dcterms:modified>
  <cp:revision>18</cp:revision>
  <dc:subject/>
  <dc:title>PowerPoint-presentatie</dc:title>
</cp:coreProperties>
</file>