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BFA8-0C8C-421C-8413-4B0D2D6A4C0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D3BC-01D1-425C-ABF1-71EDD3ACE3A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rch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D790-E8AF-4981-9496-23360102709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prehistorie van Nederland (RMO), blz. 33: vuurstenen bijl van bo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08DA-2069-43C1-BAC8-287DF366DC0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opstukken uit de brons- en ijzertijd van Nederland uit allerlei musea. 5: mantelspeld (late bronstijd). 6: kledingspeld (late bronstijd). 7: speerpunt (midden-bronstijd, Engeland). 8: ceremonieel zwaard (midden-bronstijd). 9: vuurstenen dolk (vroege bronstijd!). 10: hellebaardblad (vroege bronstijd, herkomst Ierland). 11: vlakbijltje (vroege bronstijd). 12: bronzen dolkje met hoornen greep (vroege bronstijd, centraal Europa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08AC-6D71-49DA-8FA2-26F8D39658C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rcheon: vijver bij jagers (met bo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C2EE-C4ED-41C7-BB11-83EE5B314D8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rch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D3E6-F7FA-452F-979B-CA6A8CD2B36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rch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82FA-80CC-4C65-897D-6EEEC47EEF1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rch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EAA3-0C9C-45A6-B406-224F9F43EB6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rch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E22B-2D2D-4B03-BA04-D7A8308EA76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rcheon: oven in schuur achter middeleeuws hu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70D6-8F19-460F-A48B-AFCC49FCE5A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rch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9F19-0209-487C-ACD6-968B7720F46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uurstenen werktuigen, vervaardigd uit lange spanen of klingen. De klingen (4) werden van een vuursteenknol afgeslagen, waarbij een kern (5) overbleef. Door bewerking ontstonden de werktuigen. 1: pijlspitsen. 2: stekers of beiteltjes. 3: krab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28D0-9DD2-446C-8874-117CC3F2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24A2-8721-43C9-B35A-5DA6418D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5EB5-ABEA-4AE1-A9F7-5AD1C7E5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C786-C617-4D8D-99BD-4BA112AE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1755-A03C-4DC5-B54A-B3F103B2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C29C-C258-4BD1-B61E-0A7439F7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6A17-DF33-424B-9B67-E127D318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74D0-0232-4526-B651-F75BCC84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08FC-A764-4703-93E5-A2034EE7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0DF9-66D5-469E-979F-D2D9C016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09EF-3D7B-47CB-9364-D4B41AFC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B2C0-5D51-40DC-8C97-5B411D71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B305-CB11-4E62-9A1C-00C341E5C9C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landschap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1175040" y="4687920"/>
            <a:ext cx="700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- Als je klikt verschijnt er telkens een vraagteken links bo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- Bedenk dan of het om jagers, boeren of geen van beiden g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- Leg uit waarom je dit den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- Als je weer klikt, krijg je het antwoord te zien, dit note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je op je blad op de juiste plaats in de tab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646360" y="4106880"/>
            <a:ext cx="406224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JAGERS OF BOE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6"/>
          <p:cNvSpPr/>
          <p:nvPr/>
        </p:nvSpPr>
        <p:spPr>
          <a:xfrm>
            <a:off x="2562120" y="-27000"/>
            <a:ext cx="406224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JAGERS OF BOE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36720" y="442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089520" y="2481120"/>
            <a:ext cx="58957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Boer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Dit is een hunebed, hunebedbouwers waren bo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Dode mensen werden begraven in een graf gemaak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van ste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Afbeelding 1" descr=""/>
          <p:cNvPicPr/>
          <p:nvPr/>
        </p:nvPicPr>
        <p:blipFill>
          <a:blip r:embed="rId2"/>
          <a:stretch/>
        </p:blipFill>
        <p:spPr>
          <a:xfrm>
            <a:off x="22320" y="1484280"/>
            <a:ext cx="903276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2562120" y="-27000"/>
            <a:ext cx="406224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JAGERS OF BOE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bijl"/>
          <p:cNvPicPr/>
          <p:nvPr/>
        </p:nvPicPr>
        <p:blipFill>
          <a:blip r:embed="rId1"/>
          <a:stretch/>
        </p:blipFill>
        <p:spPr>
          <a:xfrm>
            <a:off x="0" y="736560"/>
            <a:ext cx="8101080" cy="60771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36720" y="442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66200" y="4797360"/>
            <a:ext cx="403344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Boer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Die maakten dit soort gladde bij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2562120" y="-27000"/>
            <a:ext cx="406224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JAGERS OF BOE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brons-ijzertijd"/>
          <p:cNvPicPr/>
          <p:nvPr/>
        </p:nvPicPr>
        <p:blipFill>
          <a:blip r:embed="rId1"/>
          <a:stretch/>
        </p:blipFill>
        <p:spPr>
          <a:xfrm>
            <a:off x="684360" y="717480"/>
            <a:ext cx="7488000" cy="59515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36720" y="442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155320" y="5205240"/>
            <a:ext cx="6444360" cy="146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Boer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Deze resten zijn namelijk van metaal (brons en ijz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Ze komen dus uit de bronstijd/ijzertijd (vanaf 2000 v.C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Je ziet hier mantelspelden (5,6), speerpunt (7), zwaard (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landschap"/>
          <p:cNvPicPr/>
          <p:nvPr/>
        </p:nvPicPr>
        <p:blipFill>
          <a:blip r:embed="rId1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2562120" y="-27000"/>
            <a:ext cx="406224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JAGERS OF BOE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0" y="331776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Leerdo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Je kunt samenlevingen van vóór en ná de landbouwrevolutie herkenn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0"/>
          <p:cNvSpPr/>
          <p:nvPr/>
        </p:nvSpPr>
        <p:spPr>
          <a:xfrm>
            <a:off x="36720" y="442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2050920" y="5589720"/>
            <a:ext cx="49341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Boer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Er worden groenten verbouw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Je ziet een boerderij van leem, hout en s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2540160" y="166680"/>
            <a:ext cx="406224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JAGERS OF BOE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3"/>
          <p:cNvSpPr/>
          <p:nvPr/>
        </p:nvSpPr>
        <p:spPr>
          <a:xfrm>
            <a:off x="611280" y="0"/>
            <a:ext cx="46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42120" y="5084640"/>
            <a:ext cx="904572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Boer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Er worden stoffen geweven. Alleen als je schapen houdt (veeteelt) kun 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an deze wol ko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Je ziet een boerderij van leem, hout en s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2653560" y="93600"/>
            <a:ext cx="406224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JAGERS OF BOE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1"/>
          <p:cNvSpPr/>
          <p:nvPr/>
        </p:nvSpPr>
        <p:spPr>
          <a:xfrm>
            <a:off x="2833200" y="3317760"/>
            <a:ext cx="368136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Jag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Die woonden in dit soort hu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Afbeelding 1" descr=""/>
          <p:cNvPicPr/>
          <p:nvPr/>
        </p:nvPicPr>
        <p:blipFill>
          <a:blip r:embed="rId2"/>
          <a:stretch/>
        </p:blipFill>
        <p:spPr>
          <a:xfrm>
            <a:off x="0" y="1197000"/>
            <a:ext cx="9174240" cy="5661000"/>
          </a:xfrm>
          <a:prstGeom prst="rect">
            <a:avLst/>
          </a:prstGeom>
          <a:ln w="0">
            <a:noFill/>
          </a:ln>
        </p:spPr>
      </p:pic>
      <p:sp>
        <p:nvSpPr>
          <p:cNvPr id="59" name="Tekstvak 2"/>
          <p:cNvSpPr/>
          <p:nvPr/>
        </p:nvSpPr>
        <p:spPr>
          <a:xfrm>
            <a:off x="179280" y="189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kstvak 4"/>
          <p:cNvSpPr/>
          <p:nvPr/>
        </p:nvSpPr>
        <p:spPr>
          <a:xfrm>
            <a:off x="2556000" y="18900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Arial"/>
              </a:rPr>
              <a:t>JAGERS OF BOE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kstvak 5"/>
          <p:cNvSpPr/>
          <p:nvPr/>
        </p:nvSpPr>
        <p:spPr>
          <a:xfrm>
            <a:off x="2411280" y="5938920"/>
            <a:ext cx="597708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0000"/>
                </a:solidFill>
                <a:latin typeface="Arial"/>
              </a:rPr>
              <a:t>Jagers: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0000"/>
                </a:solidFill>
                <a:latin typeface="Arial"/>
              </a:rPr>
              <a:t>Ze leefden in dit soort hutten. Kijk en beschrijf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8"/>
          <p:cNvSpPr/>
          <p:nvPr/>
        </p:nvSpPr>
        <p:spPr>
          <a:xfrm>
            <a:off x="1645920" y="5516640"/>
            <a:ext cx="633168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Boe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Die woonden in grote, stevige boerderij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562120" y="-27000"/>
            <a:ext cx="406224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JAGERS OF BOE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6720" y="442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2562120" y="-27000"/>
            <a:ext cx="406224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JAGERS OF BOE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6720" y="442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2265840" y="5362560"/>
            <a:ext cx="6374160" cy="146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Geen van bei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Bakstenen en netjes gezaagde planken komen in de tij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van de jagers/verzamelaars en eerste boeren niet vo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Dit is een nagebouwde broodoven uit de middeleeuw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2562120" y="-27000"/>
            <a:ext cx="406224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JAGERS OF BOE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6720" y="442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4587120" y="5373720"/>
            <a:ext cx="368136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Jag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Die woonden in dit soort hu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Kijk en beschrijf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2562120" y="-27000"/>
            <a:ext cx="406224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JAGERS OF BOE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36720" y="442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493440" y="1773360"/>
            <a:ext cx="552852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Boer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leen boeren hadden aardewerk (pottenbakke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2562120" y="-27000"/>
            <a:ext cx="406224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JAGERS OF BOE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vuursteen01"/>
          <p:cNvPicPr/>
          <p:nvPr/>
        </p:nvPicPr>
        <p:blipFill>
          <a:blip r:embed="rId1"/>
          <a:stretch/>
        </p:blipFill>
        <p:spPr>
          <a:xfrm>
            <a:off x="1366920" y="692280"/>
            <a:ext cx="6300720" cy="61545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2873160" y="3141720"/>
            <a:ext cx="60375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Jag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Die maakten ruwe werktuigen van silexste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Hier zie je pijlspitsen, beiteltjes en krabbers om vlees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resten van huid af te krab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6720" y="442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3T19:42:31Z</dcterms:created>
  <dc:creator>Bas van der Meijden</dc:creator>
  <dc:description/>
  <dc:language>en-US</dc:language>
  <cp:lastModifiedBy>An Van Vynckt</cp:lastModifiedBy>
  <dcterms:modified xsi:type="dcterms:W3CDTF">2019-10-08T09:08:23Z</dcterms:modified>
  <cp:revision>21</cp:revision>
  <dc:subject/>
  <dc:title>Dia 1</dc:title>
</cp:coreProperties>
</file>