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416-3953-47D0-8624-62D86333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B6C-27F6-46D2-9515-E139DAA7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CF3-AD1D-4E55-BAE1-9AFE1CAE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050-2EEA-4E91-BCED-95F64333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889-FEA8-4DE1-81A4-96A44A86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F1F-A301-4293-8CB0-5220C1E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9D5-BF89-4C27-9990-87EDB360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734-EA4A-4B18-9026-CC7B23B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CDF-95A4-4F5A-8F93-ADC856C5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1EB-F8AF-4D79-8630-8247889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946-95DE-429B-8589-5E2C174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293-F772-4229-8EA2-C3168A3E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F95-A1DD-4683-9312-543080B7B0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akpooh2"/>
          <p:cNvPicPr/>
          <p:nvPr/>
        </p:nvPicPr>
        <p:blipFill>
          <a:blip r:embed="rId1"/>
          <a:stretch/>
        </p:blipFill>
        <p:spPr>
          <a:xfrm>
            <a:off x="3492360" y="1916280"/>
            <a:ext cx="2705400" cy="2838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79280" y="3573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3300"/>
                </a:solidFill>
                <a:latin typeface="Arial"/>
              </a:rPr>
              <a:t>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950160" y="206064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317080" y="1628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132000" y="5300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6639840" y="343044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ff3300"/>
                </a:solidFill>
                <a:latin typeface="Arial Rounded MT Bold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1549800" y="459432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nl-BE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5364000" y="184464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9999"/>
                </a:solidFill>
                <a:latin typeface="Batik Regular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3107160" y="288612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Batik Regular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243120" y="544500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ff3300"/>
                </a:solidFill>
                <a:latin typeface="Arial Rounded MT Bold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028000" y="1557360"/>
            <a:ext cx="7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9999"/>
                </a:solidFill>
                <a:latin typeface="Flower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7610760" y="49705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cc00"/>
                </a:solidFill>
                <a:latin typeface="Batik Regular"/>
              </a:rPr>
              <a:t>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2192400" y="2205000"/>
            <a:ext cx="74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7200" spc="-1" strike="noStrike">
                <a:solidFill>
                  <a:srgbClr val="990099"/>
                </a:solidFill>
                <a:latin typeface="Batik Regular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681480" y="533556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99cc00"/>
                </a:solidFill>
                <a:latin typeface="Batik Regular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7425720" y="1438200"/>
            <a:ext cx="7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ff3300"/>
                </a:solidFill>
                <a:latin typeface="Batik Regular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4427640" y="5805360"/>
            <a:ext cx="21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4668840" y="4991040"/>
            <a:ext cx="94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8000"/>
                </a:solidFill>
                <a:latin typeface="Arial Rounded MT Bold"/>
              </a:rPr>
              <a:t>a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2106000" y="1389240"/>
            <a:ext cx="6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8000"/>
                </a:solidFill>
                <a:latin typeface="Bauhaus 93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87280" y="333360"/>
            <a:ext cx="1297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31960" y="333360"/>
            <a:ext cx="129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19640" y="333360"/>
            <a:ext cx="129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o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o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oo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127480" y="333360"/>
            <a:ext cx="1297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oe</a:t>
            </a:r>
            <a:r>
              <a:rPr b="0" lang="nl-BE" sz="32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236000" y="476280"/>
            <a:ext cx="129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e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BE" sz="32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http://vdab.be/joblog/annika/koek.jpg"/>
          <p:cNvPicPr/>
          <p:nvPr/>
        </p:nvPicPr>
        <p:blipFill>
          <a:blip r:embed="rId1"/>
          <a:stretch/>
        </p:blipFill>
        <p:spPr>
          <a:xfrm>
            <a:off x="477720" y="4797360"/>
            <a:ext cx="1303560" cy="97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74680" y="511956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http://hofterlint.be/Nederlands/images/M_images/atRandom/kip2.gif"/>
          <p:cNvPicPr/>
          <p:nvPr/>
        </p:nvPicPr>
        <p:blipFill>
          <a:blip r:embed="rId2"/>
          <a:stretch/>
        </p:blipFill>
        <p:spPr>
          <a:xfrm>
            <a:off x="1782720" y="4495680"/>
            <a:ext cx="1278000" cy="1895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http://static.nationalgeographic.nl/pictures/genjUserPhotoPicture/original/90/77/29/rook-langs-de-seine-297790.jpg"/>
          <p:cNvPicPr/>
          <p:nvPr/>
        </p:nvPicPr>
        <p:blipFill>
          <a:blip r:embed="rId3"/>
          <a:srcRect l="0" t="28721" r="52273" b="0"/>
          <a:stretch/>
        </p:blipFill>
        <p:spPr>
          <a:xfrm>
            <a:off x="3349800" y="4807080"/>
            <a:ext cx="1233360" cy="1272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http://www.dirknielandt.be/scenario/bin/img/huge/pub/img/boekjes/9_Poes_en_het_boek.png"/>
          <p:cNvPicPr/>
          <p:nvPr/>
        </p:nvPicPr>
        <p:blipFill>
          <a:blip r:embed="rId4"/>
          <a:stretch/>
        </p:blipFill>
        <p:spPr>
          <a:xfrm>
            <a:off x="5208480" y="4791240"/>
            <a:ext cx="117648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http://t2.gstatic.com/images?q=tbn:ANd9GcQE9QmwdB3XkL-bmIlF0ZkgWgOHm0aYCE4e3td0pjJCOd3LLvFpyw"/>
          <p:cNvPicPr/>
          <p:nvPr/>
        </p:nvPicPr>
        <p:blipFill>
          <a:blip r:embed="rId5"/>
          <a:stretch/>
        </p:blipFill>
        <p:spPr>
          <a:xfrm>
            <a:off x="7002360" y="4807080"/>
            <a:ext cx="1763640" cy="1314360"/>
          </a:xfrm>
          <a:prstGeom prst="rect">
            <a:avLst/>
          </a:prstGeom>
          <a:ln w="0">
            <a:noFill/>
          </a:ln>
        </p:spPr>
      </p:pic>
      <p:sp>
        <p:nvSpPr>
          <p:cNvPr id="74" name="Ovaal 2"/>
          <p:cNvSpPr/>
          <p:nvPr/>
        </p:nvSpPr>
        <p:spPr>
          <a:xfrm>
            <a:off x="395280" y="333360"/>
            <a:ext cx="1008000" cy="57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15"/>
          <p:cNvSpPr/>
          <p:nvPr/>
        </p:nvSpPr>
        <p:spPr>
          <a:xfrm>
            <a:off x="1917720" y="1816200"/>
            <a:ext cx="1008000" cy="57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al 16"/>
          <p:cNvSpPr/>
          <p:nvPr/>
        </p:nvSpPr>
        <p:spPr>
          <a:xfrm rot="5400000">
            <a:off x="3814920" y="1675440"/>
            <a:ext cx="504720" cy="855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al 17"/>
          <p:cNvSpPr/>
          <p:nvPr/>
        </p:nvSpPr>
        <p:spPr>
          <a:xfrm>
            <a:off x="5208480" y="333360"/>
            <a:ext cx="1008000" cy="57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al 18"/>
          <p:cNvSpPr/>
          <p:nvPr/>
        </p:nvSpPr>
        <p:spPr>
          <a:xfrm>
            <a:off x="7380360" y="1959120"/>
            <a:ext cx="1008000" cy="57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5:26:34Z</dcterms:created>
  <dc:creator>Van den Bergh Theo</dc:creator>
  <dc:description/>
  <dc:language>en-US</dc:language>
  <cp:lastModifiedBy>Theo</cp:lastModifiedBy>
  <dcterms:modified xsi:type="dcterms:W3CDTF">2012-11-06T17:03:55Z</dcterms:modified>
  <cp:revision>23</cp:revision>
  <dc:subject/>
  <dc:title>doos</dc:title>
</cp:coreProperties>
</file>