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D71-9625-4721-98C4-4ADE11F8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494-D884-45B5-88A9-7C84D043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05A-D7AA-4113-B772-7FF62410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38C-E725-49F4-8C77-5828FFFD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70F8-4B3F-4754-8EB6-38E25C34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8C51-0306-4936-B41F-D547FB2B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27CF-C2E8-4EF3-B94F-6C371E07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F6BB-7B36-41FA-9E82-29741C59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7BD8-D4D4-4F17-BFEF-61FBD922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03A5-779B-4098-8D45-7F092B89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6858-D878-4D91-B1EF-D354FF27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CE0-BA43-425B-AD82-70D81369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D44A-E00C-4EB8-A49B-DC3C1686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A11E-099F-4FF7-8779-5E556C8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2850-B61D-4B42-BBEC-C8E7EB7F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DAEB-4B8E-47FE-A836-F04E515C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0328-6907-41FA-A6C2-A428AB2C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45C-C683-49E0-844C-02BCFCB2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147-15E4-4064-B74D-FC13FF1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389-293C-4F4E-B803-DDFE7F3E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546-61F2-4427-BD33-7B0ED54A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031-6B01-4FAA-A158-01D2C3B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3FB-AAF5-406A-879A-41150C9C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9C6-BE48-4C60-AE3D-839AE18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6F55-2344-450E-A773-A9C17643E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5485-F249-44E7-A48D-98EAA0910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caja-design.com/index.php?option=com_virtuemart&amp;page=shop.browse&amp;category_id=10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entury Gothic"/>
              </a:rPr>
              <a:t>de  po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6814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ijzond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tten spin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tten geven kopj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auw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az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el slap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2708280" cy="1805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227640" y="4005360"/>
            <a:ext cx="2737080" cy="2647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4248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ee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3971880"/>
            <a:ext cx="3382920" cy="2536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95640" y="1484280"/>
            <a:ext cx="1619280" cy="2076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076720" y="4005360"/>
            <a:ext cx="2362320" cy="2533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55640" y="333360"/>
            <a:ext cx="2371680" cy="3533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227640" y="692280"/>
            <a:ext cx="2084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kke plekj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3280" y="3645000"/>
            <a:ext cx="4267440" cy="2943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3352680" cy="22384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ni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3673440" cy="2754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3384720" cy="2214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68360" y="378144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457880" cy="50007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rote k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92360" cy="2535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new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221000"/>
            <a:ext cx="2519280" cy="2417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Kat met viool - variatie"/>
          <p:cNvPicPr/>
          <p:nvPr/>
        </p:nvPicPr>
        <p:blipFill>
          <a:blip r:embed="rId4"/>
          <a:stretch/>
        </p:blipFill>
        <p:spPr>
          <a:xfrm>
            <a:off x="3276720" y="2565360"/>
            <a:ext cx="1893600" cy="2913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580000" y="3284640"/>
            <a:ext cx="3305160" cy="3333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kattenkuns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29530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Rode Kater"/>
          <p:cNvPicPr/>
          <p:nvPr/>
        </p:nvPicPr>
        <p:blipFill>
          <a:blip r:embed="rId2"/>
          <a:stretch/>
        </p:blipFill>
        <p:spPr>
          <a:xfrm>
            <a:off x="3635280" y="907920"/>
            <a:ext cx="1581120" cy="233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roemde katt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6" name="" descr="shrek-gelaarsde-kat"/>
          <p:cNvPicPr/>
          <p:nvPr/>
        </p:nvPicPr>
        <p:blipFill>
          <a:blip r:embed="rId4"/>
          <a:stretch/>
        </p:blipFill>
        <p:spPr>
          <a:xfrm>
            <a:off x="4859280" y="3716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1116000" y="3716280"/>
            <a:ext cx="2727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780000" cy="496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4824360" cy="37641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ke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kat: meisj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kater: jongen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kitten: bab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2516040" cy="302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313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vacht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h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nhou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496764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79640" y="1546200"/>
            <a:ext cx="4464000" cy="423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en vacht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art en pot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wic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otie laten zi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gels intrek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627280" y="3645000"/>
            <a:ext cx="3705120" cy="2952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1942920" cy="1324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8097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794040" cy="5251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nmaken/lik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even/e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19280" y="4653000"/>
            <a:ext cx="1695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norhar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31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el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 nach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wic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Mijn lievelings poes Eisenhouwer."/>
          <p:cNvPicPr/>
          <p:nvPr/>
        </p:nvPicPr>
        <p:blipFill>
          <a:blip r:embed="rId1"/>
          <a:stretch/>
        </p:blipFill>
        <p:spPr>
          <a:xfrm>
            <a:off x="4284720" y="1268280"/>
            <a:ext cx="36878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g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chtkij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te pupil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3933720" cy="29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365640"/>
            <a:ext cx="331164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419640" cy="2838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ten en drink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588000" y="4869000"/>
            <a:ext cx="1714680" cy="1285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084720" y="1197000"/>
            <a:ext cx="2428920" cy="32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0" y="1814400"/>
          <a:ext cx="9144000" cy="517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0" y="2332080"/>
          <a:ext cx="1000080" cy="271296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27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9360" y="2341440"/>
          <a:ext cx="981360" cy="2713320"/>
        </p:xfrm>
        <a:graphic>
          <a:graphicData uri="http://schemas.openxmlformats.org/drawingml/2006/table">
            <a:tbl>
              <a:tblPr/>
              <a:tblGrid>
                <a:gridCol w="981360"/>
              </a:tblGrid>
              <a:tr h="298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" descr="Poesjenel gaat tot de bodem als er room in de kan zit!"/>
          <p:cNvPicPr/>
          <p:nvPr/>
        </p:nvPicPr>
        <p:blipFill>
          <a:blip r:embed="rId5"/>
          <a:stretch/>
        </p:blipFill>
        <p:spPr>
          <a:xfrm>
            <a:off x="4572000" y="4365720"/>
            <a:ext cx="1257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8:07:18Z</dcterms:created>
  <dc:creator>Linda van Veenendaal</dc:creator>
  <dc:description/>
  <dc:language>en-US</dc:language>
  <cp:lastModifiedBy>Linda van Veenendaal</cp:lastModifiedBy>
  <dcterms:modified xsi:type="dcterms:W3CDTF">2008-10-21T20:05:17Z</dcterms:modified>
  <cp:revision>3</cp:revision>
  <dc:subject/>
  <dc:title>de  poes</dc:title>
</cp:coreProperties>
</file>