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6B0-9E7E-47BF-B8BB-EDF1251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F05-B284-4E3D-A3E2-DFD5EEF8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6E4-C76B-4A98-80B4-F6D14D6B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2DF-EEE8-4BCE-988D-E874BCF5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9AF-AAE6-479F-8602-B30751BB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18E-6FA7-4A26-B2E2-5662341D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007-07FD-44B0-B4CB-3A4ACAF5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11C-FF87-4518-990B-0D8607B4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265-7061-4448-AA5C-C6D1FB1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23B-8590-43E7-A1EA-74B650F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423-543A-4970-8CC7-B16359D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052-4CD6-4B2B-9068-714AECD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715-9033-4E0A-A5F2-C79FE3248A01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5761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ne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ne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ne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ne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ne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Theo Vdb\Local Settings\Temporary Internet Files\Content.IE5\UTJR563S\MC900053397[1].wmf"/>
          <p:cNvPicPr/>
          <p:nvPr/>
        </p:nvPicPr>
        <p:blipFill>
          <a:blip r:embed="rId1"/>
          <a:stretch/>
        </p:blipFill>
        <p:spPr>
          <a:xfrm>
            <a:off x="1851120" y="404640"/>
            <a:ext cx="5313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5640" y="404640"/>
            <a:ext cx="575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Theo Vdb\Local Settings\Temporary Internet Files\Content.IE5\UHZJQQ4C\MC900432441[1].wmf"/>
          <p:cNvPicPr/>
          <p:nvPr/>
        </p:nvPicPr>
        <p:blipFill>
          <a:blip r:embed="rId1"/>
          <a:stretch/>
        </p:blipFill>
        <p:spPr>
          <a:xfrm>
            <a:off x="684360" y="189000"/>
            <a:ext cx="7569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5640" y="404640"/>
            <a:ext cx="575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Theo Vdb\Local Settings\Temporary Internet Files\Content.IE5\LCFUXBBR\MP900180735[1].jpg"/>
          <p:cNvPicPr/>
          <p:nvPr/>
        </p:nvPicPr>
        <p:blipFill>
          <a:blip r:embed="rId1"/>
          <a:stretch/>
        </p:blipFill>
        <p:spPr>
          <a:xfrm>
            <a:off x="-33480" y="404640"/>
            <a:ext cx="9210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04640"/>
            <a:ext cx="575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u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u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u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u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Documents and Settings\Theo Vdb\Local Settings\Temporary Internet Files\Content.IE5\UTJR563S\MP900407304[1].jpg"/>
          <p:cNvPicPr/>
          <p:nvPr/>
        </p:nvPicPr>
        <p:blipFill>
          <a:blip r:embed="rId1"/>
          <a:stretch/>
        </p:blipFill>
        <p:spPr>
          <a:xfrm>
            <a:off x="1511280" y="476280"/>
            <a:ext cx="6121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5640" y="404640"/>
            <a:ext cx="575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SunnyBoy-1.jpg image by SjoukjesCats"/>
          <p:cNvPicPr/>
          <p:nvPr/>
        </p:nvPicPr>
        <p:blipFill>
          <a:blip r:embed="rId1"/>
          <a:stretch/>
        </p:blipFill>
        <p:spPr>
          <a:xfrm>
            <a:off x="900000" y="333360"/>
            <a:ext cx="6708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04640"/>
            <a:ext cx="575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aa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aa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aa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Calibri"/>
              </a:rPr>
              <a:t>baa</a:t>
            </a:r>
            <a:r>
              <a:rPr b="0" lang="nl-BE" sz="6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users.telenet.be/babyverhaegen/prenten/buikje.jpg"/>
          <p:cNvPicPr/>
          <p:nvPr/>
        </p:nvPicPr>
        <p:blipFill>
          <a:blip r:embed="rId1"/>
          <a:stretch/>
        </p:blipFill>
        <p:spPr>
          <a:xfrm>
            <a:off x="1973160" y="692280"/>
            <a:ext cx="4399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1:11:16Z</dcterms:created>
  <dc:creator>Theo Vdb</dc:creator>
  <dc:description/>
  <dc:language>en-US</dc:language>
  <cp:lastModifiedBy>Theo Vdb</cp:lastModifiedBy>
  <dcterms:modified xsi:type="dcterms:W3CDTF">2010-10-15T15:48:23Z</dcterms:modified>
  <cp:revision>5</cp:revision>
  <dc:subject/>
  <dc:title>PowerPoint-presentatie</dc:title>
</cp:coreProperties>
</file>