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E42-60FF-4579-B02D-F42B3057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438-7717-43B1-8AC6-49DAD836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351-1EEC-41D2-A1FF-12091ADB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349-10BD-4920-8A7F-5675E113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A51-7B49-4466-A0DC-78B668D9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177-C80C-4883-AB21-D3272CF7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9DF-FE9D-4C35-900E-EA96B8A2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10F-129A-46ED-B021-6F165B9A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C69-72D3-48FA-843C-DD4DFDDA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C6C-EE67-4AC9-8DD1-F4C8212D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E0C-868D-4138-BEA0-337ACF5E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0A5-D4FB-4AA5-8DA9-E35BEE9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1DF0-5A6C-444D-A11C-3D90860DCB1B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71640" y="765000"/>
            <a:ext cx="30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71640" y="1773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vi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71640" y="287964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si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3986280"/>
            <a:ext cx="26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mi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t3.gstatic.com/images?q=tbn:xm6rkb8rUZeCQM%3Ahttp://www.contrib.andrew.cmu.edu/~crhu/nemo.jpg"/>
          <p:cNvPicPr/>
          <p:nvPr/>
        </p:nvPicPr>
        <p:blipFill>
          <a:blip r:embed="rId1"/>
          <a:stretch/>
        </p:blipFill>
        <p:spPr>
          <a:xfrm>
            <a:off x="3000240" y="2214720"/>
            <a:ext cx="329904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971640" y="765000"/>
            <a:ext cx="30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a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971640" y="1773360"/>
            <a:ext cx="302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va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71640" y="287964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ma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71640" y="3986280"/>
            <a:ext cx="26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ra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Theo\AppData\Local\Microsoft\Windows\Temporary Internet Files\Content.IE5\T2UY2FR9\MC900090391[1].wmf"/>
          <p:cNvPicPr/>
          <p:nvPr/>
        </p:nvPicPr>
        <p:blipFill>
          <a:blip r:embed="rId1"/>
          <a:stretch/>
        </p:blipFill>
        <p:spPr>
          <a:xfrm>
            <a:off x="1403280" y="781200"/>
            <a:ext cx="67690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71640" y="765000"/>
            <a:ext cx="30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va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71640" y="1773360"/>
            <a:ext cx="331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ma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71640" y="287964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ra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71640" y="3986280"/>
            <a:ext cx="26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pa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Theo\AppData\Local\Microsoft\Windows\Temporary Internet Files\Content.IE5\FTY4Z8PH\MC900446504[1].wmf"/>
          <p:cNvPicPr/>
          <p:nvPr/>
        </p:nvPicPr>
        <p:blipFill>
          <a:blip r:embed="rId1"/>
          <a:stretch/>
        </p:blipFill>
        <p:spPr>
          <a:xfrm>
            <a:off x="1116000" y="-266760"/>
            <a:ext cx="6769080" cy="72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71640" y="765000"/>
            <a:ext cx="30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aa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71640" y="1773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raa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971640" y="287964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saa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Theo\AppData\Local\Microsoft\Windows\Temporary Internet Files\Content.IE5\DJEY707P\MC900343381[1].wmf"/>
          <p:cNvPicPr/>
          <p:nvPr/>
        </p:nvPicPr>
        <p:blipFill>
          <a:blip r:embed="rId1"/>
          <a:stretch/>
        </p:blipFill>
        <p:spPr>
          <a:xfrm>
            <a:off x="2909880" y="476280"/>
            <a:ext cx="417672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71640" y="765000"/>
            <a:ext cx="30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ik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971640" y="1773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mik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71640" y="287964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pik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71640" y="3986280"/>
            <a:ext cx="2663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nl-BE" sz="6600" spc="-1" strike="noStrike">
                <a:solidFill>
                  <a:srgbClr val="000000"/>
                </a:solidFill>
                <a:latin typeface="Arial Rounded MT Bold"/>
              </a:rPr>
              <a:t>rik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0:57:56Z</dcterms:created>
  <dc:creator>Inge Kerremans</dc:creator>
  <dc:description/>
  <dc:language>en-US</dc:language>
  <cp:lastModifiedBy>Theo</cp:lastModifiedBy>
  <dcterms:modified xsi:type="dcterms:W3CDTF">2012-09-29T09:25:01Z</dcterms:modified>
  <cp:revision>3</cp:revision>
  <dc:subject/>
  <dc:title>Dia 1</dc:title>
</cp:coreProperties>
</file>