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17.gif" ContentType="image/gif"/>
  <Override PartName="/ppt/media/image28.gif" ContentType="image/gif"/>
  <Override PartName="/ppt/media/image5.gif" ContentType="image/gif"/>
  <Override PartName="/ppt/media/image10.gif" ContentType="image/gif"/>
  <Override PartName="/ppt/media/image22.gif" ContentType="image/gif"/>
  <Override PartName="/ppt/media/image4.jpeg" ContentType="image/jpeg"/>
  <Override PartName="/ppt/media/Gerry%20and%20the%20Pacemakers%20-%20You'll%20Never%20Walk%20Alone.wav" ContentType="audio/x-wav"/>
  <Override PartName="/ppt/media/image9.gif" ContentType="image/gif"/>
  <Override PartName="/ppt/media/image11.gif" ContentType="image/gif"/>
  <Override PartName="/ppt/media/image30.png" ContentType="image/png"/>
  <Override PartName="/ppt/media/image2.gif" ContentType="image/gif"/>
  <Override PartName="/ppt/media/image25.gif" ContentType="image/gif"/>
  <Override PartName="/ppt/media/image24.jpeg" ContentType="image/jpeg"/>
  <Override PartName="/ppt/media/image12.gif" ContentType="image/gif"/>
  <Override PartName="/ppt/media/image29.jpeg" ContentType="image/jpeg"/>
  <Override PartName="/ppt/media/image7.gif" ContentType="image/gif"/>
  <Override PartName="/ppt/media/image8.gif" ContentType="image/gif"/>
  <Override PartName="/ppt/media/image3.gif" ContentType="image/gif"/>
  <Override PartName="/ppt/media/image26.gif" ContentType="image/gif"/>
  <Override PartName="/ppt/media/image1.png" ContentType="image/png"/>
  <Override PartName="/ppt/media/image19.gif" ContentType="image/gif"/>
  <Override PartName="/ppt/media/image13.gif" ContentType="image/gif"/>
  <Override PartName="/ppt/media/image14.gif" ContentType="image/gif"/>
  <Override PartName="/ppt/media/image15.jpeg" ContentType="image/jpeg"/>
  <Override PartName="/ppt/media/image16.gif" ContentType="image/gif"/>
  <Override PartName="/ppt/media/image6.gif" ContentType="image/gif"/>
  <Override PartName="/ppt/media/image21.jpeg" ContentType="image/jpeg"/>
  <Override PartName="/ppt/media/image18.gif" ContentType="image/gif"/>
  <Override PartName="/ppt/media/image20.gif" ContentType="image/gif"/>
  <Override PartName="/ppt/media/image2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2783-C683-4DE8-A5C3-886B51D14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A6B9-B656-440F-99BE-554534D6F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AE2E-1685-445B-B63C-89E8D6D80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C425-9272-485C-93E9-BE0BDF658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4B0E-B395-4F3E-9548-B0230E24E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8459-58F6-4120-9065-7976A576A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D363-BE26-4519-A590-23E2ED0DE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DBFF-AF42-43D5-8C8F-63B55D9D8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0D76-DB33-4CB0-BB97-D02A798BD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A5A4-B9C0-4C00-96AB-FCFCD9C1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4A4D-12AF-4A02-8F87-FD8CA7E0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792F-F812-4C22-A8CE-EBF4B9B0C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C560F-081B-4636-9C5C-CE74DFD46A6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audio" Target="../media/Gerry%20and%20the%20Pacemakers%20-%20You&apos;ll%20Never%20Walk%20Alone.wav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image" Target="../media/image7.gif"/><Relationship Id="rId9" Type="http://schemas.openxmlformats.org/officeDocument/2006/relationships/image" Target="../media/image7.gif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1.gi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gif"/><Relationship Id="rId3" Type="http://schemas.openxmlformats.org/officeDocument/2006/relationships/image" Target="../media/image23.gif"/><Relationship Id="rId4" Type="http://schemas.openxmlformats.org/officeDocument/2006/relationships/image" Target="../media/image22.gi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2571480" cy="5715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 rot="419400">
            <a:off x="4253760" y="1646280"/>
            <a:ext cx="3934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4400" spc="-1" strike="noStrike">
                <a:solidFill>
                  <a:srgbClr val="ffd5d5"/>
                </a:solidFill>
                <a:latin typeface="CocktailShaker"/>
              </a:rPr>
              <a:t>You’ll Ne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4400" spc="-1" strike="noStrike">
                <a:solidFill>
                  <a:srgbClr val="ffd5d5"/>
                </a:solidFill>
                <a:latin typeface="CocktailShaker"/>
              </a:rPr>
              <a:t>     </a:t>
            </a:r>
            <a:r>
              <a:rPr b="0" i="1" lang="nl-BE" sz="4400" spc="-1" strike="noStrike">
                <a:solidFill>
                  <a:srgbClr val="ffd5d5"/>
                </a:solidFill>
                <a:latin typeface="CocktailShaker"/>
              </a:rPr>
              <a:t>Walk Alone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124000" y="3933720"/>
            <a:ext cx="3048120" cy="2457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205680" y="6135840"/>
            <a:ext cx="238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000" spc="-1" strike="noStrike">
                <a:solidFill>
                  <a:srgbClr val="ffd5d5"/>
                </a:solidFill>
                <a:latin typeface="CocktailShaker"/>
              </a:rPr>
              <a:t>Psp &amp; Pps Lydieke 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5480" y="6345360"/>
            <a:ext cx="991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7A1C0-B689-40E5-B9FA-89958F9BC9F2}" type="datetime">
              <a:rPr b="0" i="1" lang="nl-BE" sz="1600" spc="-1" strike="noStrike">
                <a:solidFill>
                  <a:srgbClr val="ffd5d5"/>
                </a:solidFill>
                <a:latin typeface="AL Sandra"/>
              </a:rPr>
              <a:t>29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788000" y="3573360"/>
            <a:ext cx="357120" cy="357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726080" y="3500280"/>
            <a:ext cx="375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400" spc="-1" strike="noStrike">
                <a:solidFill>
                  <a:srgbClr val="ffd5d5"/>
                </a:solidFill>
                <a:latin typeface="CocktailShaker"/>
              </a:rPr>
              <a:t>Gerry and the Pacema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268960" y="4653000"/>
            <a:ext cx="374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000" spc="-1" strike="noStrike">
                <a:solidFill>
                  <a:srgbClr val="ffd5d5"/>
                </a:solidFill>
                <a:latin typeface="CocktailShaker"/>
              </a:rPr>
              <a:t>Muziek begint op de eerste dia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258920" y="1052640"/>
            <a:ext cx="6140520" cy="46069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195640" y="5084640"/>
            <a:ext cx="4619520" cy="1629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6156360" y="765000"/>
            <a:ext cx="1727280" cy="15573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3200" y="1125360"/>
            <a:ext cx="197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cc00ff"/>
                </a:solidFill>
                <a:latin typeface="CocktailShaker"/>
              </a:rPr>
              <a:t>You’ll n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59880" y="2349360"/>
            <a:ext cx="90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cc00ff"/>
                </a:solidFill>
                <a:latin typeface="CocktailShaker"/>
              </a:rPr>
              <a:t>wa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6000" y="3645000"/>
            <a:ext cx="114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cc00ff"/>
                </a:solidFill>
                <a:latin typeface="CocktailShaker"/>
              </a:rPr>
              <a:t>alon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236000" y="2708280"/>
            <a:ext cx="158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cc00ff"/>
                </a:solidFill>
                <a:latin typeface="CocktailShaker"/>
              </a:rPr>
              <a:t>       </a:t>
            </a:r>
            <a:r>
              <a:rPr b="0" i="1" lang="nl-BE" sz="2800" spc="-1" strike="noStrike">
                <a:solidFill>
                  <a:srgbClr val="cc00ff"/>
                </a:solidFill>
                <a:latin typeface="CocktailShaker"/>
              </a:rPr>
              <a:t>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cc00ff"/>
                </a:solidFill>
                <a:latin typeface="CocktailShaker"/>
              </a:rPr>
              <a:t>      </a:t>
            </a:r>
            <a:r>
              <a:rPr b="0" i="1" lang="nl-BE" sz="2800" spc="-1" strike="noStrike">
                <a:solidFill>
                  <a:srgbClr val="cc00ff"/>
                </a:solidFill>
                <a:latin typeface="CocktailShaker"/>
              </a:rPr>
              <a:t>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cc00ff"/>
                </a:solidFill>
                <a:latin typeface="CocktailShaker"/>
              </a:rPr>
              <a:t>       </a:t>
            </a:r>
            <a:r>
              <a:rPr b="0" i="1" lang="nl-BE" sz="2800" spc="-1" strike="noStrike">
                <a:solidFill>
                  <a:srgbClr val="cc00ff"/>
                </a:solidFill>
                <a:latin typeface="CocktailShaker"/>
              </a:rPr>
              <a:t>z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cc00ff"/>
                </a:solidFill>
                <a:latin typeface="CocktailShaker"/>
              </a:rPr>
              <a:t>     </a:t>
            </a:r>
            <a:r>
              <a:rPr b="0" i="1" lang="nl-BE" sz="2800" spc="-1" strike="noStrike">
                <a:solidFill>
                  <a:srgbClr val="cc00ff"/>
                </a:solidFill>
                <a:latin typeface="CocktailShaker"/>
              </a:rPr>
              <a:t>noo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cc00ff"/>
                </a:solidFill>
                <a:latin typeface="CocktailShaker"/>
              </a:rPr>
              <a:t> </a:t>
            </a:r>
            <a:r>
              <a:rPr b="0" i="1" lang="nl-BE" sz="2800" spc="-1" strike="noStrike">
                <a:solidFill>
                  <a:srgbClr val="cc00ff"/>
                </a:solidFill>
                <a:latin typeface="CocktailShaker"/>
              </a:rPr>
              <a:t>all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cc00ff"/>
                </a:solidFill>
                <a:latin typeface="CocktailShaker"/>
              </a:rPr>
              <a:t>       </a:t>
            </a:r>
            <a:r>
              <a:rPr b="0" i="1" lang="nl-BE" sz="2800" spc="-1" strike="noStrike">
                <a:solidFill>
                  <a:srgbClr val="cc00ff"/>
                </a:solidFill>
                <a:latin typeface="CocktailShaker"/>
              </a:rPr>
              <a:t>lope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with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8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4000"/>
                            </p:stCondLst>
                            <p:childTnLst>
                              <p:par>
                                <p:cTn id="464" nodeType="afterEffect" fill="hold" presetClass="entr" presetID="3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8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800"/>
                            </p:stCondLst>
                            <p:childTnLst>
                              <p:par>
                                <p:cTn id="4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7800"/>
                            </p:stCondLst>
                            <p:childTnLst>
                              <p:par>
                                <p:cTn id="477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124000" y="1592280"/>
            <a:ext cx="7020000" cy="52657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76200" y="1638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4200" y="995400"/>
            <a:ext cx="1142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ffffff"/>
                </a:solidFill>
                <a:latin typeface="CocktailShaker"/>
              </a:rPr>
              <a:t>Wa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ffffff"/>
                </a:solidFill>
                <a:latin typeface="CocktailShaker"/>
              </a:rPr>
              <a:t>     </a:t>
            </a:r>
            <a:r>
              <a:rPr b="0" i="1" lang="nl-BE" sz="2800" spc="-1" strike="noStrike">
                <a:solidFill>
                  <a:srgbClr val="ffffff"/>
                </a:solidFill>
                <a:latin typeface="CocktailShaker"/>
              </a:rPr>
              <a:t>o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60680" y="2435400"/>
            <a:ext cx="1235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ffffff"/>
                </a:solidFill>
                <a:latin typeface="CocktailShaker"/>
              </a:rPr>
              <a:t>Wa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ffffff"/>
                </a:solidFill>
                <a:latin typeface="CocktailShaker"/>
              </a:rPr>
              <a:t>      </a:t>
            </a:r>
            <a:r>
              <a:rPr b="0" i="1" lang="nl-BE" sz="2800" spc="-1" strike="noStrike">
                <a:solidFill>
                  <a:srgbClr val="ffffff"/>
                </a:solidFill>
                <a:latin typeface="CocktailShaker"/>
              </a:rPr>
              <a:t>o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30120" y="3645000"/>
            <a:ext cx="1432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ffffff"/>
                </a:solidFill>
                <a:latin typeface="CocktailShaker"/>
              </a:rPr>
              <a:t>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ffffff"/>
                </a:solidFill>
                <a:latin typeface="CocktailShaker"/>
              </a:rPr>
              <a:t>    </a:t>
            </a:r>
            <a:r>
              <a:rPr b="0" i="1" lang="nl-BE" sz="2800" spc="-1" strike="noStrike">
                <a:solidFill>
                  <a:srgbClr val="ffffff"/>
                </a:solidFill>
                <a:latin typeface="CocktailShaker"/>
              </a:rPr>
              <a:t>hop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3080" y="5013360"/>
            <a:ext cx="154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ffffff"/>
                </a:solidFill>
                <a:latin typeface="CocktailShaker"/>
              </a:rPr>
              <a:t>In y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ffffff"/>
                </a:solidFill>
                <a:latin typeface="CocktailShaker"/>
              </a:rPr>
              <a:t>   </a:t>
            </a:r>
            <a:r>
              <a:rPr b="0" i="1" lang="nl-BE" sz="2800" spc="-1" strike="noStrike">
                <a:solidFill>
                  <a:srgbClr val="ffffff"/>
                </a:solidFill>
                <a:latin typeface="CocktailShaker"/>
              </a:rPr>
              <a:t>heart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067280" y="345960"/>
            <a:ext cx="4662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ffffff"/>
                </a:solidFill>
                <a:latin typeface="CocktailShaker"/>
              </a:rPr>
              <a:t>Loop doo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ffffff"/>
                </a:solidFill>
                <a:latin typeface="CocktailShaker"/>
              </a:rPr>
              <a:t>       </a:t>
            </a:r>
            <a:r>
              <a:rPr b="0" i="1" lang="nl-BE" sz="2800" spc="-1" strike="noStrike">
                <a:solidFill>
                  <a:srgbClr val="ffffff"/>
                </a:solidFill>
                <a:latin typeface="CocktailShaker"/>
              </a:rPr>
              <a:t>Loop doo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ffffff"/>
                </a:solidFill>
                <a:latin typeface="CocktailShaker"/>
              </a:rPr>
              <a:t>              </a:t>
            </a:r>
            <a:r>
              <a:rPr b="0" i="1" lang="nl-BE" sz="2800" spc="-1" strike="noStrike">
                <a:solidFill>
                  <a:srgbClr val="ffffff"/>
                </a:solidFill>
                <a:latin typeface="CocktailShaker"/>
              </a:rPr>
              <a:t>met hoop in jullie harte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2340000" y="549360"/>
            <a:ext cx="952560" cy="81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2000"/>
                            </p:stCondLst>
                            <p:childTnLst>
                              <p:par>
                                <p:cTn id="501" nodeType="afterEffect" fill="hold" presetClass="entr" presetID="3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8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4600"/>
                            </p:stCondLst>
                            <p:childTnLst>
                              <p:par>
                                <p:cTn id="510" nodeType="afterEffect" fill="hold" presetClass="entr" presetID="30">
                                  <p:stCondLst>
                                    <p:cond delay="1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8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7900"/>
                            </p:stCondLst>
                            <p:childTnLst>
                              <p:par>
                                <p:cTn id="519" nodeType="afterEffect" fill="hold" presetClass="entr" presetID="3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8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835280" y="1268280"/>
            <a:ext cx="5486400" cy="41148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268360" y="5734080"/>
            <a:ext cx="4572000" cy="7142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76200" y="561960"/>
            <a:ext cx="117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de1c46"/>
                </a:solidFill>
                <a:latin typeface="CocktailShaker"/>
              </a:rPr>
              <a:t>You ‘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de1c46"/>
                </a:solidFill>
                <a:latin typeface="CocktailShaker"/>
              </a:rPr>
              <a:t>    </a:t>
            </a:r>
            <a:r>
              <a:rPr b="0" i="1" lang="nl-BE" sz="2800" spc="-1" strike="noStrike">
                <a:solidFill>
                  <a:srgbClr val="de1c46"/>
                </a:solidFill>
                <a:latin typeface="CocktailShaker"/>
              </a:rPr>
              <a:t>n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4000" y="1628640"/>
            <a:ext cx="92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de1c46"/>
                </a:solidFill>
                <a:latin typeface="CocktailShaker"/>
              </a:rPr>
              <a:t>wa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21200" y="2205000"/>
            <a:ext cx="142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de1c46"/>
                </a:solidFill>
                <a:latin typeface="CocktailShaker"/>
              </a:rPr>
              <a:t>   </a:t>
            </a:r>
            <a:r>
              <a:rPr b="0" i="1" lang="nl-BE" sz="2800" spc="-1" strike="noStrike">
                <a:solidFill>
                  <a:srgbClr val="de1c46"/>
                </a:solidFill>
                <a:latin typeface="CocktailShaker"/>
              </a:rPr>
              <a:t>Alon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7600" y="3645000"/>
            <a:ext cx="1140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de1c46"/>
                </a:solidFill>
                <a:latin typeface="CocktailShaker"/>
              </a:rPr>
              <a:t>You’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de1c46"/>
                </a:solidFill>
                <a:latin typeface="CocktailShaker"/>
              </a:rPr>
              <a:t> </a:t>
            </a:r>
            <a:r>
              <a:rPr b="0" i="1" lang="nl-BE" sz="2800" spc="-1" strike="noStrike">
                <a:solidFill>
                  <a:srgbClr val="de1c46"/>
                </a:solidFill>
                <a:latin typeface="CocktailShaker"/>
              </a:rPr>
              <a:t>n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88600" y="4653000"/>
            <a:ext cx="90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de1c46"/>
                </a:solidFill>
                <a:latin typeface="CocktailShaker"/>
              </a:rPr>
              <a:t>wa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71800" y="5445000"/>
            <a:ext cx="123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de1c46"/>
                </a:solidFill>
                <a:latin typeface="CocktailShaker"/>
              </a:rPr>
              <a:t>Alone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416000" y="490680"/>
            <a:ext cx="1430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de1c46"/>
                </a:solidFill>
                <a:latin typeface="CocktailShaker"/>
              </a:rPr>
              <a:t>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de1c46"/>
                </a:solidFill>
                <a:latin typeface="CocktailShaker"/>
              </a:rPr>
              <a:t>  </a:t>
            </a:r>
            <a:r>
              <a:rPr b="0" i="1" lang="nl-BE" sz="2800" spc="-1" strike="noStrike">
                <a:solidFill>
                  <a:srgbClr val="de1c46"/>
                </a:solidFill>
                <a:latin typeface="CocktailShaker"/>
              </a:rPr>
              <a:t>z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de1c46"/>
                </a:solidFill>
                <a:latin typeface="CocktailShaker"/>
              </a:rPr>
              <a:t>noo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de1c46"/>
                </a:solidFill>
                <a:latin typeface="CocktailShaker"/>
              </a:rPr>
              <a:t>  </a:t>
            </a:r>
            <a:r>
              <a:rPr b="0" i="1" lang="nl-BE" sz="2800" spc="-1" strike="noStrike">
                <a:solidFill>
                  <a:srgbClr val="de1c46"/>
                </a:solidFill>
                <a:latin typeface="CocktailShaker"/>
              </a:rPr>
              <a:t>all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de1c46"/>
                </a:solidFill>
                <a:latin typeface="CocktailShaker"/>
              </a:rPr>
              <a:t>   </a:t>
            </a:r>
            <a:r>
              <a:rPr b="0" i="1" lang="nl-BE" sz="2800" spc="-1" strike="noStrike">
                <a:solidFill>
                  <a:srgbClr val="de1c46"/>
                </a:solidFill>
                <a:latin typeface="CocktailShaker"/>
              </a:rPr>
              <a:t>lope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96360" y="3429000"/>
            <a:ext cx="14079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de1c46"/>
                </a:solidFill>
                <a:latin typeface="CocktailShaker"/>
              </a:rPr>
              <a:t>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de1c46"/>
                </a:solidFill>
                <a:latin typeface="CocktailShaker"/>
              </a:rPr>
              <a:t>  </a:t>
            </a:r>
            <a:r>
              <a:rPr b="0" i="1" lang="nl-BE" sz="2800" spc="-1" strike="noStrike">
                <a:solidFill>
                  <a:srgbClr val="de1c46"/>
                </a:solidFill>
                <a:latin typeface="CocktailShaker"/>
              </a:rPr>
              <a:t>z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de1c46"/>
                </a:solidFill>
                <a:latin typeface="CocktailShaker"/>
              </a:rPr>
              <a:t>noo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de1c46"/>
                </a:solidFill>
                <a:latin typeface="CocktailShaker"/>
              </a:rPr>
              <a:t>  </a:t>
            </a:r>
            <a:r>
              <a:rPr b="0" i="1" lang="nl-BE" sz="2800" spc="-1" strike="noStrike">
                <a:solidFill>
                  <a:srgbClr val="de1c46"/>
                </a:solidFill>
                <a:latin typeface="CocktailShaker"/>
              </a:rPr>
              <a:t>all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de1c46"/>
                </a:solidFill>
                <a:latin typeface="CocktailShaker"/>
              </a:rPr>
              <a:t> </a:t>
            </a:r>
            <a:r>
              <a:rPr b="0" i="1" lang="nl-BE" sz="2800" spc="-1" strike="noStrike">
                <a:solidFill>
                  <a:srgbClr val="de1c46"/>
                </a:solidFill>
                <a:latin typeface="CocktailShaker"/>
              </a:rPr>
              <a:t>Lopen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53320" y="6237360"/>
            <a:ext cx="238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000" spc="-1" strike="noStrike">
                <a:solidFill>
                  <a:srgbClr val="de1c46"/>
                </a:solidFill>
                <a:latin typeface="CocktailShaker"/>
              </a:rPr>
              <a:t>Psp &amp; Pps Lydieke 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0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8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2000"/>
                            </p:stCondLst>
                            <p:childTnLst>
                              <p:par>
                                <p:cTn id="546" nodeType="afterEffect" fill="hold" presetClass="entr" presetID="3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8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3800"/>
                            </p:stCondLst>
                            <p:childTnLst>
                              <p:par>
                                <p:cTn id="555" nodeType="afterEffect" fill="hold" presetClass="entr" presetID="3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8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6300"/>
                            </p:stCondLst>
                            <p:childTnLst>
                              <p:par>
                                <p:cTn id="5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8300"/>
                            </p:stCondLst>
                            <p:childTnLst>
                              <p:par>
                                <p:cTn id="568" nodeType="afterEffect" fill="hold" presetClass="entr" presetID="10">
                                  <p:stCondLst>
                                    <p:cond delay="2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30">
                                  <p:stCondLst>
                                    <p:cond delay="2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8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2800"/>
                            </p:stCondLst>
                            <p:childTnLst>
                              <p:par>
                                <p:cTn id="580" nodeType="afterEffect" fill="hold" presetClass="entr" presetID="30">
                                  <p:stCondLst>
                                    <p:cond delay="3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8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7100"/>
                            </p:stCondLst>
                            <p:childTnLst>
                              <p:par>
                                <p:cTn id="589" nodeType="afterEffect" fill="hold" presetClass="entr" presetID="3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8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20600"/>
                            </p:stCondLst>
                            <p:childTnLst>
                              <p:par>
                                <p:cTn id="5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692360" y="1197000"/>
            <a:ext cx="5851440" cy="4389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859280" y="260280"/>
            <a:ext cx="3619440" cy="762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826920" y="5805360"/>
            <a:ext cx="3619800" cy="762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55640" y="33336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dfbe9d"/>
                </a:solidFill>
                <a:latin typeface="CocktailShaker"/>
              </a:rPr>
              <a:t>When you walk</a:t>
            </a:r>
            <a:r>
              <a:rPr b="0" lang="nl-BE" sz="2400" spc="-1" strike="noStrike">
                <a:solidFill>
                  <a:srgbClr val="dfbe9d"/>
                </a:solidFill>
                <a:latin typeface="CocktailShaker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9280" y="1341360"/>
            <a:ext cx="1575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dfbe9d"/>
                </a:solidFill>
                <a:latin typeface="CocktailShaker"/>
              </a:rPr>
              <a:t>Thr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dfbe9d"/>
                </a:solidFill>
                <a:latin typeface="CocktailShaker"/>
              </a:rPr>
              <a:t> </a:t>
            </a:r>
            <a:r>
              <a:rPr b="0" i="1" lang="nl-BE" sz="2800" spc="-1" strike="noStrike">
                <a:solidFill>
                  <a:srgbClr val="dfbe9d"/>
                </a:solidFill>
                <a:latin typeface="CocktailShaker"/>
              </a:rPr>
              <a:t>a storm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31840" y="2924280"/>
            <a:ext cx="1201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dfbe9d"/>
                </a:solidFill>
                <a:latin typeface="CocktailShaker"/>
              </a:rPr>
              <a:t>Ho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dfbe9d"/>
                </a:solidFill>
                <a:latin typeface="CocktailShaker"/>
              </a:rPr>
              <a:t>you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dfbe9d"/>
                </a:solidFill>
                <a:latin typeface="CocktailShaker"/>
              </a:rPr>
              <a:t> </a:t>
            </a:r>
            <a:r>
              <a:rPr b="0" i="1" lang="nl-BE" sz="2800" spc="-1" strike="noStrike">
                <a:solidFill>
                  <a:srgbClr val="dfbe9d"/>
                </a:solidFill>
                <a:latin typeface="CocktailShaker"/>
              </a:rPr>
              <a:t>hea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1341360"/>
            <a:ext cx="3510000" cy="53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3200" spc="-1" strike="noStrike">
                <a:solidFill>
                  <a:srgbClr val="dfbe9d"/>
                </a:solidFill>
                <a:latin typeface="Vergennes"/>
              </a:rPr>
              <a:t>                 </a:t>
            </a:r>
            <a:r>
              <a:rPr b="0" i="1" lang="nl-BE" sz="2800" spc="-1" strike="noStrike">
                <a:solidFill>
                  <a:srgbClr val="dfbe9d"/>
                </a:solidFill>
                <a:latin typeface="CocktailShaker"/>
              </a:rPr>
              <a:t>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dfbe9d"/>
                </a:solidFill>
                <a:latin typeface="CocktailShaker"/>
              </a:rPr>
              <a:t>                </a:t>
            </a:r>
            <a:r>
              <a:rPr b="0" i="1" lang="nl-BE" sz="2800" spc="-1" strike="noStrike">
                <a:solidFill>
                  <a:srgbClr val="dfbe9d"/>
                </a:solidFill>
                <a:latin typeface="CocktailShaker"/>
              </a:rPr>
              <a:t>Je loop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3200" spc="-1" strike="noStrike">
                <a:solidFill>
                  <a:srgbClr val="dfbe9d"/>
                </a:solidFill>
                <a:latin typeface="Vergennes"/>
              </a:rPr>
              <a:t>                   </a:t>
            </a:r>
            <a:r>
              <a:rPr b="0" i="1" lang="nl-BE" sz="2800" spc="-1" strike="noStrike">
                <a:solidFill>
                  <a:srgbClr val="dfbe9d"/>
                </a:solidFill>
                <a:latin typeface="CocktailShaker"/>
              </a:rPr>
              <a:t>do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dfbe9d"/>
                </a:solidFill>
                <a:latin typeface="CocktailShaker"/>
              </a:rPr>
              <a:t>                  </a:t>
            </a:r>
            <a:r>
              <a:rPr b="0" i="1" lang="nl-BE" sz="2800" spc="-1" strike="noStrike">
                <a:solidFill>
                  <a:srgbClr val="dfbe9d"/>
                </a:solidFill>
                <a:latin typeface="CocktailShaker"/>
              </a:rPr>
              <a:t>e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dfbe9d"/>
                </a:solidFill>
                <a:latin typeface="CocktailShaker"/>
              </a:rPr>
              <a:t>                   </a:t>
            </a:r>
            <a:r>
              <a:rPr b="0" i="1" lang="nl-BE" sz="2800" spc="-1" strike="noStrike">
                <a:solidFill>
                  <a:srgbClr val="dfbe9d"/>
                </a:solidFill>
                <a:latin typeface="CocktailShaker"/>
              </a:rPr>
              <a:t>storm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3200" spc="-1" strike="noStrike">
                <a:solidFill>
                  <a:srgbClr val="dfbe9d"/>
                </a:solidFill>
                <a:latin typeface="Vergennes"/>
              </a:rPr>
              <a:t>                  </a:t>
            </a:r>
            <a:r>
              <a:rPr b="0" i="1" lang="nl-BE" sz="2800" spc="-1" strike="noStrike">
                <a:solidFill>
                  <a:srgbClr val="dfbe9d"/>
                </a:solidFill>
                <a:latin typeface="CocktailShaker"/>
              </a:rPr>
              <a:t>ho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dfbe9d"/>
                </a:solidFill>
                <a:latin typeface="CocktailShaker"/>
              </a:rPr>
              <a:t> </a:t>
            </a:r>
            <a:r>
              <a:rPr b="0" i="1" lang="nl-BE" sz="2800" spc="-1" strike="noStrike">
                <a:solidFill>
                  <a:srgbClr val="dfbe9d"/>
                </a:solidFill>
                <a:latin typeface="CocktailShaker"/>
              </a:rPr>
              <a:t>je hoofd omhoo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1840" y="4437000"/>
            <a:ext cx="117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dfbe9d"/>
                </a:solidFill>
                <a:latin typeface="CocktailShaker"/>
              </a:rPr>
              <a:t>u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dfbe9d"/>
                </a:solidFill>
                <a:latin typeface="CocktailShaker"/>
              </a:rPr>
              <a:t>   </a:t>
            </a:r>
            <a:r>
              <a:rPr b="0" i="1" lang="nl-BE" sz="2800" spc="-1" strike="noStrike">
                <a:solidFill>
                  <a:srgbClr val="dfbe9d"/>
                </a:solidFill>
                <a:latin typeface="CocktailShaker"/>
              </a:rPr>
              <a:t>high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8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100"/>
                            </p:stCondLst>
                            <p:childTnLst>
                              <p:par>
                                <p:cTn id="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100"/>
                            </p:stCondLst>
                            <p:childTnLst>
                              <p:par>
                                <p:cTn id="43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8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400"/>
                            </p:stCondLst>
                            <p:childTnLst>
                              <p:par>
                                <p:cTn id="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400"/>
                            </p:stCondLst>
                            <p:childTnLst>
                              <p:par>
                                <p:cTn id="58" nodeType="afterEffect" fill="hold" presetClass="entr" presetID="3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8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9100"/>
                            </p:stCondLst>
                            <p:childTnLst>
                              <p:par>
                                <p:cTn id="67" nodeType="afterEffect" fill="hold" presetClass="entr" presetID="3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8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627280" y="1341360"/>
            <a:ext cx="3780000" cy="4319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500720" y="5877000"/>
            <a:ext cx="2232000" cy="1810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2195640" y="5877000"/>
            <a:ext cx="2232000" cy="181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4500720" y="981000"/>
            <a:ext cx="2232000" cy="1810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2195640" y="981000"/>
            <a:ext cx="2232000" cy="1810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 rot="5400000">
            <a:off x="5562000" y="2293560"/>
            <a:ext cx="2232000" cy="181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7"/>
          <a:stretch/>
        </p:blipFill>
        <p:spPr>
          <a:xfrm rot="5400000">
            <a:off x="5562000" y="4598640"/>
            <a:ext cx="2232000" cy="181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8"/>
          <a:stretch/>
        </p:blipFill>
        <p:spPr>
          <a:xfrm rot="5400000">
            <a:off x="1169640" y="2293920"/>
            <a:ext cx="2232000" cy="180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9"/>
          <a:stretch/>
        </p:blipFill>
        <p:spPr>
          <a:xfrm rot="5400000">
            <a:off x="1169640" y="4599000"/>
            <a:ext cx="2232000" cy="1807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79280" y="995400"/>
            <a:ext cx="18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ffffff"/>
                </a:solidFill>
                <a:latin typeface="CocktailShaker"/>
              </a:rPr>
              <a:t>      </a:t>
            </a:r>
            <a:r>
              <a:rPr b="0" i="1" lang="nl-BE" sz="2800" spc="-1" strike="noStrike">
                <a:solidFill>
                  <a:srgbClr val="ffffff"/>
                </a:solidFill>
                <a:latin typeface="CocktailShaker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ffffff"/>
                </a:solidFill>
                <a:latin typeface="CocktailShaker"/>
              </a:rPr>
              <a:t> </a:t>
            </a:r>
            <a:r>
              <a:rPr b="0" i="1" lang="nl-BE" sz="2800" spc="-1" strike="noStrike">
                <a:solidFill>
                  <a:srgbClr val="ffffff"/>
                </a:solidFill>
                <a:latin typeface="CocktailShaker"/>
              </a:rPr>
              <a:t>don’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3443400"/>
            <a:ext cx="1222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ffffff"/>
                </a:solidFill>
                <a:latin typeface="CocktailShaker"/>
              </a:rPr>
              <a:t>  </a:t>
            </a:r>
            <a:r>
              <a:rPr b="0" i="1" lang="nl-BE" sz="2800" spc="-1" strike="noStrike">
                <a:solidFill>
                  <a:srgbClr val="ffffff"/>
                </a:solidFill>
                <a:latin typeface="CocktailShaker"/>
              </a:rPr>
              <a:t>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ffffff"/>
                </a:solidFill>
                <a:latin typeface="CocktailShaker"/>
              </a:rPr>
              <a:t>   </a:t>
            </a:r>
            <a:r>
              <a:rPr b="0" i="1" lang="nl-BE" sz="2800" spc="-1" strike="noStrike">
                <a:solidFill>
                  <a:srgbClr val="ffffff"/>
                </a:solidFill>
                <a:latin typeface="CocktailShaker"/>
              </a:rPr>
              <a:t>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ffffff"/>
                </a:solidFill>
                <a:latin typeface="CocktailShaker"/>
              </a:rPr>
              <a:t> </a:t>
            </a:r>
            <a:r>
              <a:rPr b="0" i="1" lang="nl-BE" sz="2800" spc="-1" strike="noStrike">
                <a:solidFill>
                  <a:srgbClr val="ffffff"/>
                </a:solidFill>
                <a:latin typeface="CocktailShaker"/>
              </a:rPr>
              <a:t>Dark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45880" y="2146320"/>
            <a:ext cx="1411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ffffff"/>
                </a:solidFill>
                <a:latin typeface="CocktailShaker"/>
              </a:rPr>
              <a:t> </a:t>
            </a:r>
            <a:r>
              <a:rPr b="0" i="1" lang="nl-BE" sz="2800" spc="-1" strike="noStrike">
                <a:solidFill>
                  <a:srgbClr val="ffffff"/>
                </a:solidFill>
                <a:latin typeface="CocktailShaker"/>
              </a:rPr>
              <a:t>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ffffff"/>
                </a:solidFill>
                <a:latin typeface="CocktailShaker"/>
              </a:rPr>
              <a:t>  </a:t>
            </a:r>
            <a:r>
              <a:rPr b="0" i="1" lang="nl-BE" sz="2800" spc="-1" strike="noStrike">
                <a:solidFill>
                  <a:srgbClr val="ffffff"/>
                </a:solidFill>
                <a:latin typeface="CocktailShaker"/>
              </a:rPr>
              <a:t>afrai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93280" y="1353960"/>
            <a:ext cx="15627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ffffff"/>
                </a:solidFill>
                <a:latin typeface="CocktailShaker"/>
              </a:rPr>
              <a:t>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ffffff"/>
                </a:solidFill>
                <a:latin typeface="CocktailShaker"/>
              </a:rPr>
              <a:t> </a:t>
            </a:r>
            <a:r>
              <a:rPr b="0" i="1" lang="nl-BE" sz="2800" spc="-1" strike="noStrike">
                <a:solidFill>
                  <a:srgbClr val="ffffff"/>
                </a:solidFill>
                <a:latin typeface="CocktailShaker"/>
              </a:rPr>
              <a:t>w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ffffff"/>
                </a:solidFill>
                <a:latin typeface="CocktailShaker"/>
              </a:rPr>
              <a:t>  </a:t>
            </a:r>
            <a:r>
              <a:rPr b="0" i="1" lang="nl-BE" sz="2800" spc="-1" strike="noStrike">
                <a:solidFill>
                  <a:srgbClr val="ffffff"/>
                </a:solidFill>
                <a:latin typeface="CocktailShaker"/>
              </a:rPr>
              <a:t>ni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ffffff"/>
                </a:solidFill>
                <a:latin typeface="CocktailShaker"/>
              </a:rPr>
              <a:t>   </a:t>
            </a:r>
            <a:r>
              <a:rPr b="0" i="1" lang="nl-BE" sz="2800" spc="-1" strike="noStrike">
                <a:solidFill>
                  <a:srgbClr val="ffffff"/>
                </a:solidFill>
                <a:latin typeface="CocktailShaker"/>
              </a:rPr>
              <a:t>ba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ffffff"/>
                </a:solidFill>
                <a:latin typeface="CocktailShaker"/>
              </a:rPr>
              <a:t>   </a:t>
            </a:r>
            <a:r>
              <a:rPr b="0" i="1" lang="nl-BE" sz="2800" spc="-1" strike="noStrike">
                <a:solidFill>
                  <a:srgbClr val="ffffff"/>
                </a:solidFill>
                <a:latin typeface="CocktailShaker"/>
              </a:rPr>
              <a:t>v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ffffff"/>
                </a:solidFill>
                <a:latin typeface="CocktailShaker"/>
              </a:rPr>
              <a:t>     </a:t>
            </a:r>
            <a:r>
              <a:rPr b="0" i="1" lang="nl-BE" sz="2800" spc="-1" strike="noStrike">
                <a:solidFill>
                  <a:srgbClr val="ffffff"/>
                </a:solidFill>
                <a:latin typeface="CocktailShaker"/>
              </a:rPr>
              <a:t>h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ffffff"/>
                </a:solidFill>
                <a:latin typeface="CocktailShaker"/>
              </a:rPr>
              <a:t>  </a:t>
            </a:r>
            <a:r>
              <a:rPr b="0" i="1" lang="nl-BE" sz="2800" spc="-1" strike="noStrike">
                <a:solidFill>
                  <a:srgbClr val="ffffff"/>
                </a:solidFill>
                <a:latin typeface="CocktailShaker"/>
              </a:rPr>
              <a:t>donk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8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8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800"/>
                            </p:stCondLst>
                            <p:childTnLst>
                              <p:par>
                                <p:cTn id="124" nodeType="afterEffect" fill="hold" presetClass="entr" presetID="3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8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476360" y="981000"/>
            <a:ext cx="6049800" cy="48243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50920" y="5445000"/>
            <a:ext cx="2695320" cy="10861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258920" y="765000"/>
            <a:ext cx="6481800" cy="5256360"/>
          </a:xfrm>
          <a:prstGeom prst="ellipse">
            <a:avLst/>
          </a:prstGeom>
          <a:noFill/>
          <a:ln cap="rnd" w="12600">
            <a:solidFill>
              <a:srgbClr val="f2b51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6200" y="189000"/>
            <a:ext cx="1190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c3a90d"/>
                </a:solidFill>
                <a:latin typeface="CocktailShaker"/>
              </a:rPr>
              <a:t>   </a:t>
            </a:r>
            <a:r>
              <a:rPr b="0" i="1" lang="nl-BE" sz="2800" spc="-1" strike="noStrike">
                <a:solidFill>
                  <a:srgbClr val="c3a90d"/>
                </a:solidFill>
                <a:latin typeface="CocktailShaker"/>
              </a:rPr>
              <a:t>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c3a90d"/>
                </a:solidFill>
                <a:latin typeface="CocktailShaker"/>
              </a:rPr>
              <a:t>  </a:t>
            </a:r>
            <a:r>
              <a:rPr b="0" i="1" lang="nl-BE" sz="2800" spc="-1" strike="noStrike">
                <a:solidFill>
                  <a:srgbClr val="c3a90d"/>
                </a:solidFill>
                <a:latin typeface="CocktailShaker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560" y="2003400"/>
            <a:ext cx="1381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c3a90d"/>
                </a:solidFill>
                <a:latin typeface="CocktailShaker"/>
              </a:rPr>
              <a:t>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c3a90d"/>
                </a:solidFill>
                <a:latin typeface="CocktailShaker"/>
              </a:rPr>
              <a:t> </a:t>
            </a:r>
            <a:r>
              <a:rPr b="0" i="1" lang="nl-BE" sz="2800" spc="-1" strike="noStrike">
                <a:solidFill>
                  <a:srgbClr val="c3a90d"/>
                </a:solidFill>
                <a:latin typeface="CocktailShaker"/>
              </a:rPr>
              <a:t>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c3a90d"/>
                </a:solidFill>
                <a:latin typeface="CocktailShaker"/>
              </a:rPr>
              <a:t>  </a:t>
            </a:r>
            <a:r>
              <a:rPr b="0" i="1" lang="nl-BE" sz="2800" spc="-1" strike="noStrike">
                <a:solidFill>
                  <a:srgbClr val="c3a90d"/>
                </a:solidFill>
                <a:latin typeface="CocktailShaker"/>
              </a:rPr>
              <a:t>storm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3514680"/>
            <a:ext cx="1407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c3a90d"/>
                </a:solidFill>
                <a:latin typeface="CocktailShaker"/>
              </a:rPr>
              <a:t>  </a:t>
            </a:r>
            <a:r>
              <a:rPr b="0" i="1" lang="nl-BE" sz="2800" spc="-1" strike="noStrike">
                <a:solidFill>
                  <a:srgbClr val="c3a90d"/>
                </a:solidFill>
                <a:latin typeface="CocktailShaker"/>
              </a:rPr>
              <a:t>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c3a90d"/>
                </a:solidFill>
                <a:latin typeface="CocktailShaker"/>
              </a:rPr>
              <a:t> </a:t>
            </a:r>
            <a:r>
              <a:rPr b="0" i="1" lang="nl-BE" sz="2800" spc="-1" strike="noStrike">
                <a:solidFill>
                  <a:srgbClr val="c3a90d"/>
                </a:solidFill>
                <a:latin typeface="CocktailShaker"/>
              </a:rPr>
              <a:t>a gol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76200" y="4365720"/>
            <a:ext cx="88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c3a90d"/>
                </a:solidFill>
                <a:latin typeface="CocktailShaker"/>
              </a:rPr>
              <a:t>Sk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001280" y="561960"/>
            <a:ext cx="1909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c3a90d"/>
                </a:solidFill>
                <a:latin typeface="CocktailShaker"/>
              </a:rPr>
              <a:t>W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c3a90d"/>
                </a:solidFill>
                <a:latin typeface="CocktailShaker"/>
              </a:rPr>
              <a:t>  </a:t>
            </a:r>
            <a:r>
              <a:rPr b="0" i="1" lang="nl-BE" sz="2800" spc="-1" strike="noStrike">
                <a:solidFill>
                  <a:srgbClr val="c3a90d"/>
                </a:solidFill>
                <a:latin typeface="CocktailShaker"/>
              </a:rPr>
              <a:t>a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c3a90d"/>
                </a:solidFill>
                <a:latin typeface="CocktailShaker"/>
              </a:rPr>
              <a:t>   </a:t>
            </a:r>
            <a:r>
              <a:rPr b="0" i="1" lang="nl-BE" sz="2800" spc="-1" strike="noStrike">
                <a:solidFill>
                  <a:srgbClr val="c3a90d"/>
                </a:solidFill>
                <a:latin typeface="CocktailShaker"/>
              </a:rPr>
              <a:t>het ei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c3a90d"/>
                </a:solidFill>
                <a:latin typeface="CocktailShaker"/>
              </a:rPr>
              <a:t>     </a:t>
            </a:r>
            <a:r>
              <a:rPr b="0" i="1" lang="nl-BE" sz="2800" spc="-1" strike="noStrike">
                <a:solidFill>
                  <a:srgbClr val="c3a90d"/>
                </a:solidFill>
                <a:latin typeface="CocktailShaker"/>
              </a:rPr>
              <a:t>v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c3a90d"/>
                </a:solidFill>
                <a:latin typeface="CocktailShaker"/>
              </a:rPr>
              <a:t>        </a:t>
            </a:r>
            <a:r>
              <a:rPr b="0" i="1" lang="nl-BE" sz="2800" spc="-1" strike="noStrike">
                <a:solidFill>
                  <a:srgbClr val="c3a90d"/>
                </a:solidFill>
                <a:latin typeface="CocktailShaker"/>
              </a:rPr>
              <a:t>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c3a90d"/>
                </a:solidFill>
                <a:latin typeface="CocktailShaker"/>
              </a:rPr>
              <a:t>      </a:t>
            </a:r>
            <a:r>
              <a:rPr b="0" i="1" lang="nl-BE" sz="2800" spc="-1" strike="noStrike">
                <a:solidFill>
                  <a:srgbClr val="c3a90d"/>
                </a:solidFill>
                <a:latin typeface="CocktailShaker"/>
              </a:rPr>
              <a:t>storm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c3a90d"/>
                </a:solidFill>
                <a:latin typeface="CocktailShaker"/>
              </a:rPr>
              <a:t>       </a:t>
            </a:r>
            <a:r>
              <a:rPr b="0" i="1" lang="nl-BE" sz="2800" spc="-1" strike="noStrike">
                <a:solidFill>
                  <a:srgbClr val="c3a90d"/>
                </a:solidFill>
                <a:latin typeface="CocktailShaker"/>
              </a:rPr>
              <a:t>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c3a90d"/>
                </a:solidFill>
                <a:latin typeface="CocktailShaker"/>
              </a:rPr>
              <a:t>        </a:t>
            </a:r>
            <a:r>
              <a:rPr b="0" i="1" lang="nl-BE" sz="2800" spc="-1" strike="noStrike">
                <a:solidFill>
                  <a:srgbClr val="c3a90d"/>
                </a:solidFill>
                <a:latin typeface="CocktailShaker"/>
              </a:rPr>
              <a:t>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c3a90d"/>
                </a:solidFill>
                <a:latin typeface="CocktailShaker"/>
              </a:rPr>
              <a:t>   </a:t>
            </a:r>
            <a:r>
              <a:rPr b="0" i="1" lang="nl-BE" sz="2800" spc="-1" strike="noStrike">
                <a:solidFill>
                  <a:srgbClr val="c3a90d"/>
                </a:solidFill>
                <a:latin typeface="CocktailShaker"/>
              </a:rPr>
              <a:t>gou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c3a90d"/>
                </a:solidFill>
                <a:latin typeface="CocktailShaker"/>
              </a:rPr>
              <a:t>      </a:t>
            </a:r>
            <a:r>
              <a:rPr b="0" i="1" lang="nl-BE" sz="2800" spc="-1" strike="noStrike">
                <a:solidFill>
                  <a:srgbClr val="c3a90d"/>
                </a:solidFill>
                <a:latin typeface="CocktailShaker"/>
              </a:rPr>
              <a:t>luch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8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8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4000"/>
                            </p:stCondLst>
                            <p:childTnLst>
                              <p:par>
                                <p:cTn id="1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0"/>
                            </p:stCondLst>
                            <p:childTnLst>
                              <p:par>
                                <p:cTn id="164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8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6800"/>
                            </p:stCondLst>
                            <p:childTnLst>
                              <p:par>
                                <p:cTn id="173" nodeType="afterEffect" fill="hold" presetClass="entr" presetID="3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8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692360" y="1341360"/>
            <a:ext cx="5759280" cy="4319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403280" y="620640"/>
            <a:ext cx="863640" cy="5684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 flipH="1">
            <a:off x="899640" y="5950080"/>
            <a:ext cx="863640" cy="5680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6516720" y="5445000"/>
            <a:ext cx="647640" cy="4273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24000" y="1484280"/>
            <a:ext cx="1728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bbe0e3"/>
                </a:solidFill>
                <a:latin typeface="CocktailShaker"/>
              </a:rPr>
              <a:t>And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bbe0e3"/>
                </a:solidFill>
                <a:latin typeface="CocktailShaker"/>
              </a:rPr>
              <a:t>   </a:t>
            </a:r>
            <a:r>
              <a:rPr b="0" i="1" lang="nl-BE" sz="2800" spc="-1" strike="noStrike">
                <a:solidFill>
                  <a:srgbClr val="bbe0e3"/>
                </a:solidFill>
                <a:latin typeface="CocktailShaker"/>
              </a:rPr>
              <a:t>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bbe0e3"/>
                </a:solidFill>
                <a:latin typeface="CocktailShaker"/>
              </a:rPr>
              <a:t>    </a:t>
            </a:r>
            <a:r>
              <a:rPr b="0" i="1" lang="nl-BE" sz="2800" spc="-1" strike="noStrike">
                <a:solidFill>
                  <a:srgbClr val="bbe0e3"/>
                </a:solidFill>
                <a:latin typeface="CocktailShaker"/>
              </a:rPr>
              <a:t>sw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bbe0e3"/>
                </a:solidFill>
                <a:latin typeface="CocktailShaker"/>
              </a:rPr>
              <a:t>Sil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bbe0e3"/>
                </a:solidFill>
                <a:latin typeface="CocktailShaker"/>
              </a:rPr>
              <a:t>   </a:t>
            </a:r>
            <a:r>
              <a:rPr b="0" i="1" lang="nl-BE" sz="2800" spc="-1" strike="noStrike">
                <a:solidFill>
                  <a:srgbClr val="bbe0e3"/>
                </a:solidFill>
                <a:latin typeface="CocktailShaker"/>
              </a:rPr>
              <a:t>so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48280" y="4883040"/>
            <a:ext cx="142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bbe0e3"/>
                </a:solidFill>
                <a:latin typeface="CocktailShaker"/>
              </a:rPr>
              <a:t>Of 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bbe0e3"/>
                </a:solidFill>
                <a:latin typeface="CocktailShaker"/>
              </a:rPr>
              <a:t>     </a:t>
            </a:r>
            <a:r>
              <a:rPr b="0" i="1" lang="nl-BE" sz="2800" spc="-1" strike="noStrike">
                <a:solidFill>
                  <a:srgbClr val="bbe0e3"/>
                </a:solidFill>
                <a:latin typeface="CocktailShaker"/>
              </a:rPr>
              <a:t>Lark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588000" y="1268280"/>
            <a:ext cx="2556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bbe0e3"/>
                </a:solidFill>
                <a:latin typeface="CocktailShaker"/>
              </a:rPr>
              <a:t>En  h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bbe0e3"/>
                </a:solidFill>
                <a:latin typeface="CocktailShaker"/>
              </a:rPr>
              <a:t>       </a:t>
            </a:r>
            <a:r>
              <a:rPr b="0" i="1" lang="nl-BE" sz="2800" spc="-1" strike="noStrike">
                <a:solidFill>
                  <a:srgbClr val="bbe0e3"/>
                </a:solidFill>
                <a:latin typeface="CocktailShaker"/>
              </a:rPr>
              <a:t>zo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bbe0e3"/>
                </a:solidFill>
                <a:latin typeface="CocktailShaker"/>
              </a:rPr>
              <a:t>         </a:t>
            </a:r>
            <a:r>
              <a:rPr b="0" i="1" lang="nl-BE" sz="2800" spc="-1" strike="noStrike">
                <a:solidFill>
                  <a:srgbClr val="bbe0e3"/>
                </a:solidFill>
                <a:latin typeface="CocktailShaker"/>
              </a:rPr>
              <a:t>zilv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bbe0e3"/>
                </a:solidFill>
                <a:latin typeface="CocktailShaker"/>
              </a:rPr>
              <a:t>            </a:t>
            </a:r>
            <a:r>
              <a:rPr b="0" i="1" lang="nl-BE" sz="2800" spc="-1" strike="noStrike">
                <a:solidFill>
                  <a:srgbClr val="bbe0e3"/>
                </a:solidFill>
                <a:latin typeface="CocktailShaker"/>
              </a:rPr>
              <a:t>liedj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bbe0e3"/>
                </a:solidFill>
                <a:latin typeface="CocktailShaker"/>
              </a:rPr>
              <a:t>            </a:t>
            </a:r>
            <a:r>
              <a:rPr b="0" i="1" lang="nl-BE" sz="2800" spc="-1" strike="noStrike">
                <a:solidFill>
                  <a:srgbClr val="bbe0e3"/>
                </a:solidFill>
                <a:latin typeface="CocktailShaker"/>
              </a:rPr>
              <a:t>v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bbe0e3"/>
                </a:solidFill>
                <a:latin typeface="CocktailShaker"/>
              </a:rPr>
              <a:t>              </a:t>
            </a:r>
            <a:r>
              <a:rPr b="0" i="1" lang="nl-BE" sz="2800" spc="-1" strike="noStrike">
                <a:solidFill>
                  <a:srgbClr val="bbe0e3"/>
                </a:solidFill>
                <a:latin typeface="CocktailShaker"/>
              </a:rPr>
              <a:t>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bbe0e3"/>
                </a:solidFill>
                <a:latin typeface="CocktailShaker"/>
              </a:rPr>
              <a:t>          </a:t>
            </a:r>
            <a:r>
              <a:rPr b="0" i="1" lang="nl-BE" sz="2800" spc="-1" strike="noStrike">
                <a:solidFill>
                  <a:srgbClr val="bbe0e3"/>
                </a:solidFill>
                <a:latin typeface="CocktailShaker"/>
              </a:rPr>
              <a:t>leeuwerik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bbe0e3"/>
                </a:solidFill>
                <a:latin typeface="CocktailShaker"/>
              </a:rPr>
              <a:t>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 flipH="1">
            <a:off x="7740360" y="333360"/>
            <a:ext cx="863640" cy="5698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6443640" y="765000"/>
            <a:ext cx="647640" cy="4255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335400" y="393372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MusiSync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86640" y="393372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MusiSync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67280" y="4581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MusiSync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94760" y="3860640"/>
            <a:ext cx="43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MusiSync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60880" y="400536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MusiSync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4263120" y="4076640"/>
            <a:ext cx="43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MusiSync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1619280" y="1341360"/>
            <a:ext cx="5905440" cy="439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8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3100"/>
                            </p:stCondLst>
                            <p:childTnLst>
                              <p:par>
                                <p:cTn id="1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4100"/>
                            </p:stCondLst>
                            <p:childTnLst>
                              <p:par>
                                <p:cTn id="213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8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78 -0.00185 L -1.11111E-006 -0.46967 E">
                                      <p:cBhvr>
                                        <p:cTn id="233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59259E-006 L -0.00556 -0.50416 E">
                                      <p:cBhvr>
                                        <p:cTn id="235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4.81481E-006 L -0.01163 -0.57778 E">
                                      <p:cBhvr>
                                        <p:cTn id="237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4.07407E-006 L -0.00556 -0.56713 E">
                                      <p:cBhvr>
                                        <p:cTn id="239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2.59259E-006 L -0.00399 -0.56273 E">
                                      <p:cBhvr>
                                        <p:cTn id="241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3.7037E-007 L 0.00104 -0.4669 E">
                                      <p:cBhvr>
                                        <p:cTn id="243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8000"/>
                            </p:stCondLst>
                            <p:childTnLst>
                              <p:par>
                                <p:cTn id="24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0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2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6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763640" y="1197000"/>
            <a:ext cx="5286600" cy="4218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5661000"/>
            <a:ext cx="3714840" cy="6858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 rot="10800000">
            <a:off x="2700000" y="332640"/>
            <a:ext cx="3714840" cy="6858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 rot="8983800">
            <a:off x="826920" y="4724280"/>
            <a:ext cx="1509840" cy="16178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 rot="21178800">
            <a:off x="6516720" y="404640"/>
            <a:ext cx="1523880" cy="16336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77120" y="419040"/>
            <a:ext cx="154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446fc4"/>
                </a:solidFill>
                <a:latin typeface="CocktailShaker"/>
              </a:rPr>
              <a:t>Walk o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995400"/>
            <a:ext cx="1401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446fc4"/>
                </a:solidFill>
                <a:latin typeface="CocktailShaker"/>
              </a:rPr>
              <a:t>    </a:t>
            </a:r>
            <a:r>
              <a:rPr b="0" i="1" lang="nl-BE" sz="2800" spc="-1" strike="noStrike">
                <a:solidFill>
                  <a:srgbClr val="446fc4"/>
                </a:solidFill>
                <a:latin typeface="CocktailShaker"/>
              </a:rPr>
              <a:t>tr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446fc4"/>
                </a:solidFill>
                <a:latin typeface="CocktailShaker"/>
              </a:rPr>
              <a:t>  </a:t>
            </a:r>
            <a:r>
              <a:rPr b="0" i="1" lang="nl-BE" sz="2800" spc="-1" strike="noStrike">
                <a:solidFill>
                  <a:srgbClr val="446fc4"/>
                </a:solidFill>
                <a:latin typeface="CocktailShaker"/>
              </a:rPr>
              <a:t>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446fc4"/>
                </a:solidFill>
                <a:latin typeface="CocktailShaker"/>
              </a:rPr>
              <a:t>   </a:t>
            </a:r>
            <a:r>
              <a:rPr b="0" i="1" lang="nl-BE" sz="2800" spc="-1" strike="noStrike">
                <a:solidFill>
                  <a:srgbClr val="446fc4"/>
                </a:solidFill>
                <a:latin typeface="CocktailShaker"/>
              </a:rPr>
              <a:t>Win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2722680"/>
            <a:ext cx="141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446fc4"/>
                </a:solidFill>
                <a:latin typeface="CocktailShaker"/>
              </a:rPr>
              <a:t>Walk o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154320"/>
            <a:ext cx="1474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446fc4"/>
                </a:solidFill>
                <a:latin typeface="CocktailShaker"/>
              </a:rPr>
              <a:t>    </a:t>
            </a:r>
            <a:r>
              <a:rPr b="0" i="1" lang="nl-BE" sz="2800" spc="-1" strike="noStrike">
                <a:solidFill>
                  <a:srgbClr val="446fc4"/>
                </a:solidFill>
                <a:latin typeface="CocktailShaker"/>
              </a:rPr>
              <a:t>tr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446fc4"/>
                </a:solidFill>
                <a:latin typeface="CocktailShaker"/>
              </a:rPr>
              <a:t>  </a:t>
            </a:r>
            <a:r>
              <a:rPr b="0" i="1" lang="nl-BE" sz="2800" spc="-1" strike="noStrike">
                <a:solidFill>
                  <a:srgbClr val="446fc4"/>
                </a:solidFill>
                <a:latin typeface="CocktailShaker"/>
              </a:rPr>
              <a:t>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446fc4"/>
                </a:solidFill>
                <a:latin typeface="CocktailShaker"/>
              </a:rPr>
              <a:t>   </a:t>
            </a:r>
            <a:r>
              <a:rPr b="0" i="1" lang="nl-BE" sz="2800" spc="-1" strike="noStrike">
                <a:solidFill>
                  <a:srgbClr val="446fc4"/>
                </a:solidFill>
                <a:latin typeface="CocktailShaker"/>
              </a:rPr>
              <a:t>Rai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216920" y="2276640"/>
            <a:ext cx="15253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446fc4"/>
                </a:solidFill>
                <a:latin typeface="CocktailShaker"/>
              </a:rPr>
              <a:t>Loop doo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446fc4"/>
                </a:solidFill>
                <a:latin typeface="CocktailShaker"/>
              </a:rPr>
              <a:t>  </a:t>
            </a:r>
            <a:r>
              <a:rPr b="0" i="1" lang="nl-BE" sz="2800" spc="-1" strike="noStrike">
                <a:solidFill>
                  <a:srgbClr val="446fc4"/>
                </a:solidFill>
                <a:latin typeface="CocktailShaker"/>
              </a:rPr>
              <a:t>do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446fc4"/>
                </a:solidFill>
                <a:latin typeface="CocktailShaker"/>
              </a:rPr>
              <a:t>   </a:t>
            </a:r>
            <a:r>
              <a:rPr b="0" i="1" lang="nl-BE" sz="2800" spc="-1" strike="noStrike">
                <a:solidFill>
                  <a:srgbClr val="446fc4"/>
                </a:solidFill>
                <a:latin typeface="CocktailShaker"/>
              </a:rPr>
              <a:t>de win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446fc4"/>
                </a:solidFill>
                <a:latin typeface="CocktailShaker"/>
              </a:rPr>
              <a:t>Loop doo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446fc4"/>
                </a:solidFill>
                <a:latin typeface="CocktailShaker"/>
              </a:rPr>
              <a:t>   </a:t>
            </a:r>
            <a:r>
              <a:rPr b="0" i="1" lang="nl-BE" sz="2800" spc="-1" strike="noStrike">
                <a:solidFill>
                  <a:srgbClr val="446fc4"/>
                </a:solidFill>
                <a:latin typeface="CocktailShaker"/>
              </a:rPr>
              <a:t>do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446fc4"/>
                </a:solidFill>
                <a:latin typeface="CocktailShaker"/>
              </a:rPr>
              <a:t>     </a:t>
            </a:r>
            <a:r>
              <a:rPr b="0" i="1" lang="nl-BE" sz="2800" spc="-1" strike="noStrike">
                <a:solidFill>
                  <a:srgbClr val="446fc4"/>
                </a:solidFill>
                <a:latin typeface="CocktailShaker"/>
              </a:rPr>
              <a:t>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446fc4"/>
                </a:solidFill>
                <a:latin typeface="CocktailShaker"/>
              </a:rPr>
              <a:t>    </a:t>
            </a:r>
            <a:r>
              <a:rPr b="0" i="1" lang="nl-BE" sz="2800" spc="-1" strike="noStrike">
                <a:solidFill>
                  <a:srgbClr val="446fc4"/>
                </a:solidFill>
                <a:latin typeface="CocktailShaker"/>
              </a:rPr>
              <a:t>rege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8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8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430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300"/>
                            </p:stCondLst>
                            <p:childTnLst>
                              <p:par>
                                <p:cTn id="289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8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7300"/>
                            </p:stCondLst>
                            <p:childTnLst>
                              <p:par>
                                <p:cTn id="310" nodeType="afterEffect" fill="hold" presetClass="entr" presetID="3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8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692360" y="1341360"/>
            <a:ext cx="5761080" cy="4322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826920" y="4508640"/>
            <a:ext cx="2087640" cy="2087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3132000" y="404640"/>
            <a:ext cx="2919600" cy="8352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140360" y="2349360"/>
            <a:ext cx="165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706320"/>
            <a:ext cx="1506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dddddd"/>
                </a:solidFill>
                <a:latin typeface="CocktailShaker"/>
              </a:rPr>
              <a:t>Th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dddddd"/>
                </a:solidFill>
                <a:latin typeface="CocktailShaker"/>
              </a:rPr>
              <a:t>y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dddddd"/>
                </a:solidFill>
                <a:latin typeface="CocktailShaker"/>
              </a:rPr>
              <a:t>dream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47840" y="2421000"/>
            <a:ext cx="124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dddddd"/>
                </a:solidFill>
                <a:latin typeface="CocktailShaker"/>
              </a:rPr>
              <a:t>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dddddd"/>
                </a:solidFill>
                <a:latin typeface="CocktailShaker"/>
              </a:rPr>
              <a:t>tosse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9280" y="3789360"/>
            <a:ext cx="129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dddddd"/>
                </a:solidFill>
                <a:latin typeface="CocktailShaker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dddddd"/>
                </a:solidFill>
                <a:latin typeface="CocktailShaker"/>
              </a:rPr>
              <a:t>  </a:t>
            </a:r>
            <a:r>
              <a:rPr b="0" i="1" lang="nl-BE" sz="2800" spc="-1" strike="noStrike">
                <a:solidFill>
                  <a:srgbClr val="dddddd"/>
                </a:solidFill>
                <a:latin typeface="CocktailShaker"/>
              </a:rPr>
              <a:t>blow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359480" y="1052640"/>
            <a:ext cx="17845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dddddd"/>
                </a:solidFill>
                <a:latin typeface="CocktailShaker"/>
              </a:rPr>
              <a:t>Ondank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dddddd"/>
                </a:solidFill>
                <a:latin typeface="CocktailShaker"/>
              </a:rPr>
              <a:t>D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dddddd"/>
                </a:solidFill>
                <a:latin typeface="CocktailShaker"/>
              </a:rPr>
              <a:t>  </a:t>
            </a:r>
            <a:r>
              <a:rPr b="0" i="1" lang="nl-BE" sz="2800" spc="-1" strike="noStrike">
                <a:solidFill>
                  <a:srgbClr val="dddddd"/>
                </a:solidFill>
                <a:latin typeface="CocktailShaker"/>
              </a:rPr>
              <a:t>er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dddddd"/>
                </a:solidFill>
                <a:latin typeface="CocktailShaker"/>
              </a:rPr>
              <a:t>      </a:t>
            </a:r>
            <a:r>
              <a:rPr b="0" i="1" lang="nl-BE" sz="2800" spc="-1" strike="noStrike">
                <a:solidFill>
                  <a:srgbClr val="dddddd"/>
                </a:solidFill>
                <a:latin typeface="CocktailShaker"/>
              </a:rPr>
              <a:t>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dddddd"/>
                </a:solidFill>
                <a:latin typeface="CocktailShaker"/>
              </a:rPr>
              <a:t>  </a:t>
            </a:r>
            <a:r>
              <a:rPr b="0" i="1" lang="nl-BE" sz="2800" spc="-1" strike="noStrike">
                <a:solidFill>
                  <a:srgbClr val="dddddd"/>
                </a:solidFill>
                <a:latin typeface="CocktailShaker"/>
              </a:rPr>
              <a:t>dr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dddddd"/>
                </a:solidFill>
                <a:latin typeface="CocktailShaker"/>
              </a:rPr>
              <a:t>    </a:t>
            </a:r>
            <a:r>
              <a:rPr b="0" i="1" lang="nl-BE" sz="2800" spc="-1" strike="noStrike">
                <a:solidFill>
                  <a:srgbClr val="dddddd"/>
                </a:solidFill>
                <a:latin typeface="CocktailShaker"/>
              </a:rPr>
              <a:t>gegoo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dddddd"/>
                </a:solidFill>
                <a:latin typeface="CocktailShaker"/>
              </a:rPr>
              <a:t>   </a:t>
            </a:r>
            <a:r>
              <a:rPr b="0" i="1" lang="nl-BE" sz="2800" spc="-1" strike="noStrike">
                <a:solidFill>
                  <a:srgbClr val="dddddd"/>
                </a:solidFill>
                <a:latin typeface="CocktailShaker"/>
              </a:rPr>
              <a:t>wor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dddddd"/>
                </a:solidFill>
                <a:latin typeface="CocktailShaker"/>
              </a:rPr>
              <a:t>    </a:t>
            </a:r>
            <a:r>
              <a:rPr b="0" i="1" lang="nl-BE" sz="2800" spc="-1" strike="noStrike">
                <a:solidFill>
                  <a:srgbClr val="dddddd"/>
                </a:solidFill>
                <a:latin typeface="CocktailShaker"/>
              </a:rPr>
              <a:t>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dddddd"/>
                </a:solidFill>
                <a:latin typeface="CocktailShaker"/>
              </a:rPr>
              <a:t> </a:t>
            </a:r>
            <a:r>
              <a:rPr b="0" i="1" lang="nl-BE" sz="2800" spc="-1" strike="noStrike">
                <a:solidFill>
                  <a:srgbClr val="dddddd"/>
                </a:solidFill>
                <a:latin typeface="CocktailShaker"/>
              </a:rPr>
              <a:t>weggeblaze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8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600"/>
                            </p:stCondLst>
                            <p:childTnLst>
                              <p:par>
                                <p:cTn id="3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3100"/>
                            </p:stCondLst>
                            <p:childTnLst>
                              <p:par>
                                <p:cTn id="338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8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4900"/>
                            </p:stCondLst>
                            <p:childTnLst>
                              <p:par>
                                <p:cTn id="347" nodeType="afterEffect" fill="hold" presetClass="entr" presetID="3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7200"/>
                            </p:stCondLst>
                            <p:childTnLst>
                              <p:par>
                                <p:cTn id="3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835280" y="1413000"/>
            <a:ext cx="5236920" cy="3922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411280" y="4653000"/>
            <a:ext cx="3238560" cy="18669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2987640" y="620640"/>
            <a:ext cx="2790720" cy="5428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16800" y="779400"/>
            <a:ext cx="104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ddba97"/>
                </a:solidFill>
                <a:latin typeface="CocktailShaker"/>
              </a:rPr>
              <a:t>Wa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ddba97"/>
                </a:solidFill>
                <a:latin typeface="CocktailShaker"/>
              </a:rPr>
              <a:t>    </a:t>
            </a:r>
            <a:r>
              <a:rPr b="0" i="1" lang="nl-BE" sz="2800" spc="-1" strike="noStrike">
                <a:solidFill>
                  <a:srgbClr val="ddba97"/>
                </a:solidFill>
                <a:latin typeface="CocktailShaker"/>
              </a:rPr>
              <a:t>o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8160" y="2146320"/>
            <a:ext cx="95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ddba97"/>
                </a:solidFill>
                <a:latin typeface="CocktailShaker"/>
              </a:rPr>
              <a:t>Wa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ddba97"/>
                </a:solidFill>
                <a:latin typeface="CocktailShaker"/>
              </a:rPr>
              <a:t>   </a:t>
            </a:r>
            <a:r>
              <a:rPr b="0" i="1" lang="nl-BE" sz="2800" spc="-1" strike="noStrike">
                <a:solidFill>
                  <a:srgbClr val="ddba97"/>
                </a:solidFill>
                <a:latin typeface="CocktailShaker"/>
              </a:rPr>
              <a:t>o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5360" y="3514680"/>
            <a:ext cx="12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ddba97"/>
                </a:solidFill>
                <a:latin typeface="CocktailShaker"/>
              </a:rPr>
              <a:t>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ddba97"/>
                </a:solidFill>
                <a:latin typeface="CocktailShaker"/>
              </a:rPr>
              <a:t>   </a:t>
            </a:r>
            <a:r>
              <a:rPr b="0" i="1" lang="nl-BE" sz="2800" spc="-1" strike="noStrike">
                <a:solidFill>
                  <a:srgbClr val="ddba97"/>
                </a:solidFill>
                <a:latin typeface="CocktailShaker"/>
              </a:rPr>
              <a:t>h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432560" y="706320"/>
            <a:ext cx="14605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ddba97"/>
                </a:solidFill>
                <a:latin typeface="CocktailShaker"/>
              </a:rPr>
              <a:t>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ddba97"/>
                </a:solidFill>
                <a:latin typeface="CocktailShaker"/>
              </a:rPr>
              <a:t>   </a:t>
            </a:r>
            <a:r>
              <a:rPr b="0" i="1" lang="nl-BE" sz="2800" spc="-1" strike="noStrike">
                <a:solidFill>
                  <a:srgbClr val="ddba97"/>
                </a:solidFill>
                <a:latin typeface="CocktailShaker"/>
              </a:rPr>
              <a:t>doo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ddba97"/>
                </a:solidFill>
                <a:latin typeface="CocktailShaker"/>
              </a:rPr>
              <a:t>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ddba97"/>
                </a:solidFill>
                <a:latin typeface="CocktailShaker"/>
              </a:rPr>
              <a:t>    </a:t>
            </a:r>
            <a:r>
              <a:rPr b="0" i="1" lang="nl-BE" sz="2800" spc="-1" strike="noStrike">
                <a:solidFill>
                  <a:srgbClr val="ddba97"/>
                </a:solidFill>
                <a:latin typeface="CocktailShaker"/>
              </a:rPr>
              <a:t>doo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ddba97"/>
                </a:solidFill>
                <a:latin typeface="CocktailShaker"/>
              </a:rPr>
              <a:t>  </a:t>
            </a:r>
            <a:r>
              <a:rPr b="0" i="1" lang="nl-BE" sz="2800" spc="-1" strike="noStrike">
                <a:solidFill>
                  <a:srgbClr val="ddba97"/>
                </a:solidFill>
                <a:latin typeface="CocktailShaker"/>
              </a:rPr>
              <a:t>m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ddba97"/>
                </a:solidFill>
                <a:latin typeface="CocktailShaker"/>
              </a:rPr>
              <a:t>    </a:t>
            </a:r>
            <a:r>
              <a:rPr b="0" i="1" lang="nl-BE" sz="2800" spc="-1" strike="noStrike">
                <a:solidFill>
                  <a:srgbClr val="ddba97"/>
                </a:solidFill>
                <a:latin typeface="CocktailShaker"/>
              </a:rPr>
              <a:t>h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ddba97"/>
                </a:solidFill>
                <a:latin typeface="CocktailShaker"/>
              </a:rPr>
              <a:t> </a:t>
            </a:r>
            <a:r>
              <a:rPr b="0" i="1" lang="nl-BE" sz="2800" spc="-1" strike="noStrike">
                <a:solidFill>
                  <a:srgbClr val="ddba97"/>
                </a:solidFill>
                <a:latin typeface="CocktailShaker"/>
              </a:rPr>
              <a:t>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ddba97"/>
                </a:solidFill>
                <a:latin typeface="CocktailShaker"/>
              </a:rPr>
              <a:t>    </a:t>
            </a:r>
            <a:r>
              <a:rPr b="0" i="1" lang="nl-BE" sz="2800" spc="-1" strike="noStrike">
                <a:solidFill>
                  <a:srgbClr val="ddba97"/>
                </a:solidFill>
                <a:latin typeface="CocktailShaker"/>
              </a:rPr>
              <a:t>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ddba97"/>
                </a:solidFill>
                <a:latin typeface="CocktailShaker"/>
              </a:rPr>
              <a:t>     </a:t>
            </a:r>
            <a:r>
              <a:rPr b="0" i="1" lang="nl-BE" sz="2800" spc="-1" strike="noStrike">
                <a:solidFill>
                  <a:srgbClr val="ddba97"/>
                </a:solidFill>
                <a:latin typeface="CocktailShaker"/>
              </a:rPr>
              <a:t>har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74040" y="4595760"/>
            <a:ext cx="1428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ddba97"/>
                </a:solidFill>
                <a:latin typeface="CocktailShaker"/>
              </a:rPr>
              <a:t>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ddba97"/>
                </a:solidFill>
                <a:latin typeface="CocktailShaker"/>
              </a:rPr>
              <a:t>  </a:t>
            </a:r>
            <a:r>
              <a:rPr b="0" i="1" lang="nl-BE" sz="2800" spc="-1" strike="noStrike">
                <a:solidFill>
                  <a:srgbClr val="ddba97"/>
                </a:solidFill>
                <a:latin typeface="CocktailShaker"/>
              </a:rPr>
              <a:t>y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ddba97"/>
                </a:solidFill>
                <a:latin typeface="CocktailShaker"/>
              </a:rPr>
              <a:t>   </a:t>
            </a:r>
            <a:r>
              <a:rPr b="0" i="1" lang="nl-BE" sz="2800" spc="-1" strike="noStrike">
                <a:solidFill>
                  <a:srgbClr val="ddba97"/>
                </a:solidFill>
                <a:latin typeface="CocktailShaker"/>
              </a:rPr>
              <a:t>Hear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8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8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360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600"/>
                            </p:stCondLst>
                            <p:childTnLst>
                              <p:par>
                                <p:cTn id="391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8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7300"/>
                            </p:stCondLst>
                            <p:childTnLst>
                              <p:par>
                                <p:cTn id="400" nodeType="afterEffect" fill="hold" presetClass="entr" presetID="3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8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3565440" cy="4380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211640" y="2133720"/>
            <a:ext cx="790560" cy="637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724360" y="3068640"/>
            <a:ext cx="790920" cy="657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380360" y="4005360"/>
            <a:ext cx="790560" cy="637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932360" y="981000"/>
            <a:ext cx="302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ecbb42"/>
                </a:solidFill>
                <a:latin typeface="CocktailShaker"/>
              </a:rPr>
              <a:t>And you’l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ecbb42"/>
                </a:solidFill>
                <a:latin typeface="CocktailShaker"/>
              </a:rPr>
              <a:t>        </a:t>
            </a:r>
            <a:r>
              <a:rPr b="0" i="1" lang="nl-BE" sz="2800" spc="-1" strike="noStrike">
                <a:solidFill>
                  <a:srgbClr val="ecbb42"/>
                </a:solidFill>
                <a:latin typeface="CocktailShaker"/>
              </a:rPr>
              <a:t>never wa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77080" y="1844640"/>
            <a:ext cx="122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ecbb42"/>
                </a:solidFill>
                <a:latin typeface="CocktailShaker"/>
              </a:rPr>
              <a:t> </a:t>
            </a:r>
            <a:r>
              <a:rPr b="0" i="1" lang="nl-BE" sz="2800" spc="-1" strike="noStrike">
                <a:solidFill>
                  <a:srgbClr val="ecbb42"/>
                </a:solidFill>
                <a:latin typeface="CocktailShaker"/>
              </a:rPr>
              <a:t>alon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30960" y="4292640"/>
            <a:ext cx="2174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ecbb42"/>
                </a:solidFill>
                <a:latin typeface="CocktailShaker"/>
              </a:rPr>
              <a:t>En 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ecbb42"/>
                </a:solidFill>
                <a:latin typeface="CocktailShaker"/>
              </a:rPr>
              <a:t>   </a:t>
            </a:r>
            <a:r>
              <a:rPr b="0" i="1" lang="nl-BE" sz="2800" spc="-1" strike="noStrike">
                <a:solidFill>
                  <a:srgbClr val="ecbb42"/>
                </a:solidFill>
                <a:latin typeface="CocktailShaker"/>
              </a:rPr>
              <a:t>zult noo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ecbb42"/>
                </a:solidFill>
                <a:latin typeface="CocktailShaker"/>
              </a:rPr>
              <a:t>        </a:t>
            </a:r>
            <a:r>
              <a:rPr b="0" i="1" lang="nl-BE" sz="2800" spc="-1" strike="noStrike">
                <a:solidFill>
                  <a:srgbClr val="ecbb42"/>
                </a:solidFill>
                <a:latin typeface="CocktailShaker"/>
              </a:rPr>
              <a:t>all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ecbb42"/>
                </a:solidFill>
                <a:latin typeface="CocktailShaker"/>
              </a:rPr>
              <a:t>           </a:t>
            </a:r>
            <a:r>
              <a:rPr b="0" i="1" lang="nl-BE" sz="2800" spc="-1" strike="noStrike">
                <a:solidFill>
                  <a:srgbClr val="ecbb42"/>
                </a:solidFill>
                <a:latin typeface="CocktailShaker"/>
              </a:rPr>
              <a:t>lope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8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2700"/>
                            </p:stCondLst>
                            <p:childTnLst>
                              <p:par>
                                <p:cTn id="4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3700"/>
                            </p:stCondLst>
                            <p:childTnLst>
                              <p:par>
                                <p:cTn id="4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4700"/>
                            </p:stCondLst>
                            <p:childTnLst>
                              <p:par>
                                <p:cTn id="4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700"/>
                            </p:stCondLst>
                            <p:childTnLst>
                              <p:par>
                                <p:cTn id="436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8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9T22:58:18Z</dcterms:created>
  <dc:creator>Lydie</dc:creator>
  <dc:description/>
  <dc:language>en-US</dc:language>
  <cp:lastModifiedBy>george</cp:lastModifiedBy>
  <dcterms:modified xsi:type="dcterms:W3CDTF">2008-07-27T08:30:20Z</dcterms:modified>
  <cp:revision>31</cp:revision>
  <dc:subject/>
  <dc:title>Dia 1</dc:title>
</cp:coreProperties>
</file>