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54C-67FE-4592-8C86-319557514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167-0096-42A2-9A82-F45E36C3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F1ED-F7EB-44D1-9B8F-3E647485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2FF-6AB6-4204-A66B-5A8A049E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414-4FB5-43BF-B98C-F01ABDC8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EA4-A70F-411F-8B50-CD04B4C7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94A-BFC8-4786-BEDE-CFD70F8D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E88-C19B-459E-9DE8-FDB85EE7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13D2-8861-42A6-A259-4DCF315A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974-42E0-4EB9-BD7A-F0D8C4FC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853-0F2E-4CA3-8F46-B30E0425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97D7-A39D-419D-A182-DF09B09D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2EEC-E338-484C-A059-B3E1F7FA22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debbyclincke@hotmail.com" TargetMode="External"/><Relationship Id="rId3" Type="http://schemas.openxmlformats.org/officeDocument/2006/relationships/hyperlink" Target="mailto:debbyclincke@hotmail.com" TargetMode="External"/><Relationship Id="rId4" Type="http://schemas.openxmlformats.org/officeDocument/2006/relationships/hyperlink" Target="mailto:debbyclincke@hotmail.com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 u="sng">
                <a:solidFill>
                  <a:srgbClr val="008000"/>
                </a:solidFill>
                <a:uFillTx/>
                <a:latin typeface="Times New Roman"/>
              </a:rPr>
              <a:t>2</a:t>
            </a:r>
            <a:r>
              <a:rPr b="1" lang="nl-BE" sz="3600" spc="-1" strike="noStrike" u="sng" baseline="30000">
                <a:solidFill>
                  <a:srgbClr val="008000"/>
                </a:solidFill>
                <a:uFillTx/>
                <a:latin typeface="Times New Roman"/>
              </a:rPr>
              <a:t>de</a:t>
            </a:r>
            <a:r>
              <a:rPr b="1" lang="nl-BE" sz="3600" spc="-1" strike="noStrike" u="sng">
                <a:solidFill>
                  <a:srgbClr val="008000"/>
                </a:solidFill>
                <a:uFillTx/>
                <a:latin typeface="Times New Roman"/>
              </a:rPr>
              <a:t> G-Tornooi op Racing Mechelen</a:t>
            </a:r>
            <a:r>
              <a:rPr b="0" lang="nl-BE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2060640"/>
            <a:ext cx="424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 u="sng">
                <a:solidFill>
                  <a:srgbClr val="008000"/>
                </a:solidFill>
                <a:uFillTx/>
                <a:latin typeface="Times New Roman"/>
              </a:rPr>
              <a:t>Zaterdag 30 april 2011 vanaf 10.00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3213000"/>
            <a:ext cx="698508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8000"/>
                </a:solidFill>
                <a:latin typeface="Times New Roman"/>
              </a:rPr>
              <a:t>Kids, D-ploegen, C-plo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Times New Roman"/>
              </a:rPr>
              <a:t>Voor meer inlichtingen: Debby Clinc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debbyclincke</a:t>
            </a:r>
            <a:r>
              <a:rPr b="0" lang="nl-BE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@</a:t>
            </a:r>
            <a:r>
              <a:rPr b="0" lang="nl-BE" sz="20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ot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Times New Roman"/>
              </a:rPr>
              <a:t>0476/59.73.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8000"/>
                </a:solidFill>
                <a:latin typeface="Times New Roman"/>
              </a:rPr>
              <a:t>Adres: Oscar Vankesbeeckstraat 43, 2800 Mech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8001000" y="5334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6"/>
          <a:stretch/>
        </p:blipFill>
        <p:spPr>
          <a:xfrm>
            <a:off x="0" y="5391000"/>
            <a:ext cx="1523880" cy="146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3635280" y="6021360"/>
            <a:ext cx="2016360" cy="836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7524720" y="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1619280" cy="1628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10"/>
          <a:stretch/>
        </p:blipFill>
        <p:spPr>
          <a:xfrm>
            <a:off x="1908000" y="0"/>
            <a:ext cx="1584360" cy="162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1"/>
          <a:stretch/>
        </p:blipFill>
        <p:spPr>
          <a:xfrm>
            <a:off x="5651640" y="0"/>
            <a:ext cx="1584360" cy="1628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2"/>
          <a:stretch/>
        </p:blipFill>
        <p:spPr>
          <a:xfrm>
            <a:off x="3780000" y="0"/>
            <a:ext cx="1655640" cy="162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3"/>
          <a:stretch/>
        </p:blipFill>
        <p:spPr>
          <a:xfrm>
            <a:off x="6443640" y="2708280"/>
            <a:ext cx="2381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20:56:22Z</dcterms:created>
  <dc:creator>debby</dc:creator>
  <dc:description/>
  <dc:language>en-US</dc:language>
  <cp:lastModifiedBy>debby</cp:lastModifiedBy>
  <dcterms:modified xsi:type="dcterms:W3CDTF">2011-01-03T09:55:18Z</dcterms:modified>
  <cp:revision>9</cp:revision>
  <dc:subject/>
  <dc:title>Dia 1</dc:title>
</cp:coreProperties>
</file>