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734-77BA-4E26-8037-57946F4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DCE-7B7C-44EE-9DEB-64F5E4F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8F7-4BEC-40ED-88B3-C5027B22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B2C-AEAE-4F9F-88A1-1F42E9B4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040-2F82-4A83-988B-875FB608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B1D-FCB3-4790-BF7F-064016A7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484-8FD3-416D-BEC4-706F96B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036-228C-4CB6-83CF-C73C861E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D0A-4287-4EE5-B149-4299B48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5D7-E3A6-49E3-8EEC-ECEF03D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7F3-EBA3-4C4C-923B-41EBD62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536-B168-41EF-92C8-BB49FC7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77C-C27C-4A27-AA25-9B828E6643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ebbyclincke@hotmail.com" TargetMode="External"/><Relationship Id="rId3" Type="http://schemas.openxmlformats.org/officeDocument/2006/relationships/hyperlink" Target="mailto:debbyclincke@hotmail.com" TargetMode="External"/><Relationship Id="rId4" Type="http://schemas.openxmlformats.org/officeDocument/2006/relationships/hyperlink" Target="mailto:debbyclincke@hotmail.com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008000"/>
                </a:solidFill>
                <a:uFillTx/>
                <a:latin typeface="Times New Roman"/>
              </a:rPr>
              <a:t>2</a:t>
            </a:r>
            <a:r>
              <a:rPr b="1" lang="nl-BE" sz="3600" spc="-1" strike="noStrike" u="sng" baseline="30000">
                <a:solidFill>
                  <a:srgbClr val="008000"/>
                </a:solidFill>
                <a:uFillTx/>
                <a:latin typeface="Times New Roman"/>
              </a:rPr>
              <a:t>de</a:t>
            </a:r>
            <a:r>
              <a:rPr b="1" lang="nl-BE" sz="3600" spc="-1" strike="noStrike" u="sng">
                <a:solidFill>
                  <a:srgbClr val="008000"/>
                </a:solidFill>
                <a:uFillTx/>
                <a:latin typeface="Times New Roman"/>
              </a:rPr>
              <a:t> G-Tornooi op Racing Mechelen</a:t>
            </a:r>
            <a:r>
              <a:rPr b="0" lang="nl-BE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2060640"/>
            <a:ext cx="424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Times New Roman"/>
              </a:rPr>
              <a:t>Zaterdag 30 april 2011 vanaf 10.00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213000"/>
            <a:ext cx="6985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8000"/>
                </a:solidFill>
                <a:latin typeface="Times New Roman"/>
              </a:rPr>
              <a:t>Kids, D-ploegen, C-pl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Voor meer inlichtingen: Debby Clin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ebbyclincke</a:t>
            </a: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0476/59.73.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Adres: Oscar Vankesbeeckstraat 43, 2800 Mech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80010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539100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3635280" y="6021360"/>
            <a:ext cx="2016360" cy="83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52472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1908000" y="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5651640" y="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780000" y="0"/>
            <a:ext cx="1655640" cy="162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6443640" y="27082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0:56:22Z</dcterms:created>
  <dc:creator>debby</dc:creator>
  <dc:description/>
  <dc:language>en-US</dc:language>
  <cp:lastModifiedBy>debby</cp:lastModifiedBy>
  <dcterms:modified xsi:type="dcterms:W3CDTF">2011-01-03T09:55:18Z</dcterms:modified>
  <cp:revision>9</cp:revision>
  <dc:subject/>
  <dc:title>Dia 1</dc:title>
</cp:coreProperties>
</file>