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2244-6A43-480F-ADDE-A1D9901E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5407-274A-4DF7-8550-F15A16F8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83CC-A0E3-4580-A01A-815248FE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BAF9-E0D9-45FB-B8F1-AFD80303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ED4E-9E24-4B1B-A1A5-AD2B2135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D103-D0E1-4CED-8836-3DFADC5E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D6DE-E65B-4D8E-AFF6-938A2600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3DBD-BD5A-486B-9257-982D8D37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1E07-B6A8-418A-BDC8-2A997CF4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69D0-864F-48D6-AE31-BE4A4926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85FB-83EA-4554-B92C-B532E8B1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0409-788B-4CE7-9168-C448D152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CC97-9FFE-47BE-9382-07BB7102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EBF6-78CF-43D1-9DD2-EC1A37E5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6536-39A2-4F7F-B9B1-27B7858E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F63B-EFD4-4A24-B493-24219D7A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BA46-296F-4297-97F9-C4E96B31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8256-1909-449D-AC8C-0D752B7F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61F7-FEFB-4915-959D-50B2FD43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B229-6E8A-4649-BC71-1BC1C568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63F5-D2B9-4CE8-8867-CEEEC034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A6B9-A1A1-4212-A6F5-13D5900E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1DD7-2ACE-40DB-8CD2-573423FC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233E-9645-458E-AB07-1DEDE646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86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911C-5B50-4BE6-B96A-DA766F5D8740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86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9AA5-6B71-4825-A97E-718365B6AABE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jdelijke aanduiding voor inhoud 3" descr="atomium.jpg"/>
          <p:cNvPicPr/>
          <p:nvPr/>
        </p:nvPicPr>
        <p:blipFill>
          <a:blip r:embed="rId1"/>
          <a:stretch/>
        </p:blipFill>
        <p:spPr>
          <a:xfrm>
            <a:off x="-468360" y="0"/>
            <a:ext cx="961236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200" spc="-1" strike="noStrike">
                <a:solidFill>
                  <a:srgbClr val="ff0000"/>
                </a:solidFill>
                <a:latin typeface="Juice ITC"/>
              </a:rPr>
              <a:t>Donderdag: We duiken Brussel in 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Brussel van dichtbij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Waterpret in Océade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http://static.skynetblogs.be/media/10900/dyn008_original_369_492_pjpeg_2530379_9d1906369bbf43d53a68a781df1184b6.jpg"/>
          <p:cNvPicPr/>
          <p:nvPr/>
        </p:nvPicPr>
        <p:blipFill>
          <a:blip r:embed="rId1"/>
          <a:stretch/>
        </p:blipFill>
        <p:spPr>
          <a:xfrm>
            <a:off x="755640" y="2205000"/>
            <a:ext cx="2322360" cy="3095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http://v3.clint.be/files/clint/nieuws/anacondafinal.JPG"/>
          <p:cNvPicPr/>
          <p:nvPr/>
        </p:nvPicPr>
        <p:blipFill>
          <a:blip r:embed="rId2"/>
          <a:stretch/>
        </p:blipFill>
        <p:spPr>
          <a:xfrm>
            <a:off x="4140360" y="2276640"/>
            <a:ext cx="4378320" cy="2908080"/>
          </a:xfrm>
          <a:prstGeom prst="rect">
            <a:avLst/>
          </a:prstGeom>
          <a:ln w="0">
            <a:noFill/>
          </a:ln>
        </p:spPr>
      </p:pic>
      <p:sp>
        <p:nvSpPr>
          <p:cNvPr id="128" name="Tekstvak 6"/>
          <p:cNvSpPr/>
          <p:nvPr/>
        </p:nvSpPr>
        <p:spPr>
          <a:xfrm>
            <a:off x="611280" y="5445000"/>
            <a:ext cx="68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Avondprogramma: laatste avond = verrassingsav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200" spc="-1" strike="noStrike">
                <a:solidFill>
                  <a:srgbClr val="ff0000"/>
                </a:solidFill>
                <a:latin typeface="Juice ITC"/>
              </a:rPr>
              <a:t>Vrijdag: Afscheid nemen van Bruss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De trots van Brussel… het Atomiu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Terug naar hui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http://imagene.youropi.com/atomium-brussel-activiteit-brussel-1(p:activity,5795)(c:0).jpg"/>
          <p:cNvPicPr/>
          <p:nvPr/>
        </p:nvPicPr>
        <p:blipFill>
          <a:blip r:embed="rId1"/>
          <a:stretch/>
        </p:blipFill>
        <p:spPr>
          <a:xfrm>
            <a:off x="539640" y="2492280"/>
            <a:ext cx="3603600" cy="2708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http://sint-truiden.n-va.be/files/afdeling/sint-truiden.temp.n-va.be/trein.jpg"/>
          <p:cNvPicPr/>
          <p:nvPr/>
        </p:nvPicPr>
        <p:blipFill>
          <a:blip r:embed="rId2"/>
          <a:stretch/>
        </p:blipFill>
        <p:spPr>
          <a:xfrm>
            <a:off x="4716360" y="2492280"/>
            <a:ext cx="3876840" cy="2706840"/>
          </a:xfrm>
          <a:prstGeom prst="rect">
            <a:avLst/>
          </a:prstGeom>
          <a:ln w="0">
            <a:noFill/>
          </a:ln>
        </p:spPr>
      </p:pic>
      <p:sp>
        <p:nvSpPr>
          <p:cNvPr id="134" name="Tekstvak 6"/>
          <p:cNvSpPr/>
          <p:nvPr/>
        </p:nvSpPr>
        <p:spPr>
          <a:xfrm>
            <a:off x="539640" y="5445000"/>
            <a:ext cx="68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Avondprogramma: slapen..slapen..slapen..slapen.. Slaapw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200" spc="-1" strike="noStrike">
                <a:solidFill>
                  <a:srgbClr val="ff0000"/>
                </a:solidFill>
                <a:latin typeface="Juice ITC"/>
              </a:rPr>
              <a:t>Het kostenplaatj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Kostprijs: € 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Wat krijg je hiervo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Vol p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Vervoer in Brussel met tram en me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Activit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Bezoek aan het restau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Avondactivit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Bijkomende kos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Trein: heen en te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Extraatjes: een lekker drankje, een ijsje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Dit wordt betaald 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Inkomsten dessertenbuff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200" spc="-1" strike="noStrike">
                <a:solidFill>
                  <a:srgbClr val="c00000"/>
                </a:solidFill>
                <a:latin typeface="Juice ITC"/>
              </a:rPr>
              <a:t>Hoe betal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 u="sng">
                <a:solidFill>
                  <a:srgbClr val="000000"/>
                </a:solidFill>
                <a:uFillTx/>
                <a:latin typeface="Juice ITC"/>
              </a:rPr>
              <a:t>Eenmalige bet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OVERSCHRIJ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 u="sng">
                <a:solidFill>
                  <a:srgbClr val="000000"/>
                </a:solidFill>
                <a:uFillTx/>
                <a:latin typeface="Juice ITC"/>
              </a:rPr>
              <a:t>Elke maand via de schoolrek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NOVEMBER: € 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DECEMBER: €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JANUARI: €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FEBRUARI: €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356000" y="1125360"/>
            <a:ext cx="4330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 u="sng">
                <a:solidFill>
                  <a:srgbClr val="000000"/>
                </a:solidFill>
                <a:uFillTx/>
                <a:latin typeface="Juice ITC"/>
              </a:rPr>
              <a:t>Elke week via een omslag in het agen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Juice ITC"/>
              </a:rPr>
              <a:t>Maandag 14 november: €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Juice ITC"/>
              </a:rPr>
              <a:t>Maandag 21 november: €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Juice ITC"/>
              </a:rPr>
              <a:t>Maandag 28 november: €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Juice ITC"/>
              </a:rPr>
              <a:t>Maandag 5 december: €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Juice ITC"/>
              </a:rPr>
              <a:t>Maandag 12 december: €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Juice ITC"/>
              </a:rPr>
              <a:t>Maandag 19 december: €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Juice ITC"/>
              </a:rPr>
              <a:t>Maandag 9 januari: €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Juice ITC"/>
              </a:rPr>
              <a:t>Maandag 16 januari: €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Juice ITC"/>
              </a:rPr>
              <a:t>Maandag 23 januari: €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Juice ITC"/>
              </a:rPr>
              <a:t>Maandag 30 januari: €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Juice ITC"/>
              </a:rPr>
              <a:t>Maandag 6 februari: €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Juice ITC"/>
              </a:rPr>
              <a:t>Maandag 13 februari: €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Juice ITC"/>
              </a:rPr>
              <a:t>Maandag 28 februari: €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http://users.fulladsl.be/spb2345/TKTG/images/spaarvarken.jpg"/>
          <p:cNvPicPr/>
          <p:nvPr/>
        </p:nvPicPr>
        <p:blipFill>
          <a:blip r:embed="rId1"/>
          <a:stretch/>
        </p:blipFill>
        <p:spPr>
          <a:xfrm>
            <a:off x="7093080" y="4888080"/>
            <a:ext cx="15620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200" spc="-1" strike="noStrike">
                <a:solidFill>
                  <a:srgbClr val="c00000"/>
                </a:solidFill>
                <a:latin typeface="Juice ITC"/>
              </a:rPr>
              <a:t>Nog enkele belangrijke afspraken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Juice ITC"/>
              </a:rPr>
              <a:t>Snoep laten we thuis. We krijgen daar eten voldoend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Juice ITC"/>
              </a:rPr>
              <a:t>GSM, IPod, MP3-speler heb je absoluut niet nodig. Je hebt daar vrienden genoeg om je mee te amusere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Juice ITC"/>
              </a:rPr>
              <a:t>Een boek, strip of spelletje kan natuurlijk we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Juice ITC"/>
              </a:rPr>
              <a:t>Via een blog (later meer info) houden wij het thuisfront op de hoogte van onze avontur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http://www.viso-cor-mariae.be/wb/media/afspraken.gif"/>
          <p:cNvPicPr/>
          <p:nvPr/>
        </p:nvPicPr>
        <p:blipFill>
          <a:blip r:embed="rId1"/>
          <a:stretch/>
        </p:blipFill>
        <p:spPr>
          <a:xfrm>
            <a:off x="6443640" y="4797360"/>
            <a:ext cx="187812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a80404"/>
                </a:solidFill>
                <a:latin typeface="Juice ITC"/>
              </a:rPr>
              <a:t>We maken er een geweldige week van!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Picture 20" descr="http://www.freewebs.com/stadsklas/DSCN0861.JPG"/>
          <p:cNvPicPr/>
          <p:nvPr/>
        </p:nvPicPr>
        <p:blipFill>
          <a:blip r:embed="rId1"/>
          <a:stretch/>
        </p:blipFill>
        <p:spPr>
          <a:xfrm>
            <a:off x="2195640" y="1125360"/>
            <a:ext cx="417672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6300" spc="-1" strike="noStrike">
                <a:solidFill>
                  <a:srgbClr val="a80404"/>
                </a:solidFill>
                <a:latin typeface="Juice ITC"/>
              </a:rPr>
              <a:t>Op stadsklassen in Brussel…</a:t>
            </a:r>
            <a:endParaRPr b="0" lang="en-US" sz="63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rcRect l="13309" t="10179" r="18678" b="30958"/>
          <a:stretch/>
        </p:blipFill>
        <p:spPr>
          <a:xfrm>
            <a:off x="0" y="1844640"/>
            <a:ext cx="9144000" cy="4464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7040" y="523800"/>
            <a:ext cx="793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5400" spc="-1" strike="noStrike">
                <a:solidFill>
                  <a:srgbClr val="a80404"/>
                </a:solidFill>
                <a:latin typeface="Juice ITC"/>
              </a:rPr>
              <a:t>Welkom in de Waterman !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0" name="Afbeelding 25" descr="001-w.jpg"/>
          <p:cNvPicPr/>
          <p:nvPr/>
        </p:nvPicPr>
        <p:blipFill>
          <a:blip r:embed="rId1"/>
          <a:stretch/>
        </p:blipFill>
        <p:spPr>
          <a:xfrm>
            <a:off x="2843280" y="2133720"/>
            <a:ext cx="6048360" cy="45338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324000" y="4292640"/>
            <a:ext cx="266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a80404"/>
                </a:solidFill>
                <a:latin typeface="Juice ITC"/>
              </a:rPr>
              <a:t>Via deze poort geraken we binne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Afbeelding 26" descr="P1070608.JPG"/>
          <p:cNvPicPr/>
          <p:nvPr/>
        </p:nvPicPr>
        <p:blipFill>
          <a:blip r:embed="rId1"/>
          <a:stretch/>
        </p:blipFill>
        <p:spPr>
          <a:xfrm>
            <a:off x="5364000" y="476280"/>
            <a:ext cx="3205440" cy="2674800"/>
          </a:xfrm>
          <a:prstGeom prst="rect">
            <a:avLst/>
          </a:prstGeom>
          <a:ln w="0">
            <a:noFill/>
          </a:ln>
        </p:spPr>
      </p:pic>
      <p:pic>
        <p:nvPicPr>
          <p:cNvPr id="93" name="Tijdelijke aanduiding voor inhoud 22" descr="P1070611.JPG"/>
          <p:cNvPicPr/>
          <p:nvPr/>
        </p:nvPicPr>
        <p:blipFill>
          <a:blip r:embed="rId2"/>
          <a:stretch/>
        </p:blipFill>
        <p:spPr>
          <a:xfrm>
            <a:off x="611280" y="404640"/>
            <a:ext cx="2752560" cy="3673800"/>
          </a:xfrm>
          <a:prstGeom prst="rect">
            <a:avLst/>
          </a:prstGeom>
          <a:ln w="0">
            <a:noFill/>
          </a:ln>
        </p:spPr>
      </p:pic>
      <p:pic>
        <p:nvPicPr>
          <p:cNvPr id="94" name="Tijdelijke aanduiding voor inhoud 21" descr="P1070609.JPG"/>
          <p:cNvPicPr/>
          <p:nvPr/>
        </p:nvPicPr>
        <p:blipFill>
          <a:blip r:embed="rId3"/>
          <a:stretch/>
        </p:blipFill>
        <p:spPr>
          <a:xfrm>
            <a:off x="2843280" y="2637000"/>
            <a:ext cx="2735280" cy="3644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9"/>
          <p:cNvSpPr/>
          <p:nvPr/>
        </p:nvSpPr>
        <p:spPr>
          <a:xfrm>
            <a:off x="5796000" y="3645000"/>
            <a:ext cx="302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a80404"/>
                </a:solidFill>
                <a:latin typeface="Juice ITC"/>
              </a:rPr>
              <a:t>Achter de poort schuilt onze verblijfplaa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jdelijke aanduiding voor inhoud 6" descr="P1070590.JPG"/>
          <p:cNvPicPr/>
          <p:nvPr/>
        </p:nvPicPr>
        <p:blipFill>
          <a:blip r:embed="rId1"/>
          <a:stretch/>
        </p:blipFill>
        <p:spPr>
          <a:xfrm>
            <a:off x="0" y="692280"/>
            <a:ext cx="4572000" cy="3101760"/>
          </a:xfrm>
          <a:prstGeom prst="rect">
            <a:avLst/>
          </a:prstGeom>
          <a:ln w="0">
            <a:noFill/>
          </a:ln>
        </p:spPr>
      </p:pic>
      <p:pic>
        <p:nvPicPr>
          <p:cNvPr id="97" name="Tijdelijke aanduiding voor inhoud 9" descr="P1070592.JPG"/>
          <p:cNvPicPr/>
          <p:nvPr/>
        </p:nvPicPr>
        <p:blipFill>
          <a:blip r:embed="rId2"/>
          <a:stretch/>
        </p:blipFill>
        <p:spPr>
          <a:xfrm>
            <a:off x="4572000" y="3797280"/>
            <a:ext cx="4572000" cy="306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www.jes.be/foto/jes-site/waterman/005-w.jpg"/>
          <p:cNvPicPr/>
          <p:nvPr/>
        </p:nvPicPr>
        <p:blipFill>
          <a:blip r:embed="rId3"/>
          <a:stretch/>
        </p:blipFill>
        <p:spPr>
          <a:xfrm>
            <a:off x="4572000" y="692280"/>
            <a:ext cx="4572000" cy="3095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www.jes.be/foto/jes-site/waterman/010-w.jpg"/>
          <p:cNvPicPr/>
          <p:nvPr/>
        </p:nvPicPr>
        <p:blipFill>
          <a:blip r:embed="rId4"/>
          <a:stretch/>
        </p:blipFill>
        <p:spPr>
          <a:xfrm>
            <a:off x="0" y="3800520"/>
            <a:ext cx="4572000" cy="30574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395280" y="115920"/>
            <a:ext cx="58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a80404"/>
                </a:solidFill>
                <a:latin typeface="Juice ITC"/>
              </a:rPr>
              <a:t>Enkele foto’s van de lokale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a80404"/>
                </a:solidFill>
                <a:latin typeface="Juice ITC"/>
              </a:rPr>
              <a:t>Natuurlijk gaan we ook op verkenning in Brussel…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" name="Picture 1" descr="E:\stadsklassen\009-Brussel-zw-1.jpg"/>
          <p:cNvPicPr/>
          <p:nvPr/>
        </p:nvPicPr>
        <p:blipFill>
          <a:blip r:embed="rId1"/>
          <a:stretch/>
        </p:blipFill>
        <p:spPr>
          <a:xfrm>
            <a:off x="395280" y="1268280"/>
            <a:ext cx="8209080" cy="2138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http://www.kortom.be/file_uploads/Cache/size_907_450_4331.jpg"/>
          <p:cNvPicPr/>
          <p:nvPr/>
        </p:nvPicPr>
        <p:blipFill>
          <a:blip r:embed="rId2"/>
          <a:stretch/>
        </p:blipFill>
        <p:spPr>
          <a:xfrm>
            <a:off x="395280" y="3573360"/>
            <a:ext cx="2664000" cy="3113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http://www.s-p-a.be/media/thumbs/uploads/pictures/Vlaams_Parlement_jpg_245x190_crop_q85.jpg"/>
          <p:cNvPicPr/>
          <p:nvPr/>
        </p:nvPicPr>
        <p:blipFill>
          <a:blip r:embed="rId3"/>
          <a:stretch/>
        </p:blipFill>
        <p:spPr>
          <a:xfrm>
            <a:off x="5651640" y="3500280"/>
            <a:ext cx="2952720" cy="3159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3132000" y="3645000"/>
            <a:ext cx="273708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900" spc="-1" strike="noStrike">
                <a:solidFill>
                  <a:srgbClr val="a80404"/>
                </a:solidFill>
                <a:latin typeface="Juice ITC"/>
              </a:rPr>
              <a:t>Het Atomium, </a:t>
            </a:r>
            <a:br>
              <a:rPr sz="2900"/>
            </a:br>
            <a:r>
              <a:rPr b="1" lang="nl-BE" sz="2900" spc="-1" strike="noStrike">
                <a:solidFill>
                  <a:srgbClr val="a80404"/>
                </a:solidFill>
                <a:latin typeface="Juice ITC"/>
              </a:rPr>
              <a:t>de VRT studio en ook </a:t>
            </a:r>
            <a:br>
              <a:rPr sz="2900"/>
            </a:br>
            <a:r>
              <a:rPr b="1" lang="nl-BE" sz="2900" spc="-1" strike="noStrike">
                <a:solidFill>
                  <a:srgbClr val="a80404"/>
                </a:solidFill>
                <a:latin typeface="Juice ITC"/>
              </a:rPr>
              <a:t>het Brussels Parlement hebben na die week geen geheimen meer voor ons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f0000"/>
                </a:solidFill>
                <a:latin typeface="Juice ITC"/>
              </a:rPr>
              <a:t>Maandag: een frisse start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Op zoek naar onze verblijfplaats…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8320" y="1600200"/>
            <a:ext cx="40384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Op verkenning in televisieland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blogimages.bloggen.be/stadsklas2010/989251-40999c4c8e21cbdbbd9b90fba3d79191.jpg"/>
          <p:cNvPicPr/>
          <p:nvPr/>
        </p:nvPicPr>
        <p:blipFill>
          <a:blip r:embed="rId1"/>
          <a:stretch/>
        </p:blipFill>
        <p:spPr>
          <a:xfrm>
            <a:off x="539640" y="2492280"/>
            <a:ext cx="3365640" cy="2527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21.img.v4.skyrock.com/218/brandboy12/pics/1416493207.jpg"/>
          <p:cNvPicPr/>
          <p:nvPr/>
        </p:nvPicPr>
        <p:blipFill>
          <a:blip r:embed="rId2"/>
          <a:stretch/>
        </p:blipFill>
        <p:spPr>
          <a:xfrm>
            <a:off x="4716360" y="2492280"/>
            <a:ext cx="3584520" cy="2535480"/>
          </a:xfrm>
          <a:prstGeom prst="rect">
            <a:avLst/>
          </a:prstGeom>
          <a:ln w="0">
            <a:noFill/>
          </a:ln>
        </p:spPr>
      </p:pic>
      <p:sp>
        <p:nvSpPr>
          <p:cNvPr id="111" name="Tekstvak 6"/>
          <p:cNvSpPr/>
          <p:nvPr/>
        </p:nvSpPr>
        <p:spPr>
          <a:xfrm>
            <a:off x="468360" y="5229360"/>
            <a:ext cx="68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Avondprogramma: klimmen in de Wat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200" spc="-1" strike="noStrike">
                <a:solidFill>
                  <a:srgbClr val="ff0000"/>
                </a:solidFill>
                <a:latin typeface="Juice ITC"/>
              </a:rPr>
              <a:t>Dinsdag: Ieder zijn stem!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403848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Bezoek aan het Brussels par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     </a:t>
            </a: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We leren meer over democratie en verkiezin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://jeanlucvanraes.be/wp-content/uploads/2010/02/overzich-parlement.jpeg"/>
          <p:cNvPicPr/>
          <p:nvPr/>
        </p:nvPicPr>
        <p:blipFill>
          <a:blip r:embed="rId1"/>
          <a:stretch/>
        </p:blipFill>
        <p:spPr>
          <a:xfrm>
            <a:off x="539640" y="2492280"/>
            <a:ext cx="3378240" cy="2527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ttp://www.vipjeugd.be/wp-content/uploads/2011/09/CIS_logo1.jpg"/>
          <p:cNvPicPr/>
          <p:nvPr/>
        </p:nvPicPr>
        <p:blipFill>
          <a:blip r:embed="rId2"/>
          <a:stretch/>
        </p:blipFill>
        <p:spPr>
          <a:xfrm>
            <a:off x="5003640" y="2997360"/>
            <a:ext cx="3505320" cy="2016000"/>
          </a:xfrm>
          <a:prstGeom prst="rect">
            <a:avLst/>
          </a:prstGeom>
          <a:ln w="0">
            <a:noFill/>
          </a:ln>
        </p:spPr>
      </p:pic>
      <p:sp>
        <p:nvSpPr>
          <p:cNvPr id="117" name="Tekstvak 6"/>
          <p:cNvSpPr/>
          <p:nvPr/>
        </p:nvSpPr>
        <p:spPr>
          <a:xfrm>
            <a:off x="468360" y="5229360"/>
            <a:ext cx="68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Avondprogramma: met z’n allen gezellig op restaura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200" spc="-1" strike="noStrike">
                <a:solidFill>
                  <a:srgbClr val="ff0000"/>
                </a:solidFill>
                <a:latin typeface="Juice ITC"/>
              </a:rPr>
              <a:t>Woensdag is werelddag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     </a:t>
            </a: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Op ontdekking in de wereld van vand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Avondprogram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Juice ITC"/>
              </a:rPr>
              <a:t>Muziekatelier met R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http://www.studioglobo.be/userfiles/images/publicaties_cover/wonenophetdak.jpg"/>
          <p:cNvPicPr/>
          <p:nvPr/>
        </p:nvPicPr>
        <p:blipFill>
          <a:blip r:embed="rId1"/>
          <a:stretch/>
        </p:blipFill>
        <p:spPr>
          <a:xfrm>
            <a:off x="1187280" y="2637000"/>
            <a:ext cx="2376720" cy="312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gratis-zoekertjes.onlinertjes.be/image/image/44427.jpg"/>
          <p:cNvPicPr/>
          <p:nvPr/>
        </p:nvPicPr>
        <p:blipFill>
          <a:blip r:embed="rId2"/>
          <a:stretch/>
        </p:blipFill>
        <p:spPr>
          <a:xfrm>
            <a:off x="4427640" y="2924280"/>
            <a:ext cx="391320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17:52:27Z</dcterms:created>
  <dc:creator>SaarVanLoo</dc:creator>
  <dc:description/>
  <dc:language>en-US</dc:language>
  <cp:lastModifiedBy>hanne.feskens</cp:lastModifiedBy>
  <dcterms:modified xsi:type="dcterms:W3CDTF">2011-11-10T18:10:53Z</dcterms:modified>
  <cp:revision>25</cp:revision>
  <dc:subject/>
  <dc:title>Dia 1</dc:title>
</cp:coreProperties>
</file>