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4E5-685E-48EB-A45A-DF94DAF9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127-9788-4AE0-8CF5-E0E1E267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BF3-9FF7-4FDA-A725-340D7339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6A3-7600-41B7-A986-6CDB4DCF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4A8C-1D25-40D4-AF6D-31A8839D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3B29-79B0-4C8B-A539-BDC37A16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A020-8392-4F3B-8F58-FBF42C59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0CFD-376A-4800-B86B-8EBFC9F6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F838-A395-4022-B769-542FEEDC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E51A-9169-4B3F-B1DF-DAEB7B17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0684-AE3D-4DC9-BF1A-6499A850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17C-0097-4B14-9993-31E2BCED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1BD4-6DD9-435E-BC86-368FC512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868D-0617-4696-95CA-9AF4CCE3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8B21-B577-4A7D-B9CB-A0B504FC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4B0C-B143-4A79-B8DF-8F0E984B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18CC-F8EE-45EB-B4D5-D722B144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2C5-6D3C-4520-A725-95C1BF07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043-C8CC-484C-95F7-3F3FA5D6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BF7-B669-4E30-80A6-FE95CBD0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65D-F7BB-466C-9BA1-5BBD23F4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EEF-835C-486C-9780-E6CE0E8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7DA-8109-4FB0-BE06-0298DC6D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839-BFF1-42F8-8446-293832DA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86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63E6-539B-4422-AFE9-475A1BBFA26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86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78A4-3FA3-4957-8671-CE00055E3EA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jdelijke aanduiding voor inhoud 3" descr="atomium.jpg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ff0000"/>
                </a:solidFill>
                <a:latin typeface="Juice ITC"/>
              </a:rPr>
              <a:t>Donderdag: We duiken Brussel in 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Brussel van dichtbij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Waterpret in Océad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static.skynetblogs.be/media/10900/dyn008_original_369_492_pjpeg_2530379_9d1906369bbf43d53a68a781df1184b6.jpg"/>
          <p:cNvPicPr/>
          <p:nvPr/>
        </p:nvPicPr>
        <p:blipFill>
          <a:blip r:embed="rId1"/>
          <a:stretch/>
        </p:blipFill>
        <p:spPr>
          <a:xfrm>
            <a:off x="755640" y="2205000"/>
            <a:ext cx="2322360" cy="309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v3.clint.be/files/clint/nieuws/anacondafinal.JPG"/>
          <p:cNvPicPr/>
          <p:nvPr/>
        </p:nvPicPr>
        <p:blipFill>
          <a:blip r:embed="rId2"/>
          <a:stretch/>
        </p:blipFill>
        <p:spPr>
          <a:xfrm>
            <a:off x="4140360" y="2276640"/>
            <a:ext cx="4378320" cy="2908080"/>
          </a:xfrm>
          <a:prstGeom prst="rect">
            <a:avLst/>
          </a:prstGeom>
          <a:ln w="0">
            <a:noFill/>
          </a:ln>
        </p:spPr>
      </p:pic>
      <p:sp>
        <p:nvSpPr>
          <p:cNvPr id="128" name="Tekstvak 6"/>
          <p:cNvSpPr/>
          <p:nvPr/>
        </p:nvSpPr>
        <p:spPr>
          <a:xfrm>
            <a:off x="611280" y="544500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vondprogramma: laatste avond = verrassingsav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ff0000"/>
                </a:solidFill>
                <a:latin typeface="Juice ITC"/>
              </a:rPr>
              <a:t>Vrijdag: Afscheid nemen van Bruss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De trots van Brussel… het Atomiu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Terug naar hu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imagene.youropi.com/atomium-brussel-activiteit-brussel-1(p:activity,5795)(c:0).jpg"/>
          <p:cNvPicPr/>
          <p:nvPr/>
        </p:nvPicPr>
        <p:blipFill>
          <a:blip r:embed="rId1"/>
          <a:stretch/>
        </p:blipFill>
        <p:spPr>
          <a:xfrm>
            <a:off x="539640" y="2492280"/>
            <a:ext cx="3603600" cy="270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sint-truiden.n-va.be/files/afdeling/sint-truiden.temp.n-va.be/trein.jpg"/>
          <p:cNvPicPr/>
          <p:nvPr/>
        </p:nvPicPr>
        <p:blipFill>
          <a:blip r:embed="rId2"/>
          <a:stretch/>
        </p:blipFill>
        <p:spPr>
          <a:xfrm>
            <a:off x="4716360" y="2492280"/>
            <a:ext cx="3876840" cy="2706840"/>
          </a:xfrm>
          <a:prstGeom prst="rect">
            <a:avLst/>
          </a:prstGeom>
          <a:ln w="0">
            <a:noFill/>
          </a:ln>
        </p:spPr>
      </p:pic>
      <p:sp>
        <p:nvSpPr>
          <p:cNvPr id="134" name="Tekstvak 6"/>
          <p:cNvSpPr/>
          <p:nvPr/>
        </p:nvSpPr>
        <p:spPr>
          <a:xfrm>
            <a:off x="539640" y="544500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vondprogramma: slapen..slapen..slapen..slapen.. Slaapw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ff0000"/>
                </a:solidFill>
                <a:latin typeface="Juice ITC"/>
              </a:rPr>
              <a:t>Het kostenplaat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Kostprijs: € 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Wat krijg je hiervo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Vol p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Vervoer in Brussel met tram en m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ctivit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Bezoek aan het restau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vondactivit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Bijkomende kos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Trein: heen en te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Extraatjes: een lekker drankje, een ijsje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Dit wordt betaald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Inkomsten dessertenbuff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c00000"/>
                </a:solidFill>
                <a:latin typeface="Juice ITC"/>
              </a:rPr>
              <a:t>Hoe betal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 u="sng">
                <a:solidFill>
                  <a:srgbClr val="000000"/>
                </a:solidFill>
                <a:uFillTx/>
                <a:latin typeface="Juice ITC"/>
              </a:rPr>
              <a:t>Eenmalige bet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OVERSCHRIJ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 u="sng">
                <a:solidFill>
                  <a:srgbClr val="000000"/>
                </a:solidFill>
                <a:uFillTx/>
                <a:latin typeface="Juice ITC"/>
              </a:rPr>
              <a:t>Elke maand via de schoolrek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NOVEMBER: €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DECEMBER: €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JANUARI: €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FEBRUARI: €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56000" y="1125360"/>
            <a:ext cx="4330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 u="sng">
                <a:solidFill>
                  <a:srgbClr val="000000"/>
                </a:solidFill>
                <a:uFillTx/>
                <a:latin typeface="Juice ITC"/>
              </a:rPr>
              <a:t>Elke week via een omslag in he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14 november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21 november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28 november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5 december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12 december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19 december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9 januari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16 januari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23 januari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30 januari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6 februari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13 februari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28 februari: €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http://users.fulladsl.be/spb2345/TKTG/images/spaarvarken.jpg"/>
          <p:cNvPicPr/>
          <p:nvPr/>
        </p:nvPicPr>
        <p:blipFill>
          <a:blip r:embed="rId1"/>
          <a:stretch/>
        </p:blipFill>
        <p:spPr>
          <a:xfrm>
            <a:off x="7093080" y="4888080"/>
            <a:ext cx="15620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c00000"/>
                </a:solidFill>
                <a:latin typeface="Juice ITC"/>
              </a:rPr>
              <a:t>Nog enkele belangrijke afspraken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Juice ITC"/>
              </a:rPr>
              <a:t>Snoep laten we thuis. We krijgen daar eten voldoend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Juice ITC"/>
              </a:rPr>
              <a:t>GSM, IPod, MP3-speler heb je absoluut niet nodig. Je hebt daar vrienden genoeg om je mee te amuser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Juice ITC"/>
              </a:rPr>
              <a:t>Een boek, strip of spelletje kan natuurlijk w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Juice ITC"/>
              </a:rPr>
              <a:t>Via een blog (later meer info) houden wij het thuisfront op de hoogte van onze avontu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www.viso-cor-mariae.be/wb/media/afspraken.gif"/>
          <p:cNvPicPr/>
          <p:nvPr/>
        </p:nvPicPr>
        <p:blipFill>
          <a:blip r:embed="rId1"/>
          <a:stretch/>
        </p:blipFill>
        <p:spPr>
          <a:xfrm>
            <a:off x="6443640" y="4797360"/>
            <a:ext cx="18781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a80404"/>
                </a:solidFill>
                <a:latin typeface="Juice ITC"/>
              </a:rPr>
              <a:t>We maken er een geweldige week van!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0" descr="http://www.freewebs.com/stadsklas/DSCN0861.JPG"/>
          <p:cNvPicPr/>
          <p:nvPr/>
        </p:nvPicPr>
        <p:blipFill>
          <a:blip r:embed="rId1"/>
          <a:stretch/>
        </p:blipFill>
        <p:spPr>
          <a:xfrm>
            <a:off x="2195640" y="1125360"/>
            <a:ext cx="417672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6300" spc="-1" strike="noStrike">
                <a:solidFill>
                  <a:srgbClr val="a80404"/>
                </a:solidFill>
                <a:latin typeface="Juice ITC"/>
              </a:rPr>
              <a:t>Op stadsklassen in Brussel…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13309" t="10179" r="18678" b="30958"/>
          <a:stretch/>
        </p:blipFill>
        <p:spPr>
          <a:xfrm>
            <a:off x="0" y="1844640"/>
            <a:ext cx="9144000" cy="446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7040" y="523800"/>
            <a:ext cx="79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400" spc="-1" strike="noStrike">
                <a:solidFill>
                  <a:srgbClr val="a80404"/>
                </a:solidFill>
                <a:latin typeface="Juice ITC"/>
              </a:rPr>
              <a:t>Welkom in de Waterman 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Afbeelding 25" descr="001-w.jpg"/>
          <p:cNvPicPr/>
          <p:nvPr/>
        </p:nvPicPr>
        <p:blipFill>
          <a:blip r:embed="rId1"/>
          <a:stretch/>
        </p:blipFill>
        <p:spPr>
          <a:xfrm>
            <a:off x="2843280" y="2133720"/>
            <a:ext cx="6048360" cy="45338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24000" y="4292640"/>
            <a:ext cx="266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a80404"/>
                </a:solidFill>
                <a:latin typeface="Juice ITC"/>
              </a:rPr>
              <a:t>Via deze poort geraken we binn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Afbeelding 26" descr="P1070608.JPG"/>
          <p:cNvPicPr/>
          <p:nvPr/>
        </p:nvPicPr>
        <p:blipFill>
          <a:blip r:embed="rId1"/>
          <a:stretch/>
        </p:blipFill>
        <p:spPr>
          <a:xfrm>
            <a:off x="5364000" y="476280"/>
            <a:ext cx="3205440" cy="2674800"/>
          </a:xfrm>
          <a:prstGeom prst="rect">
            <a:avLst/>
          </a:prstGeom>
          <a:ln w="0">
            <a:noFill/>
          </a:ln>
        </p:spPr>
      </p:pic>
      <p:pic>
        <p:nvPicPr>
          <p:cNvPr id="93" name="Tijdelijke aanduiding voor inhoud 22" descr="P1070611.JPG"/>
          <p:cNvPicPr/>
          <p:nvPr/>
        </p:nvPicPr>
        <p:blipFill>
          <a:blip r:embed="rId2"/>
          <a:stretch/>
        </p:blipFill>
        <p:spPr>
          <a:xfrm>
            <a:off x="611280" y="404640"/>
            <a:ext cx="2752560" cy="3673800"/>
          </a:xfrm>
          <a:prstGeom prst="rect">
            <a:avLst/>
          </a:prstGeom>
          <a:ln w="0">
            <a:noFill/>
          </a:ln>
        </p:spPr>
      </p:pic>
      <p:pic>
        <p:nvPicPr>
          <p:cNvPr id="94" name="Tijdelijke aanduiding voor inhoud 21" descr="P1070609.JPG"/>
          <p:cNvPicPr/>
          <p:nvPr/>
        </p:nvPicPr>
        <p:blipFill>
          <a:blip r:embed="rId3"/>
          <a:stretch/>
        </p:blipFill>
        <p:spPr>
          <a:xfrm>
            <a:off x="2843280" y="2637000"/>
            <a:ext cx="2735280" cy="364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5796000" y="3645000"/>
            <a:ext cx="302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a80404"/>
                </a:solidFill>
                <a:latin typeface="Juice ITC"/>
              </a:rPr>
              <a:t>Achter de poort schuilt onze verblijfplaa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jdelijke aanduiding voor inhoud 6" descr="P1070590.JPG"/>
          <p:cNvPicPr/>
          <p:nvPr/>
        </p:nvPicPr>
        <p:blipFill>
          <a:blip r:embed="rId1"/>
          <a:stretch/>
        </p:blipFill>
        <p:spPr>
          <a:xfrm>
            <a:off x="0" y="692280"/>
            <a:ext cx="4572000" cy="3101760"/>
          </a:xfrm>
          <a:prstGeom prst="rect">
            <a:avLst/>
          </a:prstGeom>
          <a:ln w="0">
            <a:noFill/>
          </a:ln>
        </p:spPr>
      </p:pic>
      <p:pic>
        <p:nvPicPr>
          <p:cNvPr id="97" name="Tijdelijke aanduiding voor inhoud 9" descr="P1070592.JPG"/>
          <p:cNvPicPr/>
          <p:nvPr/>
        </p:nvPicPr>
        <p:blipFill>
          <a:blip r:embed="rId2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jes.be/foto/jes-site/waterman/005-w.jpg"/>
          <p:cNvPicPr/>
          <p:nvPr/>
        </p:nvPicPr>
        <p:blipFill>
          <a:blip r:embed="rId3"/>
          <a:stretch/>
        </p:blipFill>
        <p:spPr>
          <a:xfrm>
            <a:off x="4572000" y="692280"/>
            <a:ext cx="4572000" cy="30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www.jes.be/foto/jes-site/waterman/010-w.jpg"/>
          <p:cNvPicPr/>
          <p:nvPr/>
        </p:nvPicPr>
        <p:blipFill>
          <a:blip r:embed="rId4"/>
          <a:stretch/>
        </p:blipFill>
        <p:spPr>
          <a:xfrm>
            <a:off x="0" y="3800520"/>
            <a:ext cx="4572000" cy="3057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95280" y="11592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a80404"/>
                </a:solidFill>
                <a:latin typeface="Juice ITC"/>
              </a:rPr>
              <a:t>Enkele foto’s van de lokal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a80404"/>
                </a:solidFill>
                <a:latin typeface="Juice ITC"/>
              </a:rPr>
              <a:t>Natuurlijk gaan we ook op verkenning in Brussel…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Picture 1" descr="E:\stadsklassen\009-Brussel-zw-1.jpg"/>
          <p:cNvPicPr/>
          <p:nvPr/>
        </p:nvPicPr>
        <p:blipFill>
          <a:blip r:embed="rId1"/>
          <a:stretch/>
        </p:blipFill>
        <p:spPr>
          <a:xfrm>
            <a:off x="395280" y="1268280"/>
            <a:ext cx="8209080" cy="213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http://www.kortom.be/file_uploads/Cache/size_907_450_4331.jpg"/>
          <p:cNvPicPr/>
          <p:nvPr/>
        </p:nvPicPr>
        <p:blipFill>
          <a:blip r:embed="rId2"/>
          <a:stretch/>
        </p:blipFill>
        <p:spPr>
          <a:xfrm>
            <a:off x="395280" y="3573360"/>
            <a:ext cx="2664000" cy="311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ttp://www.s-p-a.be/media/thumbs/uploads/pictures/Vlaams_Parlement_jpg_245x190_crop_q85.jpg"/>
          <p:cNvPicPr/>
          <p:nvPr/>
        </p:nvPicPr>
        <p:blipFill>
          <a:blip r:embed="rId3"/>
          <a:stretch/>
        </p:blipFill>
        <p:spPr>
          <a:xfrm>
            <a:off x="5651640" y="3500280"/>
            <a:ext cx="2952720" cy="3159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3132000" y="3645000"/>
            <a:ext cx="273708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900" spc="-1" strike="noStrike">
                <a:solidFill>
                  <a:srgbClr val="a80404"/>
                </a:solidFill>
                <a:latin typeface="Juice ITC"/>
              </a:rPr>
              <a:t>Het Atomium, </a:t>
            </a:r>
            <a:br>
              <a:rPr sz="2900"/>
            </a:br>
            <a:r>
              <a:rPr b="1" lang="nl-BE" sz="2900" spc="-1" strike="noStrike">
                <a:solidFill>
                  <a:srgbClr val="a80404"/>
                </a:solidFill>
                <a:latin typeface="Juice ITC"/>
              </a:rPr>
              <a:t>de VRT studio en ook </a:t>
            </a:r>
            <a:br>
              <a:rPr sz="2900"/>
            </a:br>
            <a:r>
              <a:rPr b="1" lang="nl-BE" sz="2900" spc="-1" strike="noStrike">
                <a:solidFill>
                  <a:srgbClr val="a80404"/>
                </a:solidFill>
                <a:latin typeface="Juice ITC"/>
              </a:rPr>
              <a:t>het Brussels Parlement hebben na die week geen geheimen meer voor ons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0000"/>
                </a:solidFill>
                <a:latin typeface="Juice ITC"/>
              </a:rPr>
              <a:t>Maandag: een frisse start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Op zoek naar onze verblijfplaats…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Op verkenning in televisieland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blogimages.bloggen.be/stadsklas2010/989251-40999c4c8e21cbdbbd9b90fba3d79191.jpg"/>
          <p:cNvPicPr/>
          <p:nvPr/>
        </p:nvPicPr>
        <p:blipFill>
          <a:blip r:embed="rId1"/>
          <a:stretch/>
        </p:blipFill>
        <p:spPr>
          <a:xfrm>
            <a:off x="539640" y="2492280"/>
            <a:ext cx="3365640" cy="2527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21.img.v4.skyrock.com/218/brandboy12/pics/1416493207.jpg"/>
          <p:cNvPicPr/>
          <p:nvPr/>
        </p:nvPicPr>
        <p:blipFill>
          <a:blip r:embed="rId2"/>
          <a:stretch/>
        </p:blipFill>
        <p:spPr>
          <a:xfrm>
            <a:off x="4716360" y="2492280"/>
            <a:ext cx="3584520" cy="2535480"/>
          </a:xfrm>
          <a:prstGeom prst="rect">
            <a:avLst/>
          </a:prstGeom>
          <a:ln w="0">
            <a:noFill/>
          </a:ln>
        </p:spPr>
      </p:pic>
      <p:sp>
        <p:nvSpPr>
          <p:cNvPr id="111" name="Tekstvak 6"/>
          <p:cNvSpPr/>
          <p:nvPr/>
        </p:nvSpPr>
        <p:spPr>
          <a:xfrm>
            <a:off x="468360" y="522936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vondprogramma: klimmen in de Wat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ff0000"/>
                </a:solidFill>
                <a:latin typeface="Juice ITC"/>
              </a:rPr>
              <a:t>Dinsdag: Ieder zijn stem!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40384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Bezoek aan het Brussels par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     </a:t>
            </a: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We leren meer over democratie en verkiezin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jeanlucvanraes.be/wp-content/uploads/2010/02/overzich-parlement.jpeg"/>
          <p:cNvPicPr/>
          <p:nvPr/>
        </p:nvPicPr>
        <p:blipFill>
          <a:blip r:embed="rId1"/>
          <a:stretch/>
        </p:blipFill>
        <p:spPr>
          <a:xfrm>
            <a:off x="539640" y="2492280"/>
            <a:ext cx="3378240" cy="252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vipjeugd.be/wp-content/uploads/2011/09/CIS_logo1.jpg"/>
          <p:cNvPicPr/>
          <p:nvPr/>
        </p:nvPicPr>
        <p:blipFill>
          <a:blip r:embed="rId2"/>
          <a:stretch/>
        </p:blipFill>
        <p:spPr>
          <a:xfrm>
            <a:off x="5003640" y="2997360"/>
            <a:ext cx="3505320" cy="2016000"/>
          </a:xfrm>
          <a:prstGeom prst="rect">
            <a:avLst/>
          </a:prstGeom>
          <a:ln w="0">
            <a:noFill/>
          </a:ln>
        </p:spPr>
      </p:pic>
      <p:sp>
        <p:nvSpPr>
          <p:cNvPr id="117" name="Tekstvak 6"/>
          <p:cNvSpPr/>
          <p:nvPr/>
        </p:nvSpPr>
        <p:spPr>
          <a:xfrm>
            <a:off x="468360" y="522936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vondprogramma: met z’n allen gezellig op restaura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ff0000"/>
                </a:solidFill>
                <a:latin typeface="Juice ITC"/>
              </a:rPr>
              <a:t>Woensdag is werelddag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     </a:t>
            </a: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Op ontdekking in de wereld van vand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vondprogram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Muziekatelier met R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www.studioglobo.be/userfiles/images/publicaties_cover/wonenophetdak.jpg"/>
          <p:cNvPicPr/>
          <p:nvPr/>
        </p:nvPicPr>
        <p:blipFill>
          <a:blip r:embed="rId1"/>
          <a:stretch/>
        </p:blipFill>
        <p:spPr>
          <a:xfrm>
            <a:off x="1187280" y="2637000"/>
            <a:ext cx="2376720" cy="312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gratis-zoekertjes.onlinertjes.be/image/image/44427.jpg"/>
          <p:cNvPicPr/>
          <p:nvPr/>
        </p:nvPicPr>
        <p:blipFill>
          <a:blip r:embed="rId2"/>
          <a:stretch/>
        </p:blipFill>
        <p:spPr>
          <a:xfrm>
            <a:off x="4427640" y="2924280"/>
            <a:ext cx="391320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7:52:27Z</dcterms:created>
  <dc:creator>SaarVanLoo</dc:creator>
  <dc:description/>
  <dc:language>en-US</dc:language>
  <cp:lastModifiedBy>hanne.feskens</cp:lastModifiedBy>
  <dcterms:modified xsi:type="dcterms:W3CDTF">2011-11-10T18:10:53Z</dcterms:modified>
  <cp:revision>25</cp:revision>
  <dc:subject/>
  <dc:title>Dia 1</dc:title>
</cp:coreProperties>
</file>