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502-B861-49E9-896D-A701007C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B78-022E-4993-81AC-5AB02E2A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529-5892-48D5-AF42-775D06CE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788-7A65-4DB3-9E85-65232518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6F5-DC8E-47DC-B823-A7F6156D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13C-287B-42D6-BE97-19FB6021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66F-C2E2-4559-A89F-7F56DC2C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8B2-042B-46BB-AAE8-9F5087D9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50E-2A45-4985-9E95-5B9C618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AAF-E12F-4ED7-8D7D-5CA99439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959-6A25-4F80-A98F-D48C1089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FE9-49BC-4BA5-8F77-9352596D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13C7-192A-40E2-844D-F51A45155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 schooltaalwoorden 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84000" y="1413000"/>
            <a:ext cx="45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es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eschik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well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taat / stond v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stem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wer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oer 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 1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88640"/>
            <a:ext cx="7848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oor elkaar geb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Ideale, gepas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xporte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rmee bezig zijn tot je het kunt aanva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ideo-op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Zee-e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ymfonieork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kio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ki-interna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offieautoma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enu-id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2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reiden  / berij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lijen / vle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eid /mij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ijl / pe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eizen /Rij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ilen/ vij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ijden / lei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 3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9440" y="120816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raa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omde 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ie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telde v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o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ieche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 3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44720" y="1424160"/>
            <a:ext cx="31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an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ho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too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ach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lee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nuffe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530000"/>
            <a:ext cx="7201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 bossen leverde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 kinderen ravotte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t water verdampt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p vakantie regend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 bleke toerist verbrandd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7:46:17Z</dcterms:created>
  <dc:creator>AnnThuis</dc:creator>
  <dc:description/>
  <dc:language>en-US</dc:language>
  <cp:lastModifiedBy>LKR</cp:lastModifiedBy>
  <dcterms:modified xsi:type="dcterms:W3CDTF">2010-10-11T13:34:49Z</dcterms:modified>
  <cp:revision>24</cp:revision>
  <dc:subject/>
  <dc:title>Les 5, blz 24: schooltaalwoorden 1</dc:title>
</cp:coreProperties>
</file>