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EE1C-CEF3-4333-BCBD-52C4F228A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B52D-7B9E-46A7-AA47-93EEB0304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F4C2-C6FB-4118-8D05-1F5E39ED6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0F3E-1BA4-4DE5-8F93-0A7933A64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EBEA-FD52-4F2B-BADB-FD88414C6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6D9C-DD6E-4ED5-AF0D-56817C47F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DC12-81A4-4A87-B080-2F0D75A8C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46A1-F72F-4110-9F6B-FCC8E126F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6311-4D86-4467-9885-A6609D3AE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5270-4FE8-405A-95D4-B092C3B8E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0A7E-1A23-49E4-97B4-427461B85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0D88-A6E3-486E-BB39-A9D87F9BC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03B15-F603-475D-A77E-B9DB9FA78B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Les 15:  schooltaalwoorden 1.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484000" y="1413000"/>
            <a:ext cx="4535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leesba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geschik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wellic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staat / stond va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bestem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verwerk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Voer u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Les 15 1.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95280" y="1988640"/>
            <a:ext cx="784872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Voor elkaar gebor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Ideale, gepaste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exportee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Ermee bezig zijn tot je het kunt aanvaard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Les 15: 2.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26920" y="155736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Video-opna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Zee-ee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symfonieork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skioo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Ski-interna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koffieautoma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Menu-id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Les 15: 2.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99640" y="1413000"/>
            <a:ext cx="7417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Bereiden  / berijd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Vlijen / vlei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Meid /mij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Pijl / pei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Reizen /Rijz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Veilen/ vijl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Lijden / leide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Les 15:  3.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09440" y="1208160"/>
            <a:ext cx="5398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praatt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heet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Somde o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diend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Stelde vo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hoor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giechel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Les 15:  3.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44720" y="1424160"/>
            <a:ext cx="3167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vergroot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dans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verhoor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stoot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lach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kleedd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snuffel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Les 15: 3.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99640" y="1530000"/>
            <a:ext cx="720108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De bossen leverden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De kinderen ravotten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Het water verdampte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Op vakantie regende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De bleke toerist verbrandde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2T07:46:17Z</dcterms:created>
  <dc:creator>AnnThuis</dc:creator>
  <dc:description/>
  <dc:language>en-US</dc:language>
  <cp:lastModifiedBy>LKR</cp:lastModifiedBy>
  <dcterms:modified xsi:type="dcterms:W3CDTF">2010-10-11T13:34:49Z</dcterms:modified>
  <cp:revision>24</cp:revision>
  <dc:subject/>
  <dc:title>Les 5, blz 24: schooltaalwoorden 1</dc:title>
</cp:coreProperties>
</file>