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9BF9-59B1-429E-B679-E88926DB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AE2B-B99F-4AC5-A6A9-2DE7F07B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661D-574B-4E27-97C3-AEB94B322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476F-99CF-41FA-98DB-297A56A2C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E086-8D27-4C42-B240-7464DC0F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AF98-F458-476C-A0C5-AF406385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283D-EFD4-48A8-84AA-F6F639F0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0D11-CF1F-4EF7-9895-7FBAEABC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D34A-1EF7-409C-8F78-44D3818B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8FCE-A2FF-4369-83ED-4608F35C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5908-B0C0-40B1-8CCF-505D69FE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2A3B-D9D4-459B-98D8-2787E5D6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E71C-96BD-4AF1-9791-367554179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Les 14: blz 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2060640"/>
            <a:ext cx="7345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3399"/>
                </a:solidFill>
                <a:latin typeface="Arial"/>
              </a:rPr>
              <a:t>tekstsoort, -doel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    +        </a:t>
            </a:r>
            <a:r>
              <a:rPr b="0" lang="nl-BE" sz="3200" spc="-1" strike="noStrike">
                <a:solidFill>
                  <a:srgbClr val="99cc00"/>
                </a:solidFill>
                <a:latin typeface="Arial"/>
              </a:rPr>
              <a:t>tekstv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42920" y="4149720"/>
            <a:ext cx="1738440" cy="1827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451640" y="189000"/>
            <a:ext cx="1533600" cy="1990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H="1">
            <a:off x="2195280" y="2708280"/>
            <a:ext cx="215640" cy="115236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59280" y="2708280"/>
            <a:ext cx="133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2781360"/>
            <a:ext cx="590544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inform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gevoelens opw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vertu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acti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leuk maken:       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                        ontspa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6516720" y="1412640"/>
            <a:ext cx="647640" cy="647640"/>
          </a:xfrm>
          <a:prstGeom prst="line">
            <a:avLst/>
          </a:prstGeom>
          <a:ln w="95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59280" y="3429000"/>
            <a:ext cx="195120" cy="87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492360" y="4149720"/>
            <a:ext cx="195480" cy="87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95640" y="4797360"/>
            <a:ext cx="195480" cy="87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356000" y="5589720"/>
            <a:ext cx="195480" cy="86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0"/>
            <a:ext cx="3348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TEKSTV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t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ka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inschrijvingsf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verslag, recentie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recl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lezersbr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krantenber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cart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adverten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48000" y="162864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0"/>
            <a:ext cx="302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TEKSTDO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iets mee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info g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beïnvloeden: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van idee doen verand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aansporen: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van idee doen verand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info g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amus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aansporen: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9640" y="0"/>
            <a:ext cx="3024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TEKSTSO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informer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informer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activer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overtuigende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activer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overtuigende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informer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ontspann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activeren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563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Blz 66, oefen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Informatie geven = </a:t>
            </a:r>
            <a:r>
              <a:rPr b="0" lang="nl-BE" sz="3200" spc="-1" strike="noStrike" u="sng">
                <a:solidFill>
                  <a:srgbClr val="000000"/>
                </a:solidFill>
                <a:uFillTx/>
                <a:latin typeface="Arial"/>
              </a:rPr>
              <a:t>inform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Leuke momenten verzorgen = </a:t>
            </a:r>
            <a:r>
              <a:rPr b="0" lang="nl-BE" sz="3200" spc="-1" strike="noStrike" u="sng">
                <a:solidFill>
                  <a:srgbClr val="000000"/>
                </a:solidFill>
                <a:uFillTx/>
                <a:latin typeface="Arial"/>
              </a:rPr>
              <a:t>ontspa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Iemand </a:t>
            </a:r>
            <a:r>
              <a:rPr b="0" lang="nl-BE" sz="3200" spc="-1" strike="noStrike" u="sng">
                <a:solidFill>
                  <a:srgbClr val="000000"/>
                </a:solidFill>
                <a:uFillTx/>
                <a:latin typeface="Arial"/>
              </a:rPr>
              <a:t>aansporen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 tot iets = </a:t>
            </a:r>
            <a:r>
              <a:rPr b="0" lang="nl-BE" sz="3200" spc="-1" strike="noStrike" u="sng">
                <a:solidFill>
                  <a:srgbClr val="000000"/>
                </a:solidFill>
                <a:uFillTx/>
                <a:latin typeface="Arial"/>
              </a:rPr>
              <a:t>acti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Iemand beïnvloeden, </a:t>
            </a:r>
            <a:r>
              <a:rPr b="0" lang="nl-BE" sz="3200" spc="-1" strike="noStrike" u="sng">
                <a:solidFill>
                  <a:srgbClr val="000000"/>
                </a:solidFill>
                <a:uFillTx/>
                <a:latin typeface="Arial"/>
              </a:rPr>
              <a:t>overtu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Iemands beïnvloeden, </a:t>
            </a:r>
            <a:r>
              <a:rPr b="0" lang="nl-BE" sz="3200" spc="-1" strike="noStrike" u="sng">
                <a:solidFill>
                  <a:srgbClr val="000000"/>
                </a:solidFill>
                <a:uFillTx/>
                <a:latin typeface="Arial"/>
              </a:rPr>
              <a:t>overtu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3348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TEKSTV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krantenartik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krantenartik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162864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1052640"/>
            <a:ext cx="30240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TEKSTDO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1. info g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2. van idee doen verand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9640" y="1052640"/>
            <a:ext cx="3024360" cy="36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TEKSTSO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informati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overtuigende tek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98100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56360" y="981000"/>
            <a:ext cx="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557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3645000"/>
            <a:ext cx="3457800" cy="1511280"/>
          </a:xfrm>
          <a:prstGeom prst="wedgeEllipseCallout">
            <a:avLst>
              <a:gd name="adj1" fmla="val -20754"/>
              <a:gd name="adj2" fmla="val 44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1: verslag va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volleybalwedstrij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67280" y="3646440"/>
            <a:ext cx="3457440" cy="1511280"/>
          </a:xfrm>
          <a:prstGeom prst="wedgeEllipseCallout">
            <a:avLst>
              <a:gd name="adj1" fmla="val -31268"/>
              <a:gd name="adj2" fmla="val -38444"/>
            </a:avLst>
          </a:prstGeom>
          <a:solidFill>
            <a:srgbClr val="333399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2: verslag van de sportwedstrij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40360" y="1989000"/>
            <a:ext cx="215640" cy="215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11280" y="2637000"/>
            <a:ext cx="1873440" cy="15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64000" y="2997360"/>
            <a:ext cx="1079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059280" y="4869000"/>
            <a:ext cx="288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5805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= objectieve tekst (alleen informatie = fe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92720" y="580536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BE" sz="1800" spc="-1" strike="noStrike">
                <a:solidFill>
                  <a:srgbClr val="333399"/>
                </a:solidFill>
                <a:latin typeface="Arial"/>
              </a:rPr>
              <a:t>= subjectieve tekst = m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5795640" y="4868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95640" y="74520"/>
            <a:ext cx="57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Blz. 66, oefening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FEI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1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0066"/>
                </a:solidFill>
                <a:latin typeface="Arial"/>
              </a:rPr>
              <a:t>objectief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0066"/>
                </a:solidFill>
                <a:latin typeface="Arial"/>
              </a:rPr>
              <a:t>werkelijk gebeu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0066"/>
                </a:solidFill>
                <a:latin typeface="Arial"/>
              </a:rPr>
              <a:t>controleerb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836280"/>
            <a:ext cx="403848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ME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0066"/>
                </a:solidFill>
                <a:latin typeface="Arial"/>
              </a:rPr>
              <a:t>subject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0066"/>
                </a:solidFill>
                <a:latin typeface="Arial"/>
              </a:rPr>
              <a:t>idee van i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0066"/>
                </a:solidFill>
                <a:latin typeface="Arial"/>
              </a:rPr>
              <a:t>niet controleerb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Blz 6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Niet verget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Vanavond herhale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Denk aan de curve van Ebbinghau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4:34:16Z</dcterms:created>
  <dc:creator>Ann Cleeren</dc:creator>
  <dc:description/>
  <dc:language>en-US</dc:language>
  <cp:lastModifiedBy>LKR</cp:lastModifiedBy>
  <dcterms:modified xsi:type="dcterms:W3CDTF">2010-10-19T13:15:56Z</dcterms:modified>
  <cp:revision>23</cp:revision>
  <dc:subject/>
  <dc:title>Les 14</dc:title>
</cp:coreProperties>
</file>