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4DFA-30C7-42AF-A6F9-0D2F08BB9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D175-828F-43B1-8F6C-543781D64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00C9-39D3-4BB3-AA5D-5A973682A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003A-2EE9-4D36-80AD-ADC676173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6461-77F5-4703-A906-9D40B9E09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6A25-7BE1-41F0-9584-17B80A108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8BC7-C818-4320-9CA6-9DBF7BB5D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1DA0-E003-491F-8E4B-DCB7255D5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9472-80A6-487D-9550-21DC15A5F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07EB-D1B8-4741-B369-FC89D9B45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9124-A2DD-44B8-AD24-76C6C8070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CF2A-6854-4874-A925-552121772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28BFC-82D3-4816-ACBF-D0B7512CD2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Arial"/>
              </a:rPr>
              <a:t>Les 14: blz 6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920" y="2060640"/>
            <a:ext cx="7345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333399"/>
                </a:solidFill>
                <a:latin typeface="Arial"/>
              </a:rPr>
              <a:t>tekstsoort, -doel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    +        </a:t>
            </a:r>
            <a:r>
              <a:rPr b="0" lang="nl-BE" sz="3200" spc="-1" strike="noStrike">
                <a:solidFill>
                  <a:srgbClr val="99cc00"/>
                </a:solidFill>
                <a:latin typeface="Arial"/>
              </a:rPr>
              <a:t>tekstv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42920" y="4149720"/>
            <a:ext cx="1738440" cy="1827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451640" y="189000"/>
            <a:ext cx="1533600" cy="1990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 flipH="1">
            <a:off x="2195280" y="2708280"/>
            <a:ext cx="215640" cy="1152360"/>
          </a:xfrm>
          <a:prstGeom prst="line">
            <a:avLst/>
          </a:prstGeom>
          <a:ln w="95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059280" y="2708280"/>
            <a:ext cx="1332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I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2781360"/>
            <a:ext cx="590544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inform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gevoelens opwek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overtui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activ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leuk maken:       </a:t>
            </a:r>
            <a:br>
              <a:rPr sz="3200"/>
            </a:b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                        ontspan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6516720" y="1412640"/>
            <a:ext cx="647640" cy="647640"/>
          </a:xfrm>
          <a:prstGeom prst="line">
            <a:avLst/>
          </a:prstGeom>
          <a:ln w="95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059280" y="3429000"/>
            <a:ext cx="195120" cy="87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492360" y="4149720"/>
            <a:ext cx="195480" cy="87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O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995640" y="4797360"/>
            <a:ext cx="195480" cy="87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356000" y="5589720"/>
            <a:ext cx="195480" cy="86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0"/>
            <a:ext cx="3348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TEKSTV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ta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ka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inschrijvingsf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verslag, recentie</a:t>
            </a:r>
            <a:br>
              <a:rPr sz="2800"/>
            </a:b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recl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lezersbri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krantenberi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cart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adverten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348000" y="1628640"/>
            <a:ext cx="25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76720" y="0"/>
            <a:ext cx="302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TEKSTDO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iets meed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info ge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beïnvloeden:do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van idee doen verand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aansporen: do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van idee doen verand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info ge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amus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aansporen: do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9640" y="0"/>
            <a:ext cx="30243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TEKSTSO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informere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informere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activere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overtuigende</a:t>
            </a:r>
            <a:br>
              <a:rPr sz="2800"/>
            </a:b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activere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overtuigende</a:t>
            </a:r>
            <a:br>
              <a:rPr sz="2800"/>
            </a:b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informere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ontspanne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activeren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5636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476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Arial"/>
              </a:rPr>
              <a:t>Blz 66, oefen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Informatie geven = </a:t>
            </a:r>
            <a:r>
              <a:rPr b="0" lang="nl-BE" sz="3200" spc="-1" strike="noStrike" u="sng">
                <a:solidFill>
                  <a:srgbClr val="000000"/>
                </a:solidFill>
                <a:uFillTx/>
                <a:latin typeface="Arial"/>
              </a:rPr>
              <a:t>inform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Leuke momenten verzorgen = </a:t>
            </a:r>
            <a:r>
              <a:rPr b="0" lang="nl-BE" sz="3200" spc="-1" strike="noStrike" u="sng">
                <a:solidFill>
                  <a:srgbClr val="000000"/>
                </a:solidFill>
                <a:uFillTx/>
                <a:latin typeface="Arial"/>
              </a:rPr>
              <a:t>ontspan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Iemand </a:t>
            </a:r>
            <a:r>
              <a:rPr b="0" lang="nl-BE" sz="3200" spc="-1" strike="noStrike" u="sng">
                <a:solidFill>
                  <a:srgbClr val="000000"/>
                </a:solidFill>
                <a:uFillTx/>
                <a:latin typeface="Arial"/>
              </a:rPr>
              <a:t>aansporen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 tot iets = </a:t>
            </a:r>
            <a:r>
              <a:rPr b="0" lang="nl-BE" sz="3200" spc="-1" strike="noStrike" u="sng">
                <a:solidFill>
                  <a:srgbClr val="000000"/>
                </a:solidFill>
                <a:uFillTx/>
                <a:latin typeface="Arial"/>
              </a:rPr>
              <a:t>activ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Iemand beïnvloeden, </a:t>
            </a:r>
            <a:r>
              <a:rPr b="0" lang="nl-BE" sz="3200" spc="-1" strike="noStrike" u="sng">
                <a:solidFill>
                  <a:srgbClr val="000000"/>
                </a:solidFill>
                <a:uFillTx/>
                <a:latin typeface="Arial"/>
              </a:rPr>
              <a:t>overtui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Iemands beïnvloeden, </a:t>
            </a:r>
            <a:r>
              <a:rPr b="0" lang="nl-BE" sz="3200" spc="-1" strike="noStrike" u="sng">
                <a:solidFill>
                  <a:srgbClr val="000000"/>
                </a:solidFill>
                <a:uFillTx/>
                <a:latin typeface="Arial"/>
              </a:rPr>
              <a:t>overtui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0" y="1052640"/>
            <a:ext cx="3348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TEKSTV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krantenartik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krantenartik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48000" y="1628640"/>
            <a:ext cx="25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1052640"/>
            <a:ext cx="3024000" cy="58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TEKSTDO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1. info ge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2. van idee doen verand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119640" y="1052640"/>
            <a:ext cx="3024360" cy="36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TEKSTSO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informatie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overtuigende tek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98100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56360" y="981000"/>
            <a:ext cx="0" cy="21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557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87280" y="3645000"/>
            <a:ext cx="3457800" cy="1511280"/>
          </a:xfrm>
          <a:prstGeom prst="wedgeEllipseCallout">
            <a:avLst>
              <a:gd name="adj1" fmla="val -20754"/>
              <a:gd name="adj2" fmla="val 449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1: verslag van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volleybalwedstrij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067280" y="3646440"/>
            <a:ext cx="3457440" cy="1511280"/>
          </a:xfrm>
          <a:prstGeom prst="wedgeEllipseCallout">
            <a:avLst>
              <a:gd name="adj1" fmla="val -31268"/>
              <a:gd name="adj2" fmla="val -38444"/>
            </a:avLst>
          </a:prstGeom>
          <a:solidFill>
            <a:srgbClr val="333399">
              <a:alpha val="6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Arial"/>
              </a:rPr>
              <a:t>2: verslag van de sportwedstrij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40360" y="1989000"/>
            <a:ext cx="215640" cy="215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411280" y="2637000"/>
            <a:ext cx="1873440" cy="158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64000" y="2997360"/>
            <a:ext cx="107964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3059280" y="4869000"/>
            <a:ext cx="28872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580536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= objectieve tekst (alleen informatie = fe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92720" y="580536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nl-BE" sz="1800" spc="-1" strike="noStrike">
                <a:solidFill>
                  <a:srgbClr val="333399"/>
                </a:solidFill>
                <a:latin typeface="Arial"/>
              </a:rPr>
              <a:t>= subjectieve tekst = m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5795640" y="4868640"/>
            <a:ext cx="36036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195640" y="74520"/>
            <a:ext cx="576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Arial"/>
              </a:rPr>
              <a:t>Blz. 66, oefening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403848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FEI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1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6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0066"/>
                </a:solidFill>
                <a:latin typeface="Arial"/>
              </a:rPr>
              <a:t>objectief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0066"/>
                </a:solidFill>
                <a:latin typeface="Arial"/>
              </a:rPr>
              <a:t>werkelijk gebeu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0066"/>
                </a:solidFill>
                <a:latin typeface="Arial"/>
              </a:rPr>
              <a:t>controleerb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48320" y="836280"/>
            <a:ext cx="403848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MEN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0066"/>
                </a:solidFill>
                <a:latin typeface="Arial"/>
              </a:rPr>
              <a:t>subjecti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0066"/>
                </a:solidFill>
                <a:latin typeface="Arial"/>
              </a:rPr>
              <a:t>idee van i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0066"/>
                </a:solidFill>
                <a:latin typeface="Arial"/>
              </a:rPr>
              <a:t>niet controleerb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Blz 6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Arial"/>
              </a:rPr>
              <a:t>Niet vergete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85228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Vanavond herhale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Denk aan de curve van Ebbinghau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3T14:34:16Z</dcterms:created>
  <dc:creator>Ann Cleeren</dc:creator>
  <dc:description/>
  <dc:language>en-US</dc:language>
  <cp:lastModifiedBy>LKR</cp:lastModifiedBy>
  <dcterms:modified xsi:type="dcterms:W3CDTF">2010-10-19T13:15:56Z</dcterms:modified>
  <cp:revision>23</cp:revision>
  <dc:subject/>
  <dc:title>Les 14</dc:title>
</cp:coreProperties>
</file>