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747-D567-43AA-B321-BD8D7F5E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C5D-598B-42D6-AC99-0918C95D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A2A-86DD-4C76-819D-F3DD3C2C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994-40A7-47A5-BCCA-A0F93657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F6C-1388-4A25-AA64-0CE4764C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91F-8AED-43CF-BA92-2F72CE06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EA8-9098-46A0-A51A-6D57189A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160-CE71-4BB1-A929-D6BF2C8C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D96-C5F3-473C-9AA2-1FCA20E5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64D-2CF4-457B-8C5A-26B8F28F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33D-B958-44B8-A8DD-BCBAF5A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EF5-4AE8-4D0D-B44B-2C49A8D8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6DB3-25C7-46E3-A2DF-4F97AB72EB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4: schooltaalwoorde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rcee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roepe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aalt aan/ haalde 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aarschijn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deelt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ndividueel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4: schooltaalwoorde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liefkoo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chter te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peelde 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abysi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4, blz 21: nieuw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-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quotië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4360" y="1052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W-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quaf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quoteren = cijfer g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quiz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quarel = schilderi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quapla</a:t>
            </a:r>
            <a:r>
              <a:rPr b="0" lang="nl-BE" sz="36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ng = weg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5: sp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ze Italiaa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ze Arabis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ijn Frans Nederlands D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preek Neder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West-Vlaam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anneer En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ist Chin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5: sp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aa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ndividu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qua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la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ventu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un</a:t>
            </a:r>
            <a:r>
              <a:rPr b="0" lang="nl-BE" sz="3600" spc="-1" strike="noStrike" u="sng">
                <a:solidFill>
                  <a:srgbClr val="333399"/>
                </a:solidFill>
                <a:uFillTx/>
                <a:latin typeface="Arial"/>
              </a:rPr>
              <a:t>c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tueel  (vergeet de ‘c’ niet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6: werkwoorden 5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dersc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oudt te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rij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iedt 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tenn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oedt z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ou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6: werkwoorden 5.3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ee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sti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rg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rijd JI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lin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loe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laa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6: werkwoorden 5.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bouworganisator beschikt ov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uizenden toeristen skië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ie brengt z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en strandvakantie bied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Je besteedt veel geld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en bikini betaal j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Niemand luister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lke organisator word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7:46:17Z</dcterms:created>
  <dc:creator>AnnThuis</dc:creator>
  <dc:description/>
  <dc:language>en-US</dc:language>
  <cp:lastModifiedBy>COORDC</cp:lastModifiedBy>
  <dcterms:modified xsi:type="dcterms:W3CDTF">2010-09-16T07:57:40Z</dcterms:modified>
  <cp:revision>5</cp:revision>
  <dc:subject/>
  <dc:title>Les 5, blz 24: schooltaalwoorden 1</dc:title>
</cp:coreProperties>
</file>