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C1A-47DF-4901-953F-CA577B36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7A5-CB92-4C7F-A357-77670734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167-A5DD-4061-AF57-61CB72F5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84-B03D-4687-9766-E94447C6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CE5-D53E-4D1E-98B3-4902222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AB3-01CB-42C2-9C23-E46778B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3FD-16BA-4B77-AA97-28A7304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00E-68F4-4DDC-A2A1-78A2E4CD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67D-5ACE-4538-8759-9E27A620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1F9-8151-469B-83BA-657E30D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B53-05FA-4CD1-8AA7-A16F629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0D3-DE55-4496-9E95-2B4DFC3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248C-686D-4A4D-B5A7-AC530D76E0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4: schooltaalwoorde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rcee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roepe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aalt aan/ haalde 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aarschijn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deelt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dividueel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4: schooltaalwoorde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liefkoo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chter 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peelde 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abysi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4, blz 21: nieuw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-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otië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4360" y="1052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W-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f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oteren = cijfer g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quiz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rel = schilder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pla</a:t>
            </a:r>
            <a:r>
              <a:rPr b="0" lang="nl-BE" sz="36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g = weg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5: sp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ze Italiaa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ze Arabis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ijn Frans Nederlands D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preek Ned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West-Vlaam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anneer E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ist Chin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5: sp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aa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dividu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qua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la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ventu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un</a:t>
            </a:r>
            <a:r>
              <a:rPr b="0" lang="nl-BE" sz="3600" spc="-1" strike="noStrike" u="sng">
                <a:solidFill>
                  <a:srgbClr val="333399"/>
                </a:solidFill>
                <a:uFillTx/>
                <a:latin typeface="Arial"/>
              </a:rPr>
              <a:t>c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tueel  (vergeet de ‘c’ niet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6: werkwoorden 5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ndersc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udt te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rij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iedt 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tenn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oedt z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u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6: werkwoorden 5.3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ee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sti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rg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rijd J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lin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loe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laa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5, blz 26: werkwoorden 5.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bouworganisator beschikt ove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uizenden toeristen skië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ie brengt z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en strandvakantie bied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Je besteedt veel geld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en bikini betaal j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iemand luister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lke organisator word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46:17Z</dcterms:created>
  <dc:creator>AnnThuis</dc:creator>
  <dc:description/>
  <dc:language>en-US</dc:language>
  <cp:lastModifiedBy>COORDC</cp:lastModifiedBy>
  <dcterms:modified xsi:type="dcterms:W3CDTF">2010-09-16T07:57:40Z</dcterms:modified>
  <cp:revision>5</cp:revision>
  <dc:subject/>
  <dc:title>Les 5, blz 24: schooltaalwoorden 1</dc:title>
</cp:coreProperties>
</file>