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DD5-B835-43CA-94A1-8B5E9232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279-B5DA-4924-A0A4-5AF30F42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F14-4879-4F2D-8B67-2985C875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D1D-0C7D-42F2-BA4F-D6005174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8B0-DAE4-44C6-9B6A-288C8C96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9FA-F4A2-4AC3-9D6B-FE83E5EE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757-3D19-44C1-B249-76FD98FD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364-9D34-4A73-AE30-C50F7494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F7A-C153-4629-BBF6-4658CD9B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AD1-180B-4D88-AF8D-3843296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37F-78F5-49CB-9889-FFF382B6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CCA-B9E8-4FB6-B1C2-5CF9A9FA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A896-7349-4E41-B2EE-AD44055BA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De leesstrateg</a:t>
            </a:r>
            <a:r>
              <a:rPr b="0" lang="nl-BE" sz="4400" spc="-1" strike="noStrike" u="sng">
                <a:solidFill>
                  <a:srgbClr val="ffffff"/>
                </a:solidFill>
                <a:uFillTx/>
                <a:latin typeface="Arial"/>
              </a:rPr>
              <a:t>ie</a:t>
            </a: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ën van GOZ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64000" y="3716280"/>
            <a:ext cx="1819080" cy="1668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7640" y="4581360"/>
            <a:ext cx="287280" cy="2160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4508640"/>
            <a:ext cx="287280" cy="215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4581360"/>
            <a:ext cx="144720" cy="71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32360" y="4869000"/>
            <a:ext cx="70632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6920" y="2565360"/>
            <a:ext cx="4826160" cy="1943280"/>
          </a:xfrm>
          <a:prstGeom prst="cloudCallout">
            <a:avLst>
              <a:gd name="adj1" fmla="val 26875"/>
              <a:gd name="adj2" fmla="val 2385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lees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strateg</a:t>
            </a:r>
            <a:r>
              <a:rPr b="0" lang="nl-BE" sz="4000" spc="-1" strike="noStrike" u="sng">
                <a:solidFill>
                  <a:srgbClr val="ffffff"/>
                </a:solidFill>
                <a:uFillTx/>
                <a:latin typeface="Arial"/>
              </a:rPr>
              <a:t>ie</a:t>
            </a:r>
            <a:r>
              <a:rPr b="0" lang="nl-BE" sz="4000" spc="-1" strike="noStrike">
                <a:solidFill>
                  <a:srgbClr val="ffffff"/>
                </a:solidFill>
                <a:latin typeface="Arial"/>
              </a:rPr>
              <a:t>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2276640"/>
            <a:ext cx="2305080" cy="792000"/>
          </a:xfrm>
          <a:prstGeom prst="wedgeEllipseCallout">
            <a:avLst>
              <a:gd name="adj1" fmla="val -50550"/>
              <a:gd name="adj2" fmla="val 58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LO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12000" y="298440"/>
            <a:ext cx="2232000" cy="1978200"/>
          </a:xfrm>
          <a:prstGeom prst="borderCallout1">
            <a:avLst>
              <a:gd name="adj1" fmla="val 18750"/>
              <a:gd name="adj2" fmla="val -8333"/>
              <a:gd name="adj3" fmla="val 108587"/>
              <a:gd name="adj4" fmla="val -6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GLOB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pm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Mogelijke inh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edo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653000"/>
            <a:ext cx="2808360" cy="576360"/>
          </a:xfrm>
          <a:prstGeom prst="wedgeRoundRectCallout">
            <a:avLst>
              <a:gd name="adj1" fmla="val -47962"/>
              <a:gd name="adj2" fmla="val -171763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RIENTE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278320"/>
            <a:ext cx="2952720" cy="1579680"/>
          </a:xfrm>
          <a:prstGeom prst="borderCallout1">
            <a:avLst>
              <a:gd name="adj1" fmla="val 18058"/>
              <a:gd name="adj2" fmla="val -4928"/>
              <a:gd name="adj3" fmla="val 20764"/>
              <a:gd name="adj4" fmla="val -492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WAAR BEN I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Welke soort tek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Wie is de aute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oor wie bedo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5229360"/>
            <a:ext cx="2592360" cy="792000"/>
          </a:xfrm>
          <a:prstGeom prst="wedgeEllipseCallout">
            <a:avLst>
              <a:gd name="adj1" fmla="val 80310"/>
              <a:gd name="adj2" fmla="val -181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ZOE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024600"/>
            <a:ext cx="3024360" cy="83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4" y="2962"/>
                </a:moveTo>
                <a:lnTo>
                  <a:pt x="23834" y="2962"/>
                </a:lnTo>
                <a:lnTo>
                  <a:pt x="23834" y="-10162"/>
                </a:lnTo>
                <a:lnTo>
                  <a:pt x="17541" y="-2341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WAAR IS H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fo 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38440"/>
            <a:ext cx="2592360" cy="719280"/>
          </a:xfrm>
          <a:prstGeom prst="wedgeRoundRectCallout">
            <a:avLst>
              <a:gd name="adj1" fmla="val 81476"/>
              <a:gd name="adj2" fmla="val 43819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KRI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57720"/>
            <a:ext cx="2952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57" y="2854"/>
                </a:moveTo>
                <a:lnTo>
                  <a:pt x="22157" y="2854"/>
                </a:lnTo>
                <a:lnTo>
                  <a:pt x="22157" y="-1110"/>
                </a:lnTo>
                <a:lnTo>
                  <a:pt x="17071" y="-5073"/>
                </a:lnTo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IS DAT WA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eit of me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1341360"/>
            <a:ext cx="2592360" cy="792360"/>
          </a:xfrm>
          <a:prstGeom prst="wedgeEllipseCallout">
            <a:avLst>
              <a:gd name="adj1" fmla="val 30097"/>
              <a:gd name="adj2" fmla="val 11553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INTENS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-28440"/>
            <a:ext cx="2953080" cy="143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57" y="1715"/>
                </a:moveTo>
                <a:lnTo>
                  <a:pt x="22924" y="1715"/>
                </a:lnTo>
                <a:lnTo>
                  <a:pt x="22924" y="14456"/>
                </a:lnTo>
                <a:lnTo>
                  <a:pt x="18766" y="27220"/>
                </a:lnTo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= IN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lles, grondig en aandach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Arial"/>
              </a:rPr>
              <a:t>En zijn woordbetekenis-strategie: A,B,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64000" y="3716280"/>
            <a:ext cx="1819080" cy="1668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7640" y="4581360"/>
            <a:ext cx="287280" cy="2160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4508640"/>
            <a:ext cx="287280" cy="2156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4581360"/>
            <a:ext cx="144720" cy="71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32360" y="4869000"/>
            <a:ext cx="70632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71640" y="2492280"/>
            <a:ext cx="7488000" cy="1224000"/>
          </a:xfrm>
          <a:prstGeom prst="wedgeRectCallout">
            <a:avLst>
              <a:gd name="adj1" fmla="val -34736"/>
              <a:gd name="adj2" fmla="val 49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6000" spc="-1" strike="noStrike">
                <a:solidFill>
                  <a:srgbClr val="000000"/>
                </a:solidFill>
                <a:latin typeface="Vladimir Script"/>
              </a:rPr>
              <a:t>Ze </a:t>
            </a:r>
            <a:r>
              <a:rPr b="0" i="1" lang="nl-BE" sz="6000" spc="-1" strike="noStrike">
                <a:solidFill>
                  <a:srgbClr val="99cc00"/>
                </a:solidFill>
                <a:latin typeface="Vladimir Script"/>
              </a:rPr>
              <a:t>consumeren</a:t>
            </a:r>
            <a:r>
              <a:rPr b="0" i="1" lang="nl-BE" sz="6000" spc="-1" strike="noStrike">
                <a:solidFill>
                  <a:srgbClr val="000000"/>
                </a:solidFill>
                <a:latin typeface="Vladimir Script"/>
              </a:rPr>
              <a:t> alleen dran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2492280"/>
            <a:ext cx="3743280" cy="1224000"/>
          </a:xfrm>
          <a:prstGeom prst="wedgeRectCallout">
            <a:avLst>
              <a:gd name="adj1" fmla="val -49958"/>
              <a:gd name="adj2" fmla="val 47407"/>
            </a:avLst>
          </a:prstGeom>
          <a:gradFill rotWithShape="0">
            <a:gsLst>
              <a:gs pos="0">
                <a:srgbClr val="808080"/>
              </a:gs>
              <a:gs pos="50000">
                <a:srgbClr val="3b3b3b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kan je iets uit het    woord afl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612720" y="0"/>
            <a:ext cx="10609200" cy="6324480"/>
          </a:xfrm>
          <a:custGeom>
            <a:avLst/>
            <a:gdLst/>
            <a:ahLst/>
            <a:rect l="l" t="t" r="r" b="b"/>
            <a:pathLst>
              <a:path w="6683" h="3984">
                <a:moveTo>
                  <a:pt x="5428" y="1466"/>
                </a:moveTo>
                <a:cubicBezTo>
                  <a:pt x="5239" y="1236"/>
                  <a:pt x="5050" y="1006"/>
                  <a:pt x="4702" y="877"/>
                </a:cubicBezTo>
                <a:cubicBezTo>
                  <a:pt x="4354" y="748"/>
                  <a:pt x="3817" y="710"/>
                  <a:pt x="3341" y="695"/>
                </a:cubicBezTo>
                <a:cubicBezTo>
                  <a:pt x="2865" y="680"/>
                  <a:pt x="2245" y="658"/>
                  <a:pt x="1844" y="786"/>
                </a:cubicBezTo>
                <a:cubicBezTo>
                  <a:pt x="1443" y="914"/>
                  <a:pt x="1050" y="1103"/>
                  <a:pt x="937" y="1466"/>
                </a:cubicBezTo>
                <a:cubicBezTo>
                  <a:pt x="824" y="1829"/>
                  <a:pt x="476" y="2706"/>
                  <a:pt x="1164" y="2963"/>
                </a:cubicBezTo>
                <a:cubicBezTo>
                  <a:pt x="1852" y="3220"/>
                  <a:pt x="4233" y="3168"/>
                  <a:pt x="5065" y="3009"/>
                </a:cubicBezTo>
                <a:cubicBezTo>
                  <a:pt x="5897" y="2850"/>
                  <a:pt x="6124" y="2442"/>
                  <a:pt x="6154" y="2011"/>
                </a:cubicBezTo>
                <a:cubicBezTo>
                  <a:pt x="6184" y="1580"/>
                  <a:pt x="6085" y="672"/>
                  <a:pt x="5246" y="423"/>
                </a:cubicBezTo>
                <a:cubicBezTo>
                  <a:pt x="4407" y="174"/>
                  <a:pt x="1860" y="0"/>
                  <a:pt x="1119" y="514"/>
                </a:cubicBezTo>
                <a:cubicBezTo>
                  <a:pt x="378" y="1028"/>
                  <a:pt x="0" y="3032"/>
                  <a:pt x="801" y="3508"/>
                </a:cubicBezTo>
                <a:cubicBezTo>
                  <a:pt x="1602" y="3984"/>
                  <a:pt x="5171" y="3386"/>
                  <a:pt x="5927" y="3371"/>
                </a:cubicBezTo>
                <a:cubicBezTo>
                  <a:pt x="6683" y="3356"/>
                  <a:pt x="6010" y="3386"/>
                  <a:pt x="5337" y="341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893080" y="5373720"/>
            <a:ext cx="2160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03640" y="2492280"/>
            <a:ext cx="93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40720" y="4724280"/>
            <a:ext cx="934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64000" y="115920"/>
            <a:ext cx="934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333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Vind je iets in de cont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40640" y="606744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Raadpleeg een br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Niet </a:t>
            </a:r>
            <a:r>
              <a:rPr b="0" lang="nl-BE" sz="4800" spc="-1" strike="noStrike">
                <a:solidFill>
                  <a:srgbClr val="000000"/>
                </a:solidFill>
                <a:latin typeface="Arial"/>
              </a:rPr>
              <a:t>verge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Vanavond herhal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Morgen misschien to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6:03:12Z</dcterms:created>
  <dc:creator>Ann Cleeren</dc:creator>
  <dc:description/>
  <dc:language>en-US</dc:language>
  <cp:lastModifiedBy>Ann Cleeren</cp:lastModifiedBy>
  <dcterms:modified xsi:type="dcterms:W3CDTF">2010-10-03T20:17:47Z</dcterms:modified>
  <cp:revision>10</cp:revision>
  <dc:subject/>
  <dc:title>De leesstrategieën van GOZKI</dc:title>
</cp:coreProperties>
</file>