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A55-1C78-46F3-B4DA-BE68038F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D39-C41D-4A5E-95E4-142B16F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EBF-46A1-408C-9958-3A48745A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2FC-0B87-4A70-B9F0-9B3D39D2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3CE-8700-4E8E-9610-41BA478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B23-2EE1-44E4-A718-5C146AF4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CB0-E06B-4C23-AF62-7EF420D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BBD-72D9-4D5C-BA40-7BCA27C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90E-61FD-44C2-98E7-C09C0FD2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5AD-CAA7-40D6-9448-B61CE4D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9DF-76D8-4C3A-8CD2-9F66192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860-13C4-4869-BBA4-9B80F75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BD9-1BE4-41D1-8100-E3383BA6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De leesstrateg</a:t>
            </a:r>
            <a:r>
              <a:rPr b="0" lang="nl-BE" sz="4400" spc="-1" strike="noStrike" u="sng">
                <a:solidFill>
                  <a:srgbClr val="ffffff"/>
                </a:solidFill>
                <a:uFillTx/>
                <a:latin typeface="Arial"/>
              </a:rPr>
              <a:t>ie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ën van GOZ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716280"/>
            <a:ext cx="1819080" cy="166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4581360"/>
            <a:ext cx="287280" cy="216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4508640"/>
            <a:ext cx="287280" cy="215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4581360"/>
            <a:ext cx="144720" cy="71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4869000"/>
            <a:ext cx="70632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6920" y="2565360"/>
            <a:ext cx="4826160" cy="1943280"/>
          </a:xfrm>
          <a:prstGeom prst="cloudCallout">
            <a:avLst>
              <a:gd name="adj1" fmla="val 26875"/>
              <a:gd name="adj2" fmla="val 23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lees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strateg</a:t>
            </a:r>
            <a:r>
              <a:rPr b="0" lang="nl-BE" sz="4000" spc="-1" strike="noStrike" u="sng">
                <a:solidFill>
                  <a:srgbClr val="ffffff"/>
                </a:solidFill>
                <a:uFillTx/>
                <a:latin typeface="Arial"/>
              </a:rPr>
              <a:t>ie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2276640"/>
            <a:ext cx="2305080" cy="792000"/>
          </a:xfrm>
          <a:prstGeom prst="wedgeEllipseCallout">
            <a:avLst>
              <a:gd name="adj1" fmla="val -50550"/>
              <a:gd name="adj2" fmla="val 58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LO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12000" y="298440"/>
            <a:ext cx="2232000" cy="1978200"/>
          </a:xfrm>
          <a:prstGeom prst="borderCallout1">
            <a:avLst>
              <a:gd name="adj1" fmla="val 18750"/>
              <a:gd name="adj2" fmla="val -8333"/>
              <a:gd name="adj3" fmla="val 108587"/>
              <a:gd name="adj4" fmla="val -6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GLOB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m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ogelijke inh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do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653000"/>
            <a:ext cx="2808360" cy="576360"/>
          </a:xfrm>
          <a:prstGeom prst="wedgeRoundRectCallout">
            <a:avLst>
              <a:gd name="adj1" fmla="val -47962"/>
              <a:gd name="adj2" fmla="val -17176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RIENTE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278320"/>
            <a:ext cx="2952720" cy="1579680"/>
          </a:xfrm>
          <a:prstGeom prst="borderCallout1">
            <a:avLst>
              <a:gd name="adj1" fmla="val 18058"/>
              <a:gd name="adj2" fmla="val -4928"/>
              <a:gd name="adj3" fmla="val 20764"/>
              <a:gd name="adj4" fmla="val -492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WAAR BEN I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elke soort tek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ie is de aute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oor wie bedo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5229360"/>
            <a:ext cx="2592360" cy="792000"/>
          </a:xfrm>
          <a:prstGeom prst="wedgeEllipseCallout">
            <a:avLst>
              <a:gd name="adj1" fmla="val 80310"/>
              <a:gd name="adj2" fmla="val -181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ZO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24600"/>
            <a:ext cx="3024360" cy="83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4" y="2962"/>
                </a:moveTo>
                <a:lnTo>
                  <a:pt x="23834" y="2962"/>
                </a:lnTo>
                <a:lnTo>
                  <a:pt x="23834" y="-10162"/>
                </a:lnTo>
                <a:lnTo>
                  <a:pt x="17541" y="-2341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WAAR IS H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fo 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38440"/>
            <a:ext cx="2592360" cy="719280"/>
          </a:xfrm>
          <a:prstGeom prst="wedgeRoundRectCallout">
            <a:avLst>
              <a:gd name="adj1" fmla="val 81476"/>
              <a:gd name="adj2" fmla="val 43819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KRI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7720"/>
            <a:ext cx="2952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57" y="2854"/>
                </a:moveTo>
                <a:lnTo>
                  <a:pt x="22157" y="2854"/>
                </a:lnTo>
                <a:lnTo>
                  <a:pt x="22157" y="-1110"/>
                </a:lnTo>
                <a:lnTo>
                  <a:pt x="17071" y="-5073"/>
                </a:lnTo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S DAT WA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it of m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341360"/>
            <a:ext cx="2592360" cy="792360"/>
          </a:xfrm>
          <a:prstGeom prst="wedgeEllipseCallout">
            <a:avLst>
              <a:gd name="adj1" fmla="val 30097"/>
              <a:gd name="adj2" fmla="val 11553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TENS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-28440"/>
            <a:ext cx="295308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57" y="1715"/>
                </a:moveTo>
                <a:lnTo>
                  <a:pt x="22924" y="1715"/>
                </a:lnTo>
                <a:lnTo>
                  <a:pt x="22924" y="14456"/>
                </a:lnTo>
                <a:lnTo>
                  <a:pt x="18766" y="27220"/>
                </a:ln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N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lles, grondig en aanda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En zijn woordbetekenis-strategie: A,B,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3716280"/>
            <a:ext cx="1819080" cy="166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4581360"/>
            <a:ext cx="287280" cy="216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508640"/>
            <a:ext cx="287280" cy="215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4581360"/>
            <a:ext cx="144720" cy="71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4869000"/>
            <a:ext cx="70632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2492280"/>
            <a:ext cx="7488000" cy="1224000"/>
          </a:xfrm>
          <a:prstGeom prst="wedgeRectCallout">
            <a:avLst>
              <a:gd name="adj1" fmla="val -34736"/>
              <a:gd name="adj2" fmla="val 49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6000" spc="-1" strike="noStrike">
                <a:solidFill>
                  <a:srgbClr val="000000"/>
                </a:solidFill>
                <a:latin typeface="Vladimir Script"/>
              </a:rPr>
              <a:t>Ze </a:t>
            </a:r>
            <a:r>
              <a:rPr b="0" i="1" lang="nl-BE" sz="6000" spc="-1" strike="noStrike">
                <a:solidFill>
                  <a:srgbClr val="99cc00"/>
                </a:solidFill>
                <a:latin typeface="Vladimir Script"/>
              </a:rPr>
              <a:t>consumeren</a:t>
            </a:r>
            <a:r>
              <a:rPr b="0" i="1" lang="nl-BE" sz="6000" spc="-1" strike="noStrike">
                <a:solidFill>
                  <a:srgbClr val="000000"/>
                </a:solidFill>
                <a:latin typeface="Vladimir Script"/>
              </a:rPr>
              <a:t> alleen dran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2492280"/>
            <a:ext cx="3743280" cy="1224000"/>
          </a:xfrm>
          <a:prstGeom prst="wedgeRectCallout">
            <a:avLst>
              <a:gd name="adj1" fmla="val -49958"/>
              <a:gd name="adj2" fmla="val 47407"/>
            </a:avLst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kan je iets uit het    woord afl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612720" y="0"/>
            <a:ext cx="10609200" cy="6324480"/>
          </a:xfrm>
          <a:custGeom>
            <a:avLst/>
            <a:gdLst/>
            <a:ahLst/>
            <a:rect l="l" t="t" r="r" b="b"/>
            <a:pathLst>
              <a:path w="6683" h="3984">
                <a:moveTo>
                  <a:pt x="5428" y="1466"/>
                </a:moveTo>
                <a:cubicBezTo>
                  <a:pt x="5239" y="1236"/>
                  <a:pt x="5050" y="1006"/>
                  <a:pt x="4702" y="877"/>
                </a:cubicBezTo>
                <a:cubicBezTo>
                  <a:pt x="4354" y="748"/>
                  <a:pt x="3817" y="710"/>
                  <a:pt x="3341" y="695"/>
                </a:cubicBezTo>
                <a:cubicBezTo>
                  <a:pt x="2865" y="680"/>
                  <a:pt x="2245" y="658"/>
                  <a:pt x="1844" y="786"/>
                </a:cubicBezTo>
                <a:cubicBezTo>
                  <a:pt x="1443" y="914"/>
                  <a:pt x="1050" y="1103"/>
                  <a:pt x="937" y="1466"/>
                </a:cubicBezTo>
                <a:cubicBezTo>
                  <a:pt x="824" y="1829"/>
                  <a:pt x="476" y="2706"/>
                  <a:pt x="1164" y="2963"/>
                </a:cubicBezTo>
                <a:cubicBezTo>
                  <a:pt x="1852" y="3220"/>
                  <a:pt x="4233" y="3168"/>
                  <a:pt x="5065" y="3009"/>
                </a:cubicBezTo>
                <a:cubicBezTo>
                  <a:pt x="5897" y="2850"/>
                  <a:pt x="6124" y="2442"/>
                  <a:pt x="6154" y="2011"/>
                </a:cubicBezTo>
                <a:cubicBezTo>
                  <a:pt x="6184" y="1580"/>
                  <a:pt x="6085" y="672"/>
                  <a:pt x="5246" y="423"/>
                </a:cubicBezTo>
                <a:cubicBezTo>
                  <a:pt x="4407" y="174"/>
                  <a:pt x="1860" y="0"/>
                  <a:pt x="1119" y="514"/>
                </a:cubicBezTo>
                <a:cubicBezTo>
                  <a:pt x="378" y="1028"/>
                  <a:pt x="0" y="3032"/>
                  <a:pt x="801" y="3508"/>
                </a:cubicBezTo>
                <a:cubicBezTo>
                  <a:pt x="1602" y="3984"/>
                  <a:pt x="5171" y="3386"/>
                  <a:pt x="5927" y="3371"/>
                </a:cubicBezTo>
                <a:cubicBezTo>
                  <a:pt x="6683" y="3356"/>
                  <a:pt x="6010" y="3386"/>
                  <a:pt x="5337" y="341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93080" y="5373720"/>
            <a:ext cx="216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3640" y="2492280"/>
            <a:ext cx="93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40720" y="4724280"/>
            <a:ext cx="93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64000" y="115920"/>
            <a:ext cx="93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3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nd je iets in de cont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0640" y="606744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Raadpleeg een br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Niet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verge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Vanavond herhal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orgen misschien to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03:12Z</dcterms:created>
  <dc:creator>Ann Cleeren</dc:creator>
  <dc:description/>
  <dc:language>en-US</dc:language>
  <cp:lastModifiedBy>Ann Cleeren</cp:lastModifiedBy>
  <dcterms:modified xsi:type="dcterms:W3CDTF">2010-10-03T20:17:47Z</dcterms:modified>
  <cp:revision>10</cp:revision>
  <dc:subject/>
  <dc:title>De leesstrategieën van GOZKI</dc:title>
</cp:coreProperties>
</file>