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C06-F3B1-4A4B-A7F7-6C4A7EBF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D6B-BC34-4447-98D3-51FDB3C2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AFF-F634-43F3-B182-50BA81B9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822-AB63-4506-9DA2-3A77C9AF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F0A-2D65-4737-ADBA-6C7AC72D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3C9-98FE-47BD-9773-340DD9D9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5AE-0E04-4503-B621-B9C38539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285-3E33-430E-8DBE-C20E3A05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57B-46F3-4412-B727-6343451E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8F9-3C67-4A36-B918-F60F34BB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E1C-816D-4A8A-B3E4-930C1042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FC0-89CF-41E0-B5CF-022D4307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0B8B-90E0-429B-A790-CBD9CCA60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preekwoorden: les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 bal misslaan = zich verg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een sprong in het duister = de gevolgen zijn niet te over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zich op glad ijs begeven = risico’s 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emand buitenspel zetten = iemand uit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een tandje bijzetten / bijsteken = een extra inspanning lev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Wat is de beteken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Niet om het voordeel, maar om het princ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e moed verliez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Je leert iets nieuws, best met oudere midd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pgeven, sto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emand die heel veel kennis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Wat is de betekenis? (vervol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e moeilijkheden niet uit de weg ga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Hij heeft altijd wel een verklaring waarom iets niet lu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Uitschak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en gemakkelijk succes beha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Oneerlijke concurrentie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Zegswij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 man met de hamer ontmoe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Het net laten tri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efening baart kun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Een goed paard, maakt nog geen goede ru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lle zeilen bijze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Zegswijzen (vervol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Mijn beer begint te dan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oor vallen en opstaan leert men l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n het oog springen. In het oog v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 keerzijde van de medai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 bramzeilen bijze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1:37:52Z</dcterms:created>
  <dc:creator>COORDC</dc:creator>
  <dc:description/>
  <dc:language>en-US</dc:language>
  <cp:lastModifiedBy>LKR</cp:lastModifiedBy>
  <dcterms:modified xsi:type="dcterms:W3CDTF">2010-10-05T13:44:37Z</dcterms:modified>
  <cp:revision>3</cp:revision>
  <dc:subject/>
  <dc:title>Spreekwoorden: les 11</dc:title>
</cp:coreProperties>
</file>