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6D6-EC6B-4D4D-8927-3382C678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9B7-1E47-4859-91C0-70FE8C8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DD4-AC48-4C83-9DB1-A37FA561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B79-6F3D-4900-A04D-787EDF8F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FB3-FCB7-47E8-A81A-7B0E91AF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0CB-9880-4263-B49B-0B406E8C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C26-D16C-48A7-A758-37B33A2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D8F-0497-4AB6-AC4B-4DB2D325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1FE-0ED2-4CBF-BA30-A24DE20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A74-024F-4F55-8157-EADB437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5CE-2521-4307-B04A-BD7518A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D60-6826-41BD-B99E-34CB0EBC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4E21-4D61-4187-B3F1-249E276B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preekwoorden: les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bal misslaan = zich verg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en sprong in het duister = de gevolgen zijn niet te over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zich op glad ijs begeven = risico’s 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 buitenspel zetten = iemand uit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en tandje bijzetten / bijsteken = een extra inspanning lev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at is de beteken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iet om het voordeel, maar om het princ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moed verlie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Je leert iets nieuws, best met ouder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pgeven, sto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emand die heel veel kennis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at is de betekenis? (vervol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moeilijkheden niet uit de weg 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ij heeft altijd wel een verklaring waarom iets niet lu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Uitschak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gemakkelijk succes beh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neerlijke concurrentie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Zegswij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man met de hamer ontmoe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Het net laten tri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fening baart ku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en goed paard, maakt nog geen goede ru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lle zeilen bijze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Zegswijzen (vervol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ijn beer begint te dan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r vallen en opstaan leert men 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 het oog springen. In het oog v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keerzijde van de meda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bramzeilen bijze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37:52Z</dcterms:created>
  <dc:creator>COORDC</dc:creator>
  <dc:description/>
  <dc:language>en-US</dc:language>
  <cp:lastModifiedBy>LKR</cp:lastModifiedBy>
  <dcterms:modified xsi:type="dcterms:W3CDTF">2010-10-05T13:44:37Z</dcterms:modified>
  <cp:revision>3</cp:revision>
  <dc:subject/>
  <dc:title>Spreekwoorden: les 11</dc:title>
</cp:coreProperties>
</file>