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099-EB84-4F70-8D6C-AE5327EC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755-62C4-46E8-8802-05685FAF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9AF-BA8C-4ADC-B82B-E3C135E5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930-662C-49AB-A266-4CD9A4C1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C2E-274A-47AE-A861-D77379EE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057-6179-4B49-B121-D4CD3674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A6E-4740-4AD5-8586-DB3D44C9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389-8959-409F-B311-660D8140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629-C5AD-466B-B314-27183BD3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F50-2622-4F23-A8D3-FAAE42A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4DC-6F2D-4178-8A1D-DD4EDBCC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637-1BBE-420E-AF78-CAE01804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182C-9774-470E-9A31-7D8CEE197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 schooltaalwoorden 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84000" y="1413000"/>
            <a:ext cx="45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stude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icht zich t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gelij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nauwkeur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ec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neemt 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1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88640"/>
            <a:ext cx="7848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amenklank van twee of meer to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inden ze het go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t in de richting houden va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2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oo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oo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fo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oo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looiing (helling in het landsch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ro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2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0920" y="141300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p Nederl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aakte Oostenr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 Av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t suikerf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ing Allerheili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it paasmaand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In Chanoek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 2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9440" y="120816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ei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tooien (mooi maken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inkst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containerpa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i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 3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44720" y="1424160"/>
            <a:ext cx="31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es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aas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zweef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fuif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rees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niet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ries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3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5640" y="1530000"/>
            <a:ext cx="4645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i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rij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ij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o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r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la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do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3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1640" y="1530000"/>
            <a:ext cx="67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roef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ro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eloof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elo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oorloof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oorlo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roof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ro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raaf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ra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Zoef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Zo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eis 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e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7:46:17Z</dcterms:created>
  <dc:creator>AnnThuis</dc:creator>
  <dc:description/>
  <dc:language>en-US</dc:language>
  <cp:lastModifiedBy>AnnThuis</cp:lastModifiedBy>
  <dcterms:modified xsi:type="dcterms:W3CDTF">2010-09-22T20:04:51Z</dcterms:modified>
  <cp:revision>8</cp:revision>
  <dc:subject/>
  <dc:title>Les 5, blz 24: schooltaalwoorden 1</dc:title>
</cp:coreProperties>
</file>