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C22-6E04-48FF-B26B-C1BC9A6B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D36-3BB0-4875-8CBC-4696A158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7CE-691F-4988-81A6-37AB16C1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884-11D2-48BE-BCF1-3C92A7B4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41F-310D-4E5D-95B0-A222A88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228-0E4E-4637-8268-05F5086B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510-1A80-4622-8F64-1894073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836-F351-43DC-B2DD-01AA83A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1E5-4CB5-4D38-9CD5-E2E9C9A5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4CC-8712-494F-ADBA-A2439AB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F8F-518A-42B7-885F-D5120D0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5A0-E799-49C8-B8ED-6623F8F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F4D6-5185-4CBE-884B-46D8924D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 schooltaalwoorden 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84000" y="141300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ude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icht zich t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gelij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auwkeu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c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eemt 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1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88640"/>
            <a:ext cx="784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amenklank van twee of meer to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inden ze het go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t in de richting houden v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oo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oo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o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oo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looiing (helling in het landsch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2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092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p Nederl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aakte Oostenr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 Av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t suikerf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ing Allerheili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it paasmaand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n Chanoe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 2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9440" y="120816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ei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tooien (mooi maken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inkst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containerpa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i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 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44720" y="1424160"/>
            <a:ext cx="31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e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aa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weef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fuif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ree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niet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ries +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3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5640" y="1530000"/>
            <a:ext cx="464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i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rij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ij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o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r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la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d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0: 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1640" y="1530000"/>
            <a:ext cx="67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e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o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loo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l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oorloo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oorl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roo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ro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raa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ra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oef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o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is 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7:46:17Z</dcterms:created>
  <dc:creator>AnnThuis</dc:creator>
  <dc:description/>
  <dc:language>en-US</dc:language>
  <cp:lastModifiedBy>AnnThuis</cp:lastModifiedBy>
  <dcterms:modified xsi:type="dcterms:W3CDTF">2010-09-22T20:04:51Z</dcterms:modified>
  <cp:revision>8</cp:revision>
  <dc:subject/>
  <dc:title>Les 5, blz 24: schooltaalwoorden 1</dc:title>
</cp:coreProperties>
</file>