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436-37A8-4C62-972B-D9F1C41E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69A-061A-4276-8D89-AF3D5C98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E81-F832-48CA-9342-7621DD07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05C-931F-417B-91DE-C6DB960F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D6E-876F-489C-8F81-A1DC71B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48B-3414-448A-83F9-7EA242BC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19F-ACA9-408B-A6EC-5D906AF1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78B-FEF5-4825-AFAF-73C84940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D39-9A4C-481E-B60B-DADB6ABC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4E5-314D-4CF3-BD65-6873B292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ECD-F29E-43E5-86B6-74E90305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A75-11D9-4C67-A6A4-ABC43073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5EB7-9951-4AC6-BABE-1E0CDC81E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www.beterspellen.n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lke dag vier zinnetj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20648400">
            <a:off x="4716360" y="3284640"/>
            <a:ext cx="4680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uw mailbo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6:29:45Z</dcterms:created>
  <dc:creator>AnnThuis</dc:creator>
  <dc:description/>
  <dc:language>en-US</dc:language>
  <cp:lastModifiedBy>AnnThuis</cp:lastModifiedBy>
  <dcterms:modified xsi:type="dcterms:W3CDTF">2010-09-15T06:38:42Z</dcterms:modified>
  <cp:revision>3</cp:revision>
  <dc:subject/>
  <dc:title>Dia 1</dc:title>
</cp:coreProperties>
</file>