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806-5880-4C6B-9ACF-7B07846E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FF0-71D6-47A3-8C30-ECD908E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5EE-0806-4107-8D10-A64EA133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E9F-83E0-4477-9B3D-2EDA7093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B0D-4C80-43DB-A7DF-7B8CC76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35B-C7D2-4463-86A9-FC1D4F2D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6BC-D8C5-4D00-80E2-4B98AA3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433-2394-4051-96F8-1D2CE3A4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43F-63A1-4F96-AF7D-1F4D5F2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E89-575C-4167-908D-1747432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572-9FD8-42CA-AE98-9F5269B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46C-F0C0-4A2F-B8ED-C10E86B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CF14-F82C-4846-9D02-B57908B7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ww.beterspellen.n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lke dag vier zinnetj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648400">
            <a:off x="4716360" y="3284640"/>
            <a:ext cx="4680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ouw mail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6:29:45Z</dcterms:created>
  <dc:creator>AnnThuis</dc:creator>
  <dc:description/>
  <dc:language>en-US</dc:language>
  <cp:lastModifiedBy>AnnThuis</cp:lastModifiedBy>
  <dcterms:modified xsi:type="dcterms:W3CDTF">2010-09-15T06:38:42Z</dcterms:modified>
  <cp:revision>3</cp:revision>
  <dc:subject/>
  <dc:title>Dia 1</dc:title>
</cp:coreProperties>
</file>