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E7C-1259-4CA7-8BFA-B77460DF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F08-8479-4D38-ADC6-AA214DCF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4EC-06EF-4D08-A3AB-5F0749D6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DA2-0C2C-451A-A212-E0ADDE6E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07E-1453-4C7C-A850-1F15E0D9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C86B-43F9-40AF-A365-6000A351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95F-37A0-4278-AB13-2E57A104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118C-9128-47B7-8C2B-45A0866A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75E-EEE9-47A9-B2FB-DB1F49C0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B30-6915-4199-AE2E-436AC84B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41B7-D535-4D92-80E2-D01F76B5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74C-2D2C-416C-A647-3B58C38C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1B94-9965-4F84-9DC1-5486FAFD1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4, blz 21:  rangschik alfabeti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afschu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acte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gelei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lektroni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fob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unst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ech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uismid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97520" y="1208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microsc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minuscu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ongetwijf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asteuris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elect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imul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zu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4, blz 21: nieuwe 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microsc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imul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afschu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ech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minuscu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fob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unst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zu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97520" y="990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lektroni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gelei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ongetwijf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uismid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asteuris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elect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acte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4, blz 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2560" y="1484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arachnofobie? spinnenang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55640" y="3213000"/>
          <a:ext cx="7643880" cy="1366920"/>
        </p:xfrm>
        <a:graphic>
          <a:graphicData uri="http://schemas.openxmlformats.org/drawingml/2006/table">
            <a:tbl>
              <a:tblPr/>
              <a:tblGrid>
                <a:gridCol w="1528920"/>
                <a:gridCol w="1528560"/>
                <a:gridCol w="1528920"/>
                <a:gridCol w="1528560"/>
                <a:gridCol w="15289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les 4: blz 22 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bn &gt; zn &gt; inf &gt; synoni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/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e simulat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imule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e naboot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begeleidend </a:t>
            </a:r>
            <a:r>
              <a:rPr b="0" i="1" lang="nl-BE" sz="2800" spc="-1" strike="noStrike">
                <a:solidFill>
                  <a:srgbClr val="000000"/>
                </a:solidFill>
                <a:latin typeface="Arial"/>
              </a:rPr>
              <a:t>brief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e bege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begele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ergez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35640" y="1557000"/>
            <a:ext cx="3308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erzuurd </a:t>
            </a:r>
            <a:r>
              <a:rPr b="0" i="1" lang="nl-BE" sz="2800" spc="-1" strike="noStrike">
                <a:solidFill>
                  <a:srgbClr val="000000"/>
                </a:solidFill>
                <a:latin typeface="Arial"/>
              </a:rPr>
              <a:t>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e verz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erz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beder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hecht </a:t>
            </a:r>
            <a:r>
              <a:rPr b="0" i="1" lang="nl-BE" sz="2800" spc="-1" strike="noStrike">
                <a:solidFill>
                  <a:srgbClr val="000000"/>
                </a:solidFill>
                <a:latin typeface="Arial"/>
              </a:rPr>
              <a:t>ko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e hechtenis / hec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he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ast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les 4: blz 23 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bn&gt; zn&gt; inf &gt;synoniem &gt;antoni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erfect </a:t>
            </a:r>
            <a:r>
              <a:rPr b="0" i="1" lang="nl-BE" sz="2400" spc="-1" strike="noStrike">
                <a:solidFill>
                  <a:srgbClr val="000000"/>
                </a:solidFill>
                <a:latin typeface="Arial"/>
              </a:rPr>
              <a:t>voors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 perfec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erfection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outlo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gebrekk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geëtaleerd </a:t>
            </a:r>
            <a:r>
              <a:rPr b="0" i="1" lang="nl-BE" sz="2400" spc="-1" strike="noStrike">
                <a:solidFill>
                  <a:srgbClr val="000000"/>
                </a:solidFill>
                <a:latin typeface="Arial"/>
              </a:rPr>
              <a:t>snoepg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 eta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ta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uitstalra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35640" y="1557000"/>
            <a:ext cx="3308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gehate </a:t>
            </a:r>
            <a:r>
              <a:rPr b="0" i="1" lang="nl-BE" sz="2400" spc="-1" strike="noStrike">
                <a:solidFill>
                  <a:srgbClr val="000000"/>
                </a:solidFill>
                <a:latin typeface="Arial"/>
              </a:rPr>
              <a:t>gedach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 h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h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erafsch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lief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correct </a:t>
            </a:r>
            <a:r>
              <a:rPr b="0" i="1" lang="nl-BE" sz="2400" spc="-1" strike="noStrike">
                <a:solidFill>
                  <a:srgbClr val="000000"/>
                </a:solidFill>
                <a:latin typeface="Arial"/>
              </a:rPr>
              <a:t>antw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 corre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corri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erbet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outen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les 4: blz 23 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bn&gt; zn&gt; inf &gt;synoniem &gt;antoni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eestelijk </a:t>
            </a:r>
            <a:r>
              <a:rPr b="0" i="1" lang="nl-BE" sz="2400" spc="-1" strike="noStrike">
                <a:solidFill>
                  <a:srgbClr val="000000"/>
                </a:solidFill>
                <a:latin typeface="Arial"/>
              </a:rPr>
              <a:t>eten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het fe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ee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ie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 d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en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en t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35640" y="1557000"/>
            <a:ext cx="3308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griezelig </a:t>
            </a:r>
            <a:r>
              <a:rPr b="0" i="1" lang="nl-BE" sz="2400" spc="-1" strike="noStrike">
                <a:solidFill>
                  <a:srgbClr val="000000"/>
                </a:solidFill>
                <a:latin typeface="Arial"/>
              </a:rPr>
              <a:t>fe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 griez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griez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gstaanjag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ertrouwd </a:t>
            </a:r>
            <a:r>
              <a:rPr b="0" i="1" lang="nl-BE" sz="2400" spc="-1" strike="noStrike">
                <a:solidFill>
                  <a:srgbClr val="000000"/>
                </a:solidFill>
                <a:latin typeface="Arial"/>
              </a:rPr>
              <a:t>gez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 vertrouw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ert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ek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ree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les 4: blz 23 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bn&gt; zn&gt; inf &gt;synoniem &gt;antoni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e bekli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bekli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best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64000" y="2204640"/>
            <a:ext cx="3308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ypisch </a:t>
            </a:r>
            <a:r>
              <a:rPr b="0" i="1" lang="nl-BE" sz="2800" spc="-1" strike="noStrike">
                <a:solidFill>
                  <a:srgbClr val="000000"/>
                </a:solidFill>
                <a:latin typeface="Arial"/>
              </a:rPr>
              <a:t>w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h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yp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enmerk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typ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6:42:17Z</dcterms:created>
  <dc:creator>AnnThuis</dc:creator>
  <dc:description/>
  <dc:language>en-US</dc:language>
  <cp:lastModifiedBy>AnnThuis</cp:lastModifiedBy>
  <dcterms:modified xsi:type="dcterms:W3CDTF">2010-09-12T07:16:02Z</dcterms:modified>
  <cp:revision>9</cp:revision>
  <dc:subject/>
  <dc:title>Les 4</dc:title>
</cp:coreProperties>
</file>