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A4E-1BC7-414C-8A9C-73883CC0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70A-8F18-49B2-A0E2-DC023B08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2EC-D1CA-4AB0-94CC-9B3CF022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53E-95F1-4E20-935D-04CB6846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E92-FDE9-4489-B912-60342577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6EF-7E92-41A4-BD8C-0FFEBF75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4AE-026A-4E46-B841-1F1AF8DA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FCE-360D-4B73-A997-3AE6C879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CFB-6746-417E-9F0C-97103ADE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A6E-D38D-474C-A0CE-47646799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ADC-3429-44AF-ACED-5772CAAB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293-63A8-482B-B823-1909012B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B8FE-89A3-4962-B2E5-E3CF73EC4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4, blz 21:  rangschik alfabeti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fschu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acte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lektroni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fob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unst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ch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uismid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97520" y="1208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icrosc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inuscu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ngetwijf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asteuris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elect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imul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z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4, blz 21: nieuwe 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icrosc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imul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fschu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ch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inuscu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fob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unst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z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9752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lektroni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ngetwijf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uismid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asteuris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elect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acte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4, blz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2560" y="1484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rachnofobie? spinnenang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55640" y="3213000"/>
          <a:ext cx="7643880" cy="1366920"/>
        </p:xfrm>
        <a:graphic>
          <a:graphicData uri="http://schemas.openxmlformats.org/drawingml/2006/table">
            <a:tbl>
              <a:tblPr/>
              <a:tblGrid>
                <a:gridCol w="1528920"/>
                <a:gridCol w="1528560"/>
                <a:gridCol w="1528920"/>
                <a:gridCol w="1528560"/>
                <a:gridCol w="15289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les 4: blz 22 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n &gt; zn &gt; inf &gt; synon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/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simulat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imul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naboot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geleidend </a:t>
            </a:r>
            <a:r>
              <a:rPr b="0" i="1" lang="nl-BE" sz="2800" spc="-1" strike="noStrike">
                <a:solidFill>
                  <a:srgbClr val="000000"/>
                </a:solidFill>
                <a:latin typeface="Arial"/>
              </a:rPr>
              <a:t>brief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bege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ergez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35640" y="1557000"/>
            <a:ext cx="3308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erzuurd </a:t>
            </a:r>
            <a:r>
              <a:rPr b="0" i="1" lang="nl-BE" sz="2800" spc="-1" strike="noStrike">
                <a:solidFill>
                  <a:srgbClr val="000000"/>
                </a:solidFill>
                <a:latin typeface="Arial"/>
              </a:rPr>
              <a:t>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verz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erz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der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hecht </a:t>
            </a:r>
            <a:r>
              <a:rPr b="0" i="1" lang="nl-BE" sz="2800" spc="-1" strike="noStrike">
                <a:solidFill>
                  <a:srgbClr val="000000"/>
                </a:solidFill>
                <a:latin typeface="Arial"/>
              </a:rPr>
              <a:t>ko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hechtenis / hec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h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ast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les 4: blz 23 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n&gt; zn&gt; inf &gt;synoniem &gt;anton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erfect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voors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perfec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erfection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outl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ebrekk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eëtaleerd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snoep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eta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ta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uitstalra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35640" y="1557000"/>
            <a:ext cx="3308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ehate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geda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h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erafsch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lief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orrect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orri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erbe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out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les 4: blz 23 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n&gt; zn&gt; inf &gt;synoniem &gt;anton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eestelijk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eten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et fe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e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ie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d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t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35640" y="1557000"/>
            <a:ext cx="3308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riezelig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fe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griez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riez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gstaanja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ertrouwd </a:t>
            </a:r>
            <a:r>
              <a:rPr b="0" i="1" lang="nl-BE" sz="2400" spc="-1" strike="noStrike">
                <a:solidFill>
                  <a:srgbClr val="000000"/>
                </a:solidFill>
                <a:latin typeface="Arial"/>
              </a:rPr>
              <a:t>gez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 vertrouw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e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ree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les 4: blz 23 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n&gt; zn&gt; inf &gt;synoniem &gt;anton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bekl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kli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st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64000" y="2204640"/>
            <a:ext cx="3308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ypisch </a:t>
            </a:r>
            <a:r>
              <a:rPr b="0" i="1" lang="nl-BE" sz="2800" spc="-1" strike="noStrike">
                <a:solidFill>
                  <a:srgbClr val="000000"/>
                </a:solidFill>
                <a:latin typeface="Arial"/>
              </a:rPr>
              <a:t>w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h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y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enmer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typ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6:42:17Z</dcterms:created>
  <dc:creator>AnnThuis</dc:creator>
  <dc:description/>
  <dc:language>en-US</dc:language>
  <cp:lastModifiedBy>AnnThuis</cp:lastModifiedBy>
  <dcterms:modified xsi:type="dcterms:W3CDTF">2010-09-12T07:16:02Z</dcterms:modified>
  <cp:revision>9</cp:revision>
  <dc:subject/>
  <dc:title>Les 4</dc:title>
</cp:coreProperties>
</file>