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5.jpeg" ContentType="image/jpeg"/>
  <Override PartName="/ppt/media/image19.gif" ContentType="image/gif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8.png" ContentType="image/png"/>
  <Override PartName="/ppt/media/image14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2C4-01D5-484E-B384-7EF95F55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618-E8FD-4205-B639-BCBB1ED8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C63-F938-4095-9A16-DA78DD2E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4FD-195C-4CC1-AF37-C2348AA8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990-D501-4769-9E5E-58896494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9C8-4659-4EF5-AD54-4F749C0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5B5-ADDD-49BD-B26C-90A728B1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C93-0DDA-49EA-9698-D872A1A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C7A-0A72-4E6E-8AFD-FA194670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6C1-34AF-4BC6-A892-B296B71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AB3-8DA2-4265-A9D5-6C19E85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79B-8A78-4739-B496-E4FF0960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E24-AFE4-4313-9756-982FECFB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riam-van-nazareth.net/" TargetMode="External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0166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lfredo's Dance"/>
              </a:rPr>
              <a:t>Gebed  tot  Maria,  Tuinierster  van  de  Ziel</a:t>
            </a: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e</a:t>
            </a:r>
            <a:r>
              <a:rPr b="0" lang="nl-BE" sz="2400" spc="-1" strike="noStrike">
                <a:solidFill>
                  <a:srgbClr val="000000"/>
                </a:solidFill>
                <a:latin typeface="Alfredo's Dance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6308280"/>
            <a:ext cx="640872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Door  Myriam  Van  Nazareth. 12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905280"/>
            <a:ext cx="3276720" cy="295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3905280"/>
            <a:ext cx="3276720" cy="29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58160" y="1125360"/>
            <a:ext cx="208584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2085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Lieve  Moeder  Maria,  Tuinierster  van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zie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voor  U  spreid  ik  mijn  ziel  uit  als  een  tu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Wil  het  zaad  van  de  heiligheid  uit  Uw  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Hart  in  de  bodem  van  mijn  z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strooien,  opdat  in  mij  Uw  bloem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mogen  bloe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lfredo's Dance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48200" y="3048120"/>
            <a:ext cx="329580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3048120"/>
            <a:ext cx="329544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329580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8576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1085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03280" y="189000"/>
            <a:ext cx="633744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Verwijder  uit  mij  het  onkruid  v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alle  bekoringen,  opdat  de  zonde 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mijn  zielenbodem  moge  overwoek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Besproei  mij  met  de  regen  v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Gods  gena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87640" y="5300640"/>
            <a:ext cx="304812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28880" cy="132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115480" y="0"/>
            <a:ext cx="10285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Roep  toch  de  zon  van  Gods  Liefde 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mijn  zaad  af,  opdat  in  mij  slechts 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volheid  van  Gods  Waarheid  moge  rijpen,  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mijn  ziel  een  paradijs  moge  zijn  dat  Go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aan  U  herinn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29240" y="3573360"/>
            <a:ext cx="2714760" cy="3038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819600"/>
            <a:ext cx="2714760" cy="3038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5589720"/>
            <a:ext cx="3809880" cy="961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23960" cy="781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420040" y="0"/>
            <a:ext cx="72396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0" y="1413000"/>
            <a:ext cx="149544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7648560" y="1413000"/>
            <a:ext cx="149544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564000" y="4076640"/>
            <a:ext cx="19717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7432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Onder  Uw  voeten,  o  Koningin  van  h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Hemels  Paradijs,  zal  mijn  dorheid  t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vruchtbaarheid  en  verrukking  word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Daarom  geef  ik  mij  nu  restloos  aan  U  o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opdat  U  mijn  bloei  zou  bekronen  met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Boo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van  het  Kruis,  dat  het  Goddelijke  Lev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bren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00" spc="-1" strike="noStrike">
                <a:solidFill>
                  <a:srgbClr val="000000"/>
                </a:solidFill>
                <a:latin typeface="Alfredo's Dance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443480"/>
            <a:ext cx="1889280" cy="2414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66760" cy="262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80360" y="566100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427640" y="6093000"/>
            <a:ext cx="15238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Kom  en  heers  in  mij,  o  Koningin  van  </a:t>
            </a:r>
            <a:br>
              <a:rPr sz="2000"/>
            </a:b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het  Hemels  Hof,  </a:t>
            </a:r>
            <a:br>
              <a:rPr sz="2000"/>
            </a:b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en  ontsluit  mij  voor  het  zaad  van  </a:t>
            </a:r>
            <a:br>
              <a:rPr sz="2000"/>
            </a:b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de  Eeuwige  Liefde,  </a:t>
            </a:r>
            <a:br>
              <a:rPr sz="2000"/>
            </a:b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dat  Gods  Werken  in  mijn  ziel  </a:t>
            </a:r>
            <a:br>
              <a:rPr sz="2000"/>
            </a:b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Alfredo's Dance"/>
              </a:rPr>
              <a:t>zal  voltooi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8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riam-van-nazareth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238800" y="3357720"/>
            <a:ext cx="290520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52360" cy="127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991640" y="0"/>
            <a:ext cx="1152360" cy="1279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356000" y="4797360"/>
            <a:ext cx="819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34:36Z</dcterms:created>
  <dc:creator>Nelly</dc:creator>
  <dc:description/>
  <dc:language>en-US</dc:language>
  <cp:lastModifiedBy>Nelly</cp:lastModifiedBy>
  <dcterms:modified xsi:type="dcterms:W3CDTF">2011-05-16T15:37:59Z</dcterms:modified>
  <cp:revision>2</cp:revision>
  <dc:subject/>
  <dc:title>Dia 1</dc:title>
</cp:coreProperties>
</file>