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9D3-14B1-476E-8D0B-E4FFF5C5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B34-DF59-47C4-98AF-3E397221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50F-4230-415B-A07C-DC35F899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4BC-4E99-4B58-A8B3-92E19F83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6DBA5-BD89-4A40-803F-B7935E37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9539-0A01-402E-B579-10495DA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4986E-0419-4DED-8E71-297A80A8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6F39D-D1D7-4470-834D-075E9F25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FB7E0-7AC5-4CB8-BBCF-0481F33F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ED266-6A89-4920-8BEC-A2789D79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0D617-C3B6-440E-AF24-AA5004D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B52-1900-4142-9D9C-F9D63C5E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56D30-DA50-4F37-8E2E-33CC1CDC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5D27B-0CEE-4AAD-88CE-BD68D07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9B57A-B1F8-4B79-863F-4FE4B1BC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ADB03-0D25-4A34-9C1E-4BD8B4D6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BEB4B-956A-4E2A-9881-7733F50C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679-6AAF-4895-A59E-0789713E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90E-049D-4A09-9089-51D29AD0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2FC-DFFA-47BB-8DA5-E4B15801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7E8-4EE8-45D7-9A96-2BE201B7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6FA-6AF2-4E37-9AEC-6259F09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D11-E6A5-47A9-B989-62D9FDE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253-6F2C-4922-BCAF-4F1E0C9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8C38-87AA-48CC-AA7B-1DABA2F596F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B00-3628-45B4-ABE3-0F65E17B047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yriam-van-nazareth.net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Gebed  van  Myriam  Van  Nazareth.</a:t>
            </a:r>
            <a:br>
              <a:rPr sz="2800"/>
            </a:br>
            <a:br>
              <a:rPr sz="2800"/>
            </a:br>
            <a:r>
              <a:rPr b="0" lang="nl-BE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myriam-van-nazareth.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Tahoma"/>
              </a:rPr>
              <a:t>Ochtendgebed  tot  Maria  om  Bescherm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648320" cy="6486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Lieve  Moeder  Maria,  Beschermster  van  d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kinderen  van  God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ik  leg  mijzelf  en  deze  dag  in  Uw  hande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en  smeek  om  Uw  begeleiding  op  alle  we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die  ik  vandaag  moet  ga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U  vertrouw  ik  alle  beproevingen   toe  die  deze  dag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mijn  pad  kunnen  kruis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Heers  over  mijn  hart,  mijn  geest  en  mijn  lichaam 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alle    bekorin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Wees  de  Meesteres  over  al  mijn  gevoelens,  gedach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en  verlang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486400" cy="7048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Sta  niet  toe  dat  ik  woorden  spreek  die  niet  do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U  gezegend  zij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Bestuur  mijn  handen  in  al  mijn  werkzaamhe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6096240" cy="6095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Wil  mij  beschermen  tegen  alle  bedreigingen  e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gevaren  vanuit  de  wereld,  en  wil  vandaag  mij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ziel  vrijwaren  van  alle  zonde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Mogen  Gods  engelen  mij  deze  dag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begeleiden  en  mij  lere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U  te  dienen  als  d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Meesteres  van  mij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nl-BE" sz="2400" spc="-1" strike="noStrike">
                <a:solidFill>
                  <a:srgbClr val="ffffff"/>
                </a:solidFill>
                <a:latin typeface="Tahoma"/>
              </a:rPr>
              <a:t>hele  weze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2:55:35Z</dcterms:created>
  <dc:creator>Nelly</dc:creator>
  <dc:description/>
  <dc:language>en-US</dc:language>
  <cp:lastModifiedBy>Nelly</cp:lastModifiedBy>
  <dcterms:modified xsi:type="dcterms:W3CDTF">2011-05-16T09:53:23Z</dcterms:modified>
  <cp:revision>3</cp:revision>
  <dc:subject/>
  <dc:title>Dia 1</dc:title>
</cp:coreProperties>
</file>